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439-D58E-43FC-A46A-21A25F63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9287-B76B-48B2-9BA0-201F2100BD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F77F-FC46-4FEA-B421-17818937B1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1A8-BB31-4368-BC4E-CAA1E72E92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61D08-2847-43D4-83AA-2CC38AF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9F406-77E8-4303-BF42-81BBCF01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2D4A7-8842-406C-9604-5B61A9DB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E528E-1E08-4709-9653-F0C0E5A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153EE-5C96-4C57-8F48-88A435E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54B83-2687-47F8-8221-4B14FC5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098B0-2174-48DD-9697-C96160AD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9F9FF-5DFC-4FFC-A9EF-C257522B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633E6-5E97-4928-B96B-5FEB6815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49FD6-9343-44B2-88A5-7248F8297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A6A50-050C-41B9-A172-3F9ED186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A8424-2D89-4D09-B5E9-0577082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A9B2C-A2FD-4FB4-BA0F-CBB55E11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C09CB-A940-45C3-A965-A0A9CD2E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53DF0-6EB0-4A5F-AEE8-4EDA3FB3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0C9AD-8A1D-4C43-AAD7-1A3C12B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73773F-FF39-4F46-A19A-BB1FFD9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21DDD-BA1F-400B-B278-4A160333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E103B-2BFF-45B3-98D2-48B4D377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E60EE-E5C9-47CA-B29A-CA43F65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DBC7E-F66F-463F-8F6D-D2185D1FB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07CD-2BD4-4A5B-AE87-C5450E355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8790-F1CE-4359-B89D-66C6D598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1448-6178-44B1-8DBD-743CA2D5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F2FE-A758-4F69-B4A4-C3F180B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C93C-4572-4072-97BC-6BD9E046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351C-3ABA-41A4-9D84-8929A0C2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4EB2-F5DF-4FC1-A4D5-4DAA1EE6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2FD62-BFDC-4C7A-B3C7-D396EBE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1C67-5876-48C2-A9D2-0341815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8CB0-DE2E-466E-9A67-3257923E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9891-D98C-4B01-95E1-C46C93A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F3774-73D2-4099-9969-AFBD4DEA9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9921-4580-449F-8C45-92FEECB6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F9AD-C574-4C8B-BFF0-74727C4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52436-4A40-4E4F-9471-90A8554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A8A9-98A2-4007-8A84-749668F1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9D0A-E2FF-4D33-AAB4-F0FF4BC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A717-41F6-45E6-8852-FC1052D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13F1-03BD-4BEA-8A92-4B5BDB8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7A9C-0A87-48C1-83C3-C00188C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F7A17-2168-4707-8FC0-137A49E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0641-1A57-4ACE-9A1A-FDA75A3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0CEF8-0BC5-4CEB-948B-9807B1F5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1D61-F6C7-4937-9887-A87CD651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DCA43-C2E8-4070-A9E7-BBC8FEC00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845E49-8FD7-4586-8E7F-D90DD47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89CD3-58E2-4FBF-B850-5F9C3E6E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5D196-42C7-4436-8CFC-064EAA6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63364-29CA-4BC7-8FCC-5BDE36DC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07F42-F596-4D5D-981D-6F38A9E9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9D65E8-F8EF-4984-B719-76C3DEB3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170A1-C98D-4297-9991-7B4907F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344CE-8C60-49D5-A408-2E2390C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99DFD-9EAA-4A11-A680-6B6A4551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D9419-E1BE-4152-AB6A-F83DDC7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967F3-638F-459D-AD6F-3E93E4955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29AB-E654-4154-9EFD-01B12E009F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B10E-6BE7-46A1-936E-ACB409B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E4B4-934A-4D67-8260-4EB2A94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C5F2-6471-4286-ACC3-C99D9D19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218E-2635-4FBC-9BA5-34EA53A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1C11-818D-4B12-8282-5B2F53AF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18BC-2BDB-4F82-9616-E899329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8F3E-8B33-4AC1-9633-2063CDA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4F56-670A-4E28-8555-1BC0CCD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98D7-675C-4BA1-B75F-FE2A28D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B949-052A-436D-9530-6E0DE93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177B-7D6A-427C-90FD-6580C9A75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53155-8E9E-4F5E-9DD5-C889A7F6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4669C-7279-4F19-8D26-DA62EC3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5F4F8-4288-45F2-80A8-7EB9763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4E24-E930-4876-A889-608C904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ED315-5701-458E-BC46-8755916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648F-2A6B-4BDC-A748-25ECAD4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8FB83-8F62-434B-A34C-35D5617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9BA4-2704-4AC0-A551-DC5104F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FA0D-F3F2-42DF-91D6-DED4E5A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AA143-717C-4DFE-9CB9-10DCB65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7E95-9086-4B2C-A8DF-184EEBC6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47F5F-F327-4614-89AF-91BF4C67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10B25-6A43-4A5A-9534-71B3D702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C12DC-FCE9-4F2C-B0E3-B0A80D1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69BC4-1A2E-4AE3-8C27-3B4DA64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06ABE-DBCB-4904-9C44-AFFCAB9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E57CD-5C82-4318-ADD9-A2B0C4BC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ABC2A-7659-43FC-8FCF-73F0EC27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31C2A-0F61-4094-8D8C-71CAA0D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497EE-0130-4B11-BEE2-34D94DC0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2F982-22B7-4A85-88C0-9D2E582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A79F9-399B-4EAA-AF0F-74FBF62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29505-B5A6-441A-8554-C71E2082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47CD8-7DDE-418A-83F0-AF61D791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AFB37-04EB-45F0-A732-E03362B7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FCA57-08AA-4494-A106-A459C15D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5D9F1-DF52-4099-85B8-1C47379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F2A0F-3087-4030-A2D3-B7052E74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F2A97-AB00-4947-A38A-1CA811F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A4456-4640-4CB0-9F3F-1C16801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EC3C5-9349-4CBB-9866-16FF5DA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4C89D-2721-4575-998E-636FDD4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F6426-0136-4978-B043-CDDB1CB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2A26E-1349-46F8-A88C-9FBA89F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DA466-E8CA-4C1D-B2CA-51C60894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41681-F2BE-42F9-B148-3675A995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57A6B-AD30-4B3C-AD16-5861C5CC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15665-51ED-4FC7-8B4D-0ADBE8E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A63DF-8444-4157-8A57-A187E5D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F584-7FD6-4651-BC48-5587988BBF1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A930-B8C4-4221-B852-A42753C649C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FA9-5D8F-41B4-BA73-F48BFA7AE0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ABE-A1E4-4A88-B327-70C2EAE02CF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BEB-8A97-44AA-B2BF-50E39DDCFFD7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5A7B-4A94-4C13-AEC4-8AE2326478A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D13-355C-4538-871C-FD79DE8D9D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1C8-17B3-45F3-8E83-94AE45A01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188-B795-4907-B980-7B8EE47FE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A898-B3E3-43CA-B229-B866A4FE6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D2FE-3410-4518-917D-847974EDA5F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0661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繰り返す膵炎による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仮性動脈瘤からの出血により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緊急血管塞栓術を行った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直線コネクタ 58"/>
          <p:cNvSpPr/>
          <p:nvPr/>
        </p:nvSpPr>
        <p:spPr>
          <a:xfrm>
            <a:off x="5580000" y="2000160"/>
            <a:ext cx="12600" cy="21178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91"/>
          <p:cNvSpPr/>
          <p:nvPr/>
        </p:nvSpPr>
        <p:spPr>
          <a:xfrm>
            <a:off x="2919240" y="1989000"/>
            <a:ext cx="11160" cy="2254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線コネクタ 55"/>
          <p:cNvSpPr/>
          <p:nvPr/>
        </p:nvSpPr>
        <p:spPr>
          <a:xfrm>
            <a:off x="3565440" y="1989000"/>
            <a:ext cx="55800" cy="32292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テキスト ボックス 30"/>
          <p:cNvSpPr/>
          <p:nvPr/>
        </p:nvSpPr>
        <p:spPr>
          <a:xfrm>
            <a:off x="327816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角丸四角形 28"/>
          <p:cNvSpPr/>
          <p:nvPr/>
        </p:nvSpPr>
        <p:spPr>
          <a:xfrm>
            <a:off x="2916360" y="5218200"/>
            <a:ext cx="14112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左の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膵性胸水の出現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試験穿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0ml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施行した後、自然に消失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線コネクタ 57"/>
          <p:cNvSpPr/>
          <p:nvPr/>
        </p:nvSpPr>
        <p:spPr>
          <a:xfrm>
            <a:off x="5008680" y="1995480"/>
            <a:ext cx="0" cy="716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線コネクタ 59"/>
          <p:cNvSpPr/>
          <p:nvPr/>
        </p:nvSpPr>
        <p:spPr>
          <a:xfrm flipH="1" flipV="1">
            <a:off x="5537160" y="4600080"/>
            <a:ext cx="55440" cy="24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テキスト ボックス 25"/>
          <p:cNvSpPr/>
          <p:nvPr/>
        </p:nvSpPr>
        <p:spPr>
          <a:xfrm>
            <a:off x="393912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34"/>
          <p:cNvSpPr/>
          <p:nvPr/>
        </p:nvSpPr>
        <p:spPr>
          <a:xfrm>
            <a:off x="52927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14"/>
          <p:cNvSpPr/>
          <p:nvPr/>
        </p:nvSpPr>
        <p:spPr>
          <a:xfrm>
            <a:off x="211680" y="14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歳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直線矢印コネクタ 4"/>
          <p:cNvCxnSpPr/>
          <p:nvPr/>
        </p:nvCxnSpPr>
        <p:spPr>
          <a:xfrm>
            <a:off x="28440" y="1987560"/>
            <a:ext cx="9081360" cy="180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5" name="曲折矢印 43"/>
          <p:cNvSpPr/>
          <p:nvPr/>
        </p:nvSpPr>
        <p:spPr>
          <a:xfrm flipH="1" rot="10800000">
            <a:off x="4465800" y="3804840"/>
            <a:ext cx="395280" cy="677880"/>
          </a:xfrm>
          <a:custGeom>
            <a:avLst/>
            <a:gdLst/>
            <a:ahLst/>
            <a:rect l="l" t="t" r="r" b="b"/>
            <a:pathLst>
              <a:path w="395287" h="677862">
                <a:moveTo>
                  <a:pt x="0" y="677862"/>
                </a:moveTo>
                <a:lnTo>
                  <a:pt x="0" y="222349"/>
                </a:lnTo>
                <a:cubicBezTo>
                  <a:pt x="0" y="126838"/>
                  <a:pt x="77427" y="49411"/>
                  <a:pt x="172938" y="49411"/>
                </a:cubicBezTo>
                <a:lnTo>
                  <a:pt x="296465" y="49411"/>
                </a:lnTo>
                <a:lnTo>
                  <a:pt x="296465" y="0"/>
                </a:lnTo>
                <a:lnTo>
                  <a:pt x="395287" y="98822"/>
                </a:lnTo>
                <a:lnTo>
                  <a:pt x="296465" y="197644"/>
                </a:lnTo>
                <a:lnTo>
                  <a:pt x="296465" y="148233"/>
                </a:lnTo>
                <a:lnTo>
                  <a:pt x="172938" y="148233"/>
                </a:lnTo>
                <a:cubicBezTo>
                  <a:pt x="132005" y="148233"/>
                  <a:pt x="98822" y="181416"/>
                  <a:pt x="98822" y="222349"/>
                </a:cubicBezTo>
                <a:lnTo>
                  <a:pt x="98822" y="677862"/>
                </a:lnTo>
                <a:lnTo>
                  <a:pt x="0" y="677862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3"/>
          <p:cNvSpPr/>
          <p:nvPr/>
        </p:nvSpPr>
        <p:spPr>
          <a:xfrm>
            <a:off x="6059880" y="765000"/>
            <a:ext cx="2375280" cy="64260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９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急性腹症にて発見された仮性動脈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49"/>
          <p:cNvSpPr/>
          <p:nvPr/>
        </p:nvSpPr>
        <p:spPr>
          <a:xfrm>
            <a:off x="28440" y="2095560"/>
            <a:ext cx="106524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線コネクタ 64"/>
          <p:cNvSpPr/>
          <p:nvPr/>
        </p:nvSpPr>
        <p:spPr>
          <a:xfrm flipH="1">
            <a:off x="1550520" y="1979640"/>
            <a:ext cx="3240" cy="1741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15"/>
          <p:cNvSpPr/>
          <p:nvPr/>
        </p:nvSpPr>
        <p:spPr>
          <a:xfrm>
            <a:off x="1258920" y="1693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5"/>
          <p:cNvSpPr/>
          <p:nvPr/>
        </p:nvSpPr>
        <p:spPr>
          <a:xfrm>
            <a:off x="1194840" y="1413000"/>
            <a:ext cx="7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令和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52"/>
          <p:cNvSpPr/>
          <p:nvPr/>
        </p:nvSpPr>
        <p:spPr>
          <a:xfrm>
            <a:off x="436680" y="3726000"/>
            <a:ext cx="1368360" cy="91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胃透視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胃粘膜下腫瘍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指摘さ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部消化管内視鏡検査で胃体部に壁外性圧排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検査で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体尾部の嚢胞と周囲脂肪織濃度上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認め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18"/>
          <p:cNvSpPr/>
          <p:nvPr/>
        </p:nvSpPr>
        <p:spPr>
          <a:xfrm>
            <a:off x="1836720" y="169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テキスト ボックス 26"/>
          <p:cNvSpPr/>
          <p:nvPr/>
        </p:nvSpPr>
        <p:spPr>
          <a:xfrm>
            <a:off x="2589120" y="169236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テキスト ボックス 54"/>
          <p:cNvSpPr/>
          <p:nvPr/>
        </p:nvSpPr>
        <p:spPr>
          <a:xfrm>
            <a:off x="1843200" y="2100240"/>
            <a:ext cx="1614240" cy="30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腹痛、白血球上昇を認めたため、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村上総合病院に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曲折矢印 42"/>
          <p:cNvSpPr/>
          <p:nvPr/>
        </p:nvSpPr>
        <p:spPr>
          <a:xfrm flipH="1" rot="10800000">
            <a:off x="2171880" y="3933720"/>
            <a:ext cx="288720" cy="620640"/>
          </a:xfrm>
          <a:custGeom>
            <a:avLst/>
            <a:gdLst/>
            <a:ahLst/>
            <a:rect l="l" t="t" r="r" b="b"/>
            <a:pathLst>
              <a:path w="288925" h="620713">
                <a:moveTo>
                  <a:pt x="0" y="620713"/>
                </a:moveTo>
                <a:lnTo>
                  <a:pt x="0" y="162520"/>
                </a:lnTo>
                <a:cubicBezTo>
                  <a:pt x="0" y="92708"/>
                  <a:pt x="56593" y="36115"/>
                  <a:pt x="126405" y="36115"/>
                </a:cubicBezTo>
                <a:lnTo>
                  <a:pt x="216694" y="36116"/>
                </a:lnTo>
                <a:lnTo>
                  <a:pt x="216694" y="0"/>
                </a:lnTo>
                <a:lnTo>
                  <a:pt x="288925" y="72231"/>
                </a:lnTo>
                <a:lnTo>
                  <a:pt x="216694" y="144463"/>
                </a:lnTo>
                <a:lnTo>
                  <a:pt x="216694" y="108347"/>
                </a:lnTo>
                <a:lnTo>
                  <a:pt x="126405" y="108347"/>
                </a:lnTo>
                <a:cubicBezTo>
                  <a:pt x="96486" y="108347"/>
                  <a:pt x="72232" y="132601"/>
                  <a:pt x="72232" y="162520"/>
                </a:cubicBezTo>
                <a:cubicBezTo>
                  <a:pt x="72232" y="315251"/>
                  <a:pt x="72231" y="467982"/>
                  <a:pt x="72231" y="620713"/>
                </a:cubicBezTo>
                <a:lnTo>
                  <a:pt x="0" y="62071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テキスト ボックス 58"/>
          <p:cNvSpPr/>
          <p:nvPr/>
        </p:nvSpPr>
        <p:spPr>
          <a:xfrm>
            <a:off x="2511360" y="4214880"/>
            <a:ext cx="136692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村上総合病院を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四角形: 角を丸くする 6"/>
          <p:cNvSpPr/>
          <p:nvPr/>
        </p:nvSpPr>
        <p:spPr>
          <a:xfrm>
            <a:off x="2228760" y="31669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線コネクタ 62"/>
          <p:cNvSpPr/>
          <p:nvPr/>
        </p:nvSpPr>
        <p:spPr>
          <a:xfrm>
            <a:off x="2195640" y="1989000"/>
            <a:ext cx="0" cy="123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4068720" y="1693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28"/>
          <p:cNvSpPr/>
          <p:nvPr/>
        </p:nvSpPr>
        <p:spPr>
          <a:xfrm>
            <a:off x="3708360" y="2116080"/>
            <a:ext cx="119556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腹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心窩部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出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76"/>
          <p:cNvSpPr/>
          <p:nvPr/>
        </p:nvSpPr>
        <p:spPr>
          <a:xfrm>
            <a:off x="4327560" y="1987560"/>
            <a:ext cx="0" cy="1238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グループ化 25"/>
          <p:cNvGrpSpPr/>
          <p:nvPr/>
        </p:nvGrpSpPr>
        <p:grpSpPr>
          <a:xfrm>
            <a:off x="3995640" y="2711520"/>
            <a:ext cx="2827440" cy="1119240"/>
            <a:chOff x="3995640" y="2711520"/>
            <a:chExt cx="2827440" cy="1119240"/>
          </a:xfrm>
        </p:grpSpPr>
        <p:sp>
          <p:nvSpPr>
            <p:cNvPr id="663" name="角丸四角形 28"/>
            <p:cNvSpPr/>
            <p:nvPr/>
          </p:nvSpPr>
          <p:spPr>
            <a:xfrm>
              <a:off x="3995640" y="2711520"/>
              <a:ext cx="2305080" cy="94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村上総合病院を受診し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CT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検査で、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膵嚢胞感染再発の疑いで入院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し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角丸四角形 28"/>
            <p:cNvSpPr/>
            <p:nvPr/>
          </p:nvSpPr>
          <p:spPr>
            <a:xfrm>
              <a:off x="5084640" y="3324240"/>
              <a:ext cx="1738440" cy="50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抗生剤の</a:t>
              </a:r>
              <a:r>
                <a:rPr b="1" lang="ja-JP" sz="1200" spc="-1" strike="noStrike">
                  <a:solidFill>
                    <a:srgbClr val="000000"/>
                  </a:solidFill>
                  <a:latin typeface="ＭＳ Ｐゴシック"/>
                </a:rPr>
                <a:t>治療が奏功していない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と判断された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角丸四角形 28"/>
          <p:cNvSpPr/>
          <p:nvPr/>
        </p:nvSpPr>
        <p:spPr>
          <a:xfrm>
            <a:off x="4911840" y="41180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精査加療目的に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テキスト ボックス 34"/>
          <p:cNvSpPr/>
          <p:nvPr/>
        </p:nvSpPr>
        <p:spPr>
          <a:xfrm>
            <a:off x="627048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テキスト ボックス 34"/>
          <p:cNvSpPr/>
          <p:nvPr/>
        </p:nvSpPr>
        <p:spPr>
          <a:xfrm>
            <a:off x="4797360" y="169308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角丸四角形 28"/>
          <p:cNvSpPr/>
          <p:nvPr/>
        </p:nvSpPr>
        <p:spPr>
          <a:xfrm>
            <a:off x="4440240" y="5132520"/>
            <a:ext cx="2508120" cy="11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胸腹骨盤部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検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ダイナミッ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MRCP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の結果より、左胃動脈から分枝する仮性動脈瘤の破裂と考えられ、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緊急で血管塞栓が必要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判断し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/19 Angio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施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決定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線コネクタ 89"/>
          <p:cNvSpPr/>
          <p:nvPr/>
        </p:nvSpPr>
        <p:spPr>
          <a:xfrm>
            <a:off x="6558120" y="2011320"/>
            <a:ext cx="0" cy="3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テキスト ボックス 34"/>
          <p:cNvSpPr/>
          <p:nvPr/>
        </p:nvSpPr>
        <p:spPr>
          <a:xfrm>
            <a:off x="7020000" y="169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線コネクタ 42"/>
          <p:cNvSpPr/>
          <p:nvPr/>
        </p:nvSpPr>
        <p:spPr>
          <a:xfrm>
            <a:off x="7297560" y="1987560"/>
            <a:ext cx="11160" cy="1905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角丸四角形 28"/>
          <p:cNvSpPr/>
          <p:nvPr/>
        </p:nvSpPr>
        <p:spPr>
          <a:xfrm>
            <a:off x="6386400" y="2325600"/>
            <a:ext cx="161316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仮性動脈瘤をヒストアクリルとコイルを用いて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塞栓した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 28"/>
          <p:cNvSpPr/>
          <p:nvPr/>
        </p:nvSpPr>
        <p:spPr>
          <a:xfrm>
            <a:off x="6632640" y="3898800"/>
            <a:ext cx="136692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アルコールに関して精神科を受診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下矢印 20"/>
          <p:cNvSpPr/>
          <p:nvPr/>
        </p:nvSpPr>
        <p:spPr>
          <a:xfrm>
            <a:off x="5511960" y="4700520"/>
            <a:ext cx="160200" cy="3571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テキスト ボックス 34"/>
          <p:cNvSpPr/>
          <p:nvPr/>
        </p:nvSpPr>
        <p:spPr>
          <a:xfrm>
            <a:off x="8040600" y="1688400"/>
            <a:ext cx="5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 28"/>
          <p:cNvSpPr/>
          <p:nvPr/>
        </p:nvSpPr>
        <p:spPr>
          <a:xfrm>
            <a:off x="7648560" y="4803840"/>
            <a:ext cx="136044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当院を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退院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線コネクタ 46"/>
          <p:cNvSpPr/>
          <p:nvPr/>
        </p:nvSpPr>
        <p:spPr>
          <a:xfrm flipH="1">
            <a:off x="8329320" y="2013120"/>
            <a:ext cx="3240" cy="2790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03280" y="1068480"/>
            <a:ext cx="2664000" cy="56736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4"/>
          <p:cNvSpPr/>
          <p:nvPr/>
        </p:nvSpPr>
        <p:spPr>
          <a:xfrm>
            <a:off x="5027760" y="804960"/>
            <a:ext cx="4032000" cy="528408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284080"/>
              <a:gd name="textAreaBottom" fmla="*/ 5087520 h 5284080"/>
            </a:gdLst>
            <a:ahLst/>
            <a:rect l="textAreaLeft" t="textAreaTop" r="textAreaRight" b="textAreaBottom"/>
            <a:pathLst>
              <a:path w="21600" h="28307">
                <a:moveTo>
                  <a:pt x="3600" y="0"/>
                </a:moveTo>
                <a:arcTo wR="3600" hR="3600" stAng="16200000" swAng="-5400000"/>
                <a:lnTo>
                  <a:pt x="0" y="24707"/>
                </a:lnTo>
                <a:arcTo wR="3600" hR="3600" stAng="10800000" swAng="-5400000"/>
                <a:lnTo>
                  <a:pt x="18000" y="28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T: 36.7℃, SpO2: 9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飲酒歴：缶ビー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昨年ま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喫煙歴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年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職歴：配管設備会社役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、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母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胃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祖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父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：糖尿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ルコール性膵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膵仮性嚢胞感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【アレルギー】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】カモスタットメシル酸塩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経口蛋白分解酵素阻害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T 3×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毎食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内服中止中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5"/>
          <p:cNvSpPr/>
          <p:nvPr/>
        </p:nvSpPr>
        <p:spPr>
          <a:xfrm>
            <a:off x="795240" y="900000"/>
            <a:ext cx="1727280" cy="935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角丸四角形吹き出し 11"/>
          <p:cNvSpPr/>
          <p:nvPr/>
        </p:nvSpPr>
        <p:spPr>
          <a:xfrm>
            <a:off x="119160" y="2063880"/>
            <a:ext cx="2519280" cy="102852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心電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R: 62bpm, BP: 114/72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吹き出し 27"/>
          <p:cNvSpPr/>
          <p:nvPr/>
        </p:nvSpPr>
        <p:spPr>
          <a:xfrm>
            <a:off x="1187280" y="5603760"/>
            <a:ext cx="115272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図 1" descr=""/>
          <p:cNvPicPr/>
          <p:nvPr/>
        </p:nvPicPr>
        <p:blipFill>
          <a:blip r:embed="rId1"/>
          <a:srcRect l="2421" t="9534" r="10519" b="13059"/>
          <a:stretch/>
        </p:blipFill>
        <p:spPr>
          <a:xfrm>
            <a:off x="163440" y="836640"/>
            <a:ext cx="5962680" cy="3313080"/>
          </a:xfrm>
          <a:prstGeom prst="rect">
            <a:avLst/>
          </a:prstGeom>
          <a:ln w="0">
            <a:noFill/>
          </a:ln>
        </p:spPr>
      </p:pic>
      <p:sp>
        <p:nvSpPr>
          <p:cNvPr id="688" name="角丸四角形 27"/>
          <p:cNvSpPr/>
          <p:nvPr/>
        </p:nvSpPr>
        <p:spPr>
          <a:xfrm>
            <a:off x="3144960" y="4076640"/>
            <a:ext cx="5610240" cy="19717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使用し、塞栓を行った。確認の造影で、近位側の血流の残存を認めたため、コイルを使用して中枢側の塞栓を行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病変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対し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BC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動脈瘤の塞栓を行った。確認の造影で、動脈瘤は描出されなく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塞栓後、若干の左腹部の痛みを訴えていたが、経過観察と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記録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Ⅱ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テキスト ボックス 49"/>
          <p:cNvSpPr/>
          <p:nvPr/>
        </p:nvSpPr>
        <p:spPr>
          <a:xfrm>
            <a:off x="395280" y="4400640"/>
            <a:ext cx="1873080" cy="7448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歳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ほど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アルコール性急性膵炎の既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テキスト ボックス 54"/>
          <p:cNvSpPr/>
          <p:nvPr/>
        </p:nvSpPr>
        <p:spPr>
          <a:xfrm>
            <a:off x="6168960" y="1844640"/>
            <a:ext cx="1932120" cy="542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令和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年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膵炎後の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膵仮性嚢胞感染の疑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、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入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四角形: 角を丸くする 6"/>
          <p:cNvSpPr/>
          <p:nvPr/>
        </p:nvSpPr>
        <p:spPr>
          <a:xfrm>
            <a:off x="7134120" y="2952720"/>
            <a:ext cx="158436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抗生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メロペ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g×3/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症状が改善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曲折矢印 15"/>
          <p:cNvSpPr/>
          <p:nvPr/>
        </p:nvSpPr>
        <p:spPr>
          <a:xfrm flipH="1" rot="10800000">
            <a:off x="6588000" y="2695320"/>
            <a:ext cx="395280" cy="677880"/>
          </a:xfrm>
          <a:custGeom>
            <a:avLst/>
            <a:gdLst/>
            <a:ahLst/>
            <a:rect l="l" t="t" r="r" b="b"/>
            <a:pathLst>
              <a:path w="395288" h="677863">
                <a:moveTo>
                  <a:pt x="0" y="677863"/>
                </a:moveTo>
                <a:lnTo>
                  <a:pt x="0" y="222350"/>
                </a:lnTo>
                <a:cubicBezTo>
                  <a:pt x="0" y="126838"/>
                  <a:pt x="77427" y="49411"/>
                  <a:pt x="172939" y="49411"/>
                </a:cubicBezTo>
                <a:lnTo>
                  <a:pt x="296466" y="49411"/>
                </a:lnTo>
                <a:lnTo>
                  <a:pt x="296466" y="0"/>
                </a:lnTo>
                <a:lnTo>
                  <a:pt x="395288" y="98822"/>
                </a:lnTo>
                <a:lnTo>
                  <a:pt x="296466" y="197644"/>
                </a:lnTo>
                <a:lnTo>
                  <a:pt x="296466" y="148233"/>
                </a:lnTo>
                <a:lnTo>
                  <a:pt x="172939" y="148233"/>
                </a:lnTo>
                <a:cubicBezTo>
                  <a:pt x="132005" y="148233"/>
                  <a:pt x="98822" y="181416"/>
                  <a:pt x="98822" y="222350"/>
                </a:cubicBezTo>
                <a:lnTo>
                  <a:pt x="98822" y="677863"/>
                </a:lnTo>
                <a:lnTo>
                  <a:pt x="0" y="677863"/>
                </a:ln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11:37Z</dcterms:modified>
  <cp:revision>118</cp:revision>
  <dc:subject/>
  <dc:title>肝胆膵病態学総論</dc:title>
</cp:coreProperties>
</file>