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4009-051C-4C85-97EA-E0B68E2F2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2C8D-4A50-4488-9093-43098223F6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FA4-BCBD-48D1-98AB-6326B98F26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CBE5-F8F0-45B2-8DB7-982319E308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93C61-2428-4555-8C8E-B85B2F9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5EDD2-B6D5-4A35-933B-181EC391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C5B41-AACD-4581-844C-1D0FB029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B4896-8C04-413D-BB3E-110670B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FC39B-9D18-4100-AE9D-82B82FCC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5104A-5EB1-4550-B060-0D890BE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39D09-13B9-4A22-A3B8-74CE46D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D564E-82A6-4916-97D1-4DDE3107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F3879-B59B-4678-9DE4-AC873C31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2BAAE-AD52-419E-AA3E-ED6A85769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011B6E-F368-40C3-9A80-27F2AD40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61BD2-0C47-41A6-B6AD-9332EA96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0069F9-1CED-4A7E-8480-36B6ABEF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43613B-712A-40F5-92E1-ECF7C3FE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8F3E46-A377-40A2-B4F0-2BBB441F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3949C-4528-4B44-A2F8-8D90227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24C57A-D2B2-41BC-BEA2-F134FC4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B3953D-AA41-4D6C-9F82-772AA0B8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7769D-2CEE-4BEB-86FC-CBD8AA7D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DF764-D5AA-4845-ACDC-07664AB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9AE1F4-3289-48D9-B843-7EA889734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6B6A9-C0C4-42A7-99B0-201EA774F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4011-451F-4025-96A5-8B097CBB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BA44-1B31-45F7-AC07-10A2B97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47F4-3DBF-4ED2-9972-C2FA987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025E4-F4DC-4330-B47B-D843AA4C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1615-031E-4119-A8CF-02D91A9F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B148-F8A6-473E-9606-7CF652B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C307-1B81-4241-B25A-674E914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5CF8-D16F-4344-8A78-ECC5339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418F-7B5B-452E-8731-906F05B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2935-B348-4BD9-BD8F-3B4FCF5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E0FC-AFF9-4004-BF8A-18A828BD6F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FEE9-AEF5-4009-9677-CE3A32D3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BD6F-235C-4685-B39C-09956E3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9D4BF-1B7C-497B-B6B0-E575D60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A8597-FEB6-4915-9722-4D04687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A7293-B50C-44C6-9B0E-B471C089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5BDB-7D34-4813-9958-4159A091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BAB6-6B23-4E15-96AD-E716492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77DE1-6283-4858-9CDB-9682E5E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44BC-DD11-4D88-AD8E-7B6C0F2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C0AE-FDA3-4562-9286-676E797A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9F951-AAB7-4985-8FCC-AD1A2F70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81F02-E2FB-484E-A5AC-E45FE91F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E078-22B4-4249-9D41-733CE4C3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41AF-E91B-428F-889C-08320ED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4A6E7-61A5-4CD8-8FAB-77175CB1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D055C-DB95-4DF7-A197-73462B3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E1EC5-07B8-4F5D-9997-E0A96E1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D712E-4133-4413-A923-9FEA418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5DB83-768B-4AD6-9829-7E4741E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CE221-CF4C-4559-8EF5-467C5341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A3F8-9277-4457-8E66-E71D81ED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6A9D4-8E04-4849-8DFE-40A5A7C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94E7D-B4F8-4EFF-A198-8AAFAF1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913B8-5DCB-49F7-B08C-698D4941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103111-66E7-4889-A431-D9C015E2CF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2F359-0E89-488E-852C-8455E47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660A8-ACF4-4604-B73F-07CBB18C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3C6A36-CC80-4213-AD07-7FF2D72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AD48AD-90EE-4ABD-8485-8A81E556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6AAAA-D8C6-482B-B957-F1CEDEF1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3043D-570A-498D-ABE6-BC39AD0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539138-97A6-4829-9317-F00AAFF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AF3F8-8D47-4B54-9398-46CED9B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CFFA27-A6FF-48F3-B03D-8BC5059C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B97B9B-2B98-45C0-9C9A-CF20FAA2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8E5AB-0AF1-4B5F-BEB3-4B4015D6A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B7E4-6A6B-4D5C-B652-578D3AE72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72AA-9A7B-46C7-BA4A-7D8EA6E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62BD-D7A2-4E80-81A3-FDA9D1F2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EBD6-3A0A-4E52-B4AA-653512E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E77B-D0D0-4BDD-BB83-1BB2DF37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BB1E-D5CB-4955-901A-A0F10520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867B-4A4A-4F28-A3FC-2B93737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61E4-103D-4FE5-ABB0-D2E979A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4335-C009-46C4-8C88-0C8DF963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539E-16FF-45B2-81FF-6AB74869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9FBE-EBA0-4D44-8128-D879032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0795-9CE3-4D5E-9CCC-95DB0B6A52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CBAFB-CF30-438A-8456-717197D8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FE8A-F010-497C-BFAA-2F34E840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584C-CD38-42BB-8877-A60E30A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CBC04-C726-4C0E-8277-CCFF1C1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7EAE0-C655-485E-A1DE-6DC967D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6AEDD-0973-4BC2-A9C3-3B7A126E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C748-3F7A-4BC9-85CA-B6924E67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3114E-84FC-4F86-977D-B14AD65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73D80-7BAE-41C4-B586-F2C64ECC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A5BBC-01B6-4B05-94B5-E05F8B9F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A27C3-CE2F-49B1-833D-90165D46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661FF-A871-47B5-8640-E67D4A2F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348B1-EE81-455C-B01C-9F69C7D2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B6C02-D3C1-4565-AB75-E41A9EE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9AE9E-FBC6-43C6-AFA1-DEBB76E0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89C95-67CB-42C5-9B15-16DF4CF7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D2BDA-4C5D-4853-8772-F689DB5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F07DB-4F71-4D07-90C9-733A71DE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14697-A482-460E-AF2C-5002ADA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6F457-E9A8-4CA2-87CD-E699422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95F48-E86C-404B-BFF3-0C818A4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B9549-CFBE-4828-9691-7F8ABF8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93D64-E723-423D-A530-63BCC182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A3DBA-FC79-45F8-8EFB-A5B2C68C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7BFBB-4155-4051-8170-048A67B9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0839E-1158-41A8-AEF2-EB4A26BC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1E85F-F2D2-422D-A7A0-53DE635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2566D-AC0A-4C73-A0DD-A699C5F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99056-125C-49C4-9E53-70200EB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20546-2BB0-4855-AE10-02BB0EA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32107-69D2-4855-B085-1526BD53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C3605-06F3-476D-B514-178F7ED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D8E87-4053-47B6-A764-835BC77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0A8E4-DE3E-49C4-9E7B-D70642B6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86790-833F-4E15-BB81-C74CB8E9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BC4B8-C892-4597-B9C0-ACCB656C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49104-C0CE-4DB8-B4FA-C6121D2E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53CF5-4E72-49D2-A9F2-A36A0F7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9BDDD-4563-4568-8801-8EE96A7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692D-6503-4526-A29D-80531B8FCC1D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3C15-B254-4AA9-82CD-BB5153E4BD8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6AC1-78F7-4CD9-A1B8-BCB49C4E8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8805-8C5B-4FEA-A4B8-37AD05269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4C0C-8C76-4852-B1B0-F49C76C0CA5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842-A983-41AA-AE06-7D55E2FFDB80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9CA-A74F-4F53-B64D-384EF20091F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D41-1D3B-4B68-AACC-D099CBCCAC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737-B3BC-45C6-9FB4-BE3084E32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D924-E4E5-40B3-A49C-A036BBFDB1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877-C345-47AE-AF7A-3D1F61E44A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A2BC-0887-4F8E-9579-9192A69456D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1631880" y="2120760"/>
            <a:ext cx="587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ニボルマ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イピリムマブ併用療法によっ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肝障害を生じた一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直線コネクタ 16"/>
          <p:cNvSpPr/>
          <p:nvPr/>
        </p:nvSpPr>
        <p:spPr>
          <a:xfrm>
            <a:off x="6022800" y="3668760"/>
            <a:ext cx="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角丸四角形 78"/>
          <p:cNvSpPr/>
          <p:nvPr/>
        </p:nvSpPr>
        <p:spPr>
          <a:xfrm>
            <a:off x="438120" y="2305080"/>
            <a:ext cx="5357880" cy="38606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角丸四角形 81"/>
          <p:cNvSpPr/>
          <p:nvPr/>
        </p:nvSpPr>
        <p:spPr>
          <a:xfrm>
            <a:off x="6046920" y="3844800"/>
            <a:ext cx="2869920" cy="2320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肝機能悪化の原因と考えられる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Nivo+Ipi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中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線コネクタ 25"/>
          <p:cNvSpPr/>
          <p:nvPr/>
        </p:nvSpPr>
        <p:spPr>
          <a:xfrm>
            <a:off x="4735440" y="2138400"/>
            <a:ext cx="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15"/>
          <p:cNvSpPr/>
          <p:nvPr/>
        </p:nvSpPr>
        <p:spPr>
          <a:xfrm>
            <a:off x="3884760" y="2138400"/>
            <a:ext cx="0" cy="227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55"/>
          <p:cNvSpPr/>
          <p:nvPr/>
        </p:nvSpPr>
        <p:spPr>
          <a:xfrm>
            <a:off x="6012000" y="2139840"/>
            <a:ext cx="0" cy="67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線コネクタ 61"/>
          <p:cNvSpPr/>
          <p:nvPr/>
        </p:nvSpPr>
        <p:spPr>
          <a:xfrm>
            <a:off x="7851600" y="2138400"/>
            <a:ext cx="0" cy="220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線コネクタ 48"/>
          <p:cNvSpPr/>
          <p:nvPr/>
        </p:nvSpPr>
        <p:spPr>
          <a:xfrm>
            <a:off x="3419640" y="2138400"/>
            <a:ext cx="0" cy="14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ＭＳ Ｐゴシック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グループ化 37"/>
          <p:cNvGrpSpPr/>
          <p:nvPr/>
        </p:nvGrpSpPr>
        <p:grpSpPr>
          <a:xfrm>
            <a:off x="23760" y="1000080"/>
            <a:ext cx="8911080" cy="5021280"/>
            <a:chOff x="23760" y="1000080"/>
            <a:chExt cx="8911080" cy="5021280"/>
          </a:xfrm>
        </p:grpSpPr>
        <p:grpSp>
          <p:nvGrpSpPr>
            <p:cNvPr id="693" name="グループ化 29"/>
            <p:cNvGrpSpPr/>
            <p:nvPr/>
          </p:nvGrpSpPr>
          <p:grpSpPr>
            <a:xfrm>
              <a:off x="23760" y="1000080"/>
              <a:ext cx="8911080" cy="5021280"/>
              <a:chOff x="23760" y="1000080"/>
              <a:chExt cx="8911080" cy="5021280"/>
            </a:xfrm>
          </p:grpSpPr>
          <p:sp>
            <p:nvSpPr>
              <p:cNvPr id="694" name="角丸四角形 27"/>
              <p:cNvSpPr/>
              <p:nvPr/>
            </p:nvSpPr>
            <p:spPr>
              <a:xfrm>
                <a:off x="3255840" y="4424400"/>
                <a:ext cx="1633320" cy="722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2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角丸四角形 28"/>
              <p:cNvSpPr/>
              <p:nvPr/>
            </p:nvSpPr>
            <p:spPr>
              <a:xfrm>
                <a:off x="6843960" y="4289400"/>
                <a:ext cx="201600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PSL 60mg/d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（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1.0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ｍｇ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/</a:t>
                </a: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ｋｇ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3300"/>
                    </a:solidFill>
                    <a:latin typeface="ＭＳ Ｐゴシック"/>
                  </a:rPr>
                  <a:t>から治療開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角丸四角形 24"/>
              <p:cNvSpPr/>
              <p:nvPr/>
            </p:nvSpPr>
            <p:spPr>
              <a:xfrm>
                <a:off x="5189400" y="2811240"/>
                <a:ext cx="173664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S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722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ALT: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526</a:t>
                </a:r>
                <a:r>
                  <a:rPr b="1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　</a:t>
                </a:r>
                <a:r>
                  <a:rPr b="1" lang="en-US" sz="1400" spc="-1" strike="noStrike">
                    <a:solidFill>
                      <a:srgbClr val="003300"/>
                    </a:solidFill>
                    <a:latin typeface="ＭＳ Ｐゴシック"/>
                  </a:rPr>
                  <a:t>Grade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肝機能悪化のた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3300"/>
                    </a:solidFill>
                    <a:latin typeface="ＭＳ Ｐゴシック"/>
                  </a:rPr>
                  <a:t>消化器内科コンサル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テキスト ボックス 30"/>
              <p:cNvSpPr/>
              <p:nvPr/>
            </p:nvSpPr>
            <p:spPr>
              <a:xfrm>
                <a:off x="5692680" y="1839600"/>
                <a:ext cx="5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ＭＳ Ｐゴシック"/>
                  </a:rPr>
                  <a:t>4/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3"/>
              <p:cNvSpPr/>
              <p:nvPr/>
            </p:nvSpPr>
            <p:spPr>
              <a:xfrm>
                <a:off x="3978360" y="5280120"/>
                <a:ext cx="1598400" cy="741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3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17"/>
              <p:cNvSpPr/>
              <p:nvPr/>
            </p:nvSpPr>
            <p:spPr>
              <a:xfrm>
                <a:off x="2574720" y="3608280"/>
                <a:ext cx="1560240" cy="7347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Nivo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＋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Ip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ＭＳ Ｐゴシック"/>
                  </a:rPr>
                  <a:t>1</a:t>
                </a:r>
                <a:r>
                  <a:rPr b="1" lang="ja-JP" sz="1400" spc="-1" strike="noStrike">
                    <a:solidFill>
                      <a:srgbClr val="ffffff"/>
                    </a:solidFill>
                    <a:latin typeface="ＭＳ Ｐゴシック"/>
                  </a:rPr>
                  <a:t>コース目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テキスト ボックス 6"/>
              <p:cNvSpPr/>
              <p:nvPr/>
            </p:nvSpPr>
            <p:spPr>
              <a:xfrm>
                <a:off x="23760" y="1000080"/>
                <a:ext cx="4711680" cy="5202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7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月　右鼻腔悪性黒色腫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T3N0M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）に対し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手術＋術後放射線療法＋術後化学療法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Nivo 1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間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)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施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角丸四角形 13"/>
              <p:cNvSpPr/>
              <p:nvPr/>
            </p:nvSpPr>
            <p:spPr>
              <a:xfrm>
                <a:off x="1238040" y="3009960"/>
                <a:ext cx="1436400" cy="598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右大腿部に対して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療法施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５１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Gy/17Fr</a:t>
                </a:r>
                <a:r>
                  <a:rPr b="1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テキスト ボックス 14"/>
              <p:cNvSpPr/>
              <p:nvPr/>
            </p:nvSpPr>
            <p:spPr>
              <a:xfrm>
                <a:off x="1375920" y="1612800"/>
                <a:ext cx="77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XX+3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テキスト ボックス 15"/>
              <p:cNvSpPr/>
              <p:nvPr/>
            </p:nvSpPr>
            <p:spPr>
              <a:xfrm>
                <a:off x="1782720" y="1830240"/>
                <a:ext cx="99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/6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(~29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テキスト ボックス 16"/>
              <p:cNvSpPr/>
              <p:nvPr/>
            </p:nvSpPr>
            <p:spPr>
              <a:xfrm>
                <a:off x="3122640" y="18396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テキスト ボックス 18"/>
              <p:cNvSpPr/>
              <p:nvPr/>
            </p:nvSpPr>
            <p:spPr>
              <a:xfrm>
                <a:off x="3581280" y="1838160"/>
                <a:ext cx="60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ff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/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テキスト ボックス 26"/>
              <p:cNvSpPr/>
              <p:nvPr/>
            </p:nvSpPr>
            <p:spPr>
              <a:xfrm>
                <a:off x="4549680" y="184752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4/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角丸四角形 9"/>
              <p:cNvSpPr/>
              <p:nvPr/>
            </p:nvSpPr>
            <p:spPr>
              <a:xfrm>
                <a:off x="176040" y="2357280"/>
                <a:ext cx="1812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右大腿部多発転移再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200" spc="-1" strike="noStrike">
                    <a:solidFill>
                      <a:srgbClr val="000000"/>
                    </a:solidFill>
                    <a:latin typeface="ＭＳ Ｐゴシック"/>
                  </a:rPr>
                  <a:t>指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8" name="直線矢印コネクタ 4"/>
              <p:cNvCxnSpPr/>
              <p:nvPr/>
            </p:nvCxnSpPr>
            <p:spPr>
              <a:xfrm>
                <a:off x="437760" y="2118960"/>
                <a:ext cx="849744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709" name="曲折矢印 36"/>
            <p:cNvSpPr/>
            <p:nvPr/>
          </p:nvSpPr>
          <p:spPr>
            <a:xfrm flipH="1" rot="10800000">
              <a:off x="2246040" y="3689280"/>
              <a:ext cx="282240" cy="387360"/>
            </a:xfrm>
            <a:custGeom>
              <a:avLst/>
              <a:gdLst/>
              <a:ahLst/>
              <a:rect l="l" t="t" r="r" b="b"/>
              <a:pathLst>
                <a:path w="282603" h="387508">
                  <a:moveTo>
                    <a:pt x="0" y="387508"/>
                  </a:moveTo>
                  <a:lnTo>
                    <a:pt x="0" y="158964"/>
                  </a:lnTo>
                  <a:cubicBezTo>
                    <a:pt x="0" y="90680"/>
                    <a:pt x="55355" y="35325"/>
                    <a:pt x="123639" y="35325"/>
                  </a:cubicBezTo>
                  <a:lnTo>
                    <a:pt x="211952" y="35325"/>
                  </a:lnTo>
                  <a:lnTo>
                    <a:pt x="211952" y="0"/>
                  </a:lnTo>
                  <a:lnTo>
                    <a:pt x="282603" y="70651"/>
                  </a:lnTo>
                  <a:lnTo>
                    <a:pt x="211952" y="141302"/>
                  </a:lnTo>
                  <a:lnTo>
                    <a:pt x="211952" y="105976"/>
                  </a:lnTo>
                  <a:lnTo>
                    <a:pt x="123639" y="105976"/>
                  </a:lnTo>
                  <a:cubicBezTo>
                    <a:pt x="94375" y="105976"/>
                    <a:pt x="70651" y="129700"/>
                    <a:pt x="70651" y="158964"/>
                  </a:cubicBezTo>
                  <a:lnTo>
                    <a:pt x="70651" y="387508"/>
                  </a:lnTo>
                  <a:lnTo>
                    <a:pt x="0" y="387508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曲折矢印 38"/>
            <p:cNvSpPr/>
            <p:nvPr/>
          </p:nvSpPr>
          <p:spPr>
            <a:xfrm flipH="1" rot="10800000">
              <a:off x="2860560" y="4441320"/>
              <a:ext cx="318960" cy="371160"/>
            </a:xfrm>
            <a:custGeom>
              <a:avLst/>
              <a:gdLst/>
              <a:ahLst/>
              <a:rect l="l" t="t" r="r" b="b"/>
              <a:pathLst>
                <a:path w="319120" h="371627">
                  <a:moveTo>
                    <a:pt x="0" y="371627"/>
                  </a:moveTo>
                  <a:lnTo>
                    <a:pt x="0" y="183606"/>
                  </a:lnTo>
                  <a:cubicBezTo>
                    <a:pt x="0" y="106499"/>
                    <a:pt x="62508" y="43991"/>
                    <a:pt x="139615" y="43991"/>
                  </a:cubicBezTo>
                  <a:lnTo>
                    <a:pt x="239340" y="43991"/>
                  </a:lnTo>
                  <a:lnTo>
                    <a:pt x="239340" y="0"/>
                  </a:lnTo>
                  <a:lnTo>
                    <a:pt x="319120" y="79780"/>
                  </a:lnTo>
                  <a:lnTo>
                    <a:pt x="239340" y="159560"/>
                  </a:lnTo>
                  <a:lnTo>
                    <a:pt x="239340" y="115569"/>
                  </a:lnTo>
                  <a:lnTo>
                    <a:pt x="139615" y="115569"/>
                  </a:lnTo>
                  <a:cubicBezTo>
                    <a:pt x="102040" y="115569"/>
                    <a:pt x="71579" y="146030"/>
                    <a:pt x="71579" y="183605"/>
                  </a:cubicBezTo>
                  <a:lnTo>
                    <a:pt x="71579" y="371627"/>
                  </a:lnTo>
                  <a:lnTo>
                    <a:pt x="0" y="371627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曲折矢印 40"/>
            <p:cNvSpPr/>
            <p:nvPr/>
          </p:nvSpPr>
          <p:spPr>
            <a:xfrm flipH="1" rot="10800000">
              <a:off x="3558960" y="5311440"/>
              <a:ext cx="325440" cy="384120"/>
            </a:xfrm>
            <a:custGeom>
              <a:avLst/>
              <a:gdLst/>
              <a:ahLst/>
              <a:rect l="l" t="t" r="r" b="b"/>
              <a:pathLst>
                <a:path w="325471" h="384332">
                  <a:moveTo>
                    <a:pt x="0" y="384332"/>
                  </a:moveTo>
                  <a:lnTo>
                    <a:pt x="0" y="183077"/>
                  </a:lnTo>
                  <a:cubicBezTo>
                    <a:pt x="0" y="104435"/>
                    <a:pt x="63752" y="40683"/>
                    <a:pt x="142394" y="40683"/>
                  </a:cubicBezTo>
                  <a:lnTo>
                    <a:pt x="254460" y="40684"/>
                  </a:lnTo>
                  <a:lnTo>
                    <a:pt x="254460" y="0"/>
                  </a:lnTo>
                  <a:lnTo>
                    <a:pt x="325471" y="81368"/>
                  </a:lnTo>
                  <a:lnTo>
                    <a:pt x="254460" y="162736"/>
                  </a:lnTo>
                  <a:lnTo>
                    <a:pt x="254460" y="122052"/>
                  </a:lnTo>
                  <a:lnTo>
                    <a:pt x="142394" y="122052"/>
                  </a:lnTo>
                  <a:cubicBezTo>
                    <a:pt x="108690" y="122052"/>
                    <a:pt x="81368" y="149374"/>
                    <a:pt x="81368" y="183078"/>
                  </a:cubicBezTo>
                  <a:lnTo>
                    <a:pt x="81368" y="384332"/>
                  </a:lnTo>
                  <a:lnTo>
                    <a:pt x="0" y="384332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直線コネクタ 45"/>
          <p:cNvSpPr/>
          <p:nvPr/>
        </p:nvSpPr>
        <p:spPr>
          <a:xfrm>
            <a:off x="1116000" y="2146320"/>
            <a:ext cx="0" cy="2109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線コネクタ 46"/>
          <p:cNvSpPr/>
          <p:nvPr/>
        </p:nvSpPr>
        <p:spPr>
          <a:xfrm>
            <a:off x="2165400" y="2138400"/>
            <a:ext cx="6480" cy="871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テキスト ボックス 73"/>
          <p:cNvSpPr/>
          <p:nvPr/>
        </p:nvSpPr>
        <p:spPr>
          <a:xfrm>
            <a:off x="7575480" y="182412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テキスト ボックス 3"/>
          <p:cNvSpPr/>
          <p:nvPr/>
        </p:nvSpPr>
        <p:spPr>
          <a:xfrm>
            <a:off x="5853600" y="992160"/>
            <a:ext cx="2253240" cy="5806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66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歳　女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悪性黒色腫の右大腿転移再発で加療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56"/>
          <p:cNvSpPr/>
          <p:nvPr/>
        </p:nvSpPr>
        <p:spPr>
          <a:xfrm>
            <a:off x="249120" y="162576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XX+2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79"/>
          <p:cNvSpPr/>
          <p:nvPr/>
        </p:nvSpPr>
        <p:spPr>
          <a:xfrm>
            <a:off x="971640" y="444168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80"/>
          <p:cNvSpPr/>
          <p:nvPr/>
        </p:nvSpPr>
        <p:spPr>
          <a:xfrm>
            <a:off x="855720" y="4611600"/>
            <a:ext cx="20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耳鼻咽喉科に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転移再発に対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加療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右矢印 82"/>
          <p:cNvSpPr/>
          <p:nvPr/>
        </p:nvSpPr>
        <p:spPr>
          <a:xfrm>
            <a:off x="5730840" y="5338800"/>
            <a:ext cx="405000" cy="3906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テキスト ボックス 31"/>
          <p:cNvSpPr/>
          <p:nvPr/>
        </p:nvSpPr>
        <p:spPr>
          <a:xfrm>
            <a:off x="4108320" y="1838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ＭＳ Ｐゴシック"/>
              </a:rPr>
              <a:t>4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線コネクタ 5"/>
          <p:cNvSpPr/>
          <p:nvPr/>
        </p:nvSpPr>
        <p:spPr>
          <a:xfrm>
            <a:off x="4338720" y="2146320"/>
            <a:ext cx="0" cy="7272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角丸四角形 6"/>
          <p:cNvSpPr/>
          <p:nvPr/>
        </p:nvSpPr>
        <p:spPr>
          <a:xfrm>
            <a:off x="3479760" y="2814480"/>
            <a:ext cx="1457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3</a:t>
            </a:r>
            <a:r>
              <a:rPr b="1" lang="ja-JP" sz="1200" spc="-1" strike="noStrike">
                <a:solidFill>
                  <a:srgbClr val="ffc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1200" spc="-1" strike="noStrike">
                <a:solidFill>
                  <a:srgbClr val="ffc000"/>
                </a:solidFill>
                <a:latin typeface="ＭＳ Ｐゴシック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Grad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ＭＳ Ｐゴシック"/>
              </a:rPr>
              <a:t>肝障害出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矢印 10"/>
          <p:cNvSpPr/>
          <p:nvPr/>
        </p:nvSpPr>
        <p:spPr>
          <a:xfrm>
            <a:off x="4944960" y="3060720"/>
            <a:ext cx="330480" cy="230040"/>
          </a:xfrm>
          <a:prstGeom prst="rightArrow">
            <a:avLst>
              <a:gd name="adj1" fmla="val 50000"/>
              <a:gd name="adj2" fmla="val 50075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角丸四角形 18"/>
          <p:cNvSpPr/>
          <p:nvPr/>
        </p:nvSpPr>
        <p:spPr>
          <a:xfrm>
            <a:off x="5116680" y="400356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に対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ウルソデオキシコール酸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テキスト ボックス 16"/>
          <p:cNvSpPr/>
          <p:nvPr/>
        </p:nvSpPr>
        <p:spPr>
          <a:xfrm>
            <a:off x="830160" y="1838160"/>
            <a:ext cx="6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1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20920" y="1054080"/>
            <a:ext cx="2663640" cy="56736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テキスト ボックス 4"/>
          <p:cNvSpPr/>
          <p:nvPr/>
        </p:nvSpPr>
        <p:spPr>
          <a:xfrm>
            <a:off x="4900680" y="847800"/>
            <a:ext cx="4164120" cy="5611680"/>
          </a:xfrm>
          <a:custGeom>
            <a:avLst/>
            <a:gdLst>
              <a:gd name="textAreaLeft" fmla="*/ 203040 w 4164120"/>
              <a:gd name="textAreaRight" fmla="*/ 3961080 w 4164120"/>
              <a:gd name="textAreaTop" fmla="*/ 203040 h 5611680"/>
              <a:gd name="textAreaBottom" fmla="*/ 5408640 h 5611680"/>
            </a:gdLst>
            <a:ahLst/>
            <a:rect l="textAreaLeft" t="textAreaTop" r="textAreaRight" b="textAreaBottom"/>
            <a:pathLst>
              <a:path w="21600" h="29108">
                <a:moveTo>
                  <a:pt x="3600" y="0"/>
                </a:moveTo>
                <a:arcTo wR="3600" hR="3600" stAng="16200000" swAng="-5400000"/>
                <a:lnTo>
                  <a:pt x="0" y="25508"/>
                </a:lnTo>
                <a:arcTo wR="3600" hR="3600" stAng="10800000" swAng="-5400000"/>
                <a:lnTo>
                  <a:pt x="18000" y="291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162.4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55.8k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MI:2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BT: 36.3 ℃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pO2: 98%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検査所見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2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722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5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LD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65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75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γ-GT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26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U/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T-bil 0.4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-bil 0.1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T-% 94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PTT 29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秒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lb 2.3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WBC 7600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Plt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11.2</a:t>
            </a:r>
            <a:r>
              <a:rPr b="1" lang="ja-JP" sz="1200" spc="-1" strike="noStrike">
                <a:solidFill>
                  <a:srgbClr val="0070c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μl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ＭＳ Ｐゴシック"/>
              </a:rPr>
              <a:t>RBC</a:t>
            </a:r>
            <a:r>
              <a:rPr b="1" lang="ja-JP" sz="1200" spc="-1" strike="noStrike">
                <a:solidFill>
                  <a:srgbClr val="0033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0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万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μ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 12.5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t 35.9%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CRP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3.28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 </a:t>
            </a:r>
            <a:r>
              <a:rPr b="1" lang="en-US" sz="1200" spc="-1" strike="noStrike">
                <a:solidFill>
                  <a:srgbClr val="0070c0"/>
                </a:solidFill>
                <a:latin typeface="ＭＳ Ｐゴシック"/>
              </a:rPr>
              <a:t>771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G4 27.4mg/dl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gM 146mg/dl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s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原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B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V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核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、抗ミトコンドリア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M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抗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、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事項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脳動脈瘤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0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コイル塞栓）、脂質異常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食物：エビ、カニ、ピーナッツ、チョコレ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薬剤：造影剤で蕁麻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アセトアミノフェン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00mg 4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1~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m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5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 3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2~5/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レボチロキシンナトリウム水和物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μg 1T/day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4/20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フルチカゾンフランカルボン酸エステル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回点鼻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/day (2021/1~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*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肝障害出現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4/14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以前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日以内で新規開始薬剤は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角丸四角形吹き出し 5"/>
          <p:cNvSpPr/>
          <p:nvPr/>
        </p:nvSpPr>
        <p:spPr>
          <a:xfrm>
            <a:off x="682560" y="885960"/>
            <a:ext cx="1727280" cy="93492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瞼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貧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眼球結膜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染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角丸四角形吹き出し 11"/>
          <p:cNvSpPr/>
          <p:nvPr/>
        </p:nvSpPr>
        <p:spPr>
          <a:xfrm>
            <a:off x="88920" y="2230560"/>
            <a:ext cx="2463840" cy="871560"/>
          </a:xfrm>
          <a:prstGeom prst="wedgeRoundRectCallout">
            <a:avLst>
              <a:gd name="adj1" fmla="val 61861"/>
              <a:gd name="adj2" fmla="val 1402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R: 56bpm, BP: 109/64mm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: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角丸四角形吹き出し 12"/>
          <p:cNvSpPr/>
          <p:nvPr/>
        </p:nvSpPr>
        <p:spPr>
          <a:xfrm>
            <a:off x="3218040" y="2290680"/>
            <a:ext cx="1655640" cy="1971720"/>
          </a:xfrm>
          <a:prstGeom prst="wedgeRoundRectCallout">
            <a:avLst>
              <a:gd name="adj1" fmla="val -75916"/>
              <a:gd name="adj2" fmla="val 2008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角丸四角形吹き出し 27"/>
          <p:cNvSpPr/>
          <p:nvPr/>
        </p:nvSpPr>
        <p:spPr>
          <a:xfrm>
            <a:off x="208080" y="5076720"/>
            <a:ext cx="1877760" cy="728640"/>
          </a:xfrm>
          <a:prstGeom prst="wedgeRoundRectCallout">
            <a:avLst>
              <a:gd name="adj1" fmla="val 72236"/>
              <a:gd name="adj2" fmla="val -691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右大腿部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ＭＳ Ｐゴシック"/>
              </a:rPr>
              <a:t>再発腫瘤を触知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角丸四角形吹き出し 16"/>
          <p:cNvSpPr/>
          <p:nvPr/>
        </p:nvSpPr>
        <p:spPr>
          <a:xfrm>
            <a:off x="174600" y="3755880"/>
            <a:ext cx="1944720" cy="777960"/>
          </a:xfrm>
          <a:prstGeom prst="wedgeRoundRectCallout">
            <a:avLst>
              <a:gd name="adj1" fmla="val 70925"/>
              <a:gd name="adj2" fmla="val -6991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角丸四角形吹き出し 17"/>
          <p:cNvSpPr/>
          <p:nvPr/>
        </p:nvSpPr>
        <p:spPr>
          <a:xfrm>
            <a:off x="3635280" y="4595760"/>
            <a:ext cx="115272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手掌紅斑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角丸四角形吹き出し 17"/>
          <p:cNvSpPr/>
          <p:nvPr/>
        </p:nvSpPr>
        <p:spPr>
          <a:xfrm>
            <a:off x="3303720" y="1274760"/>
            <a:ext cx="1584360" cy="620640"/>
          </a:xfrm>
          <a:prstGeom prst="wedgeRoundRectCallout">
            <a:avLst>
              <a:gd name="adj1" fmla="val -79013"/>
              <a:gd name="adj2" fmla="val 5509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甲状腺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腫大・圧痛な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可動性良好・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グラフ 7"/>
          <p:cNvGraphicFramePr/>
          <p:nvPr/>
        </p:nvGraphicFramePr>
        <p:xfrm>
          <a:off x="-52560" y="3894120"/>
          <a:ext cx="757728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グラフ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2560" y="3894120"/>
                    <a:ext cx="75772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角丸四角形 17"/>
          <p:cNvSpPr/>
          <p:nvPr/>
        </p:nvSpPr>
        <p:spPr>
          <a:xfrm>
            <a:off x="6732720" y="3813120"/>
            <a:ext cx="2298600" cy="248148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481480"/>
              <a:gd name="textAreaBottom" fmla="*/ 2369520 h 2481480"/>
            </a:gdLst>
            <a:ahLst/>
            <a:rect l="textAreaLeft" t="textAreaTop" r="textAreaRight" b="textAreaBottom"/>
            <a:pathLst>
              <a:path w="21600" h="23318">
                <a:moveTo>
                  <a:pt x="3600" y="0"/>
                </a:moveTo>
                <a:arcTo wR="3600" hR="3600" stAng="16200000" swAng="-5400000"/>
                <a:lnTo>
                  <a:pt x="0" y="19718"/>
                </a:lnTo>
                <a:arcTo wR="3600" hR="3600" stAng="10800000" swAng="-5400000"/>
                <a:lnTo>
                  <a:pt x="18000" y="23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eef4"/>
          </a:soli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コンサルト時点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)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ST720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ALT526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、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T-bil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CTCAE Grade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⇒</a:t>
            </a:r>
            <a:r>
              <a:rPr b="1" lang="ja-JP" sz="1100" spc="-1" strike="noStrike">
                <a:solidFill>
                  <a:srgbClr val="003300"/>
                </a:solidFill>
                <a:latin typeface="Calibri"/>
              </a:rPr>
              <a:t>ウルソデオキシコール酸投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週明けの第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病日より</a:t>
            </a: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PSL60mg/day(1.0mg/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投与開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30mg/day</a:t>
            </a: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まで減量行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3300"/>
                </a:solidFill>
                <a:latin typeface="Calibri"/>
              </a:rPr>
              <a:t>退院予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テキスト ボックス 10"/>
          <p:cNvSpPr/>
          <p:nvPr/>
        </p:nvSpPr>
        <p:spPr>
          <a:xfrm>
            <a:off x="0" y="6048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免疫関連肝障害の診断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テキスト ボックス 45"/>
          <p:cNvSpPr/>
          <p:nvPr/>
        </p:nvSpPr>
        <p:spPr>
          <a:xfrm>
            <a:off x="1941480" y="6068880"/>
            <a:ext cx="47833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SL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投与開始後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S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及び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速やかに低下し、正常値に戻っ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診断と治療方針　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19"/>
          <p:cNvSpPr/>
          <p:nvPr/>
        </p:nvSpPr>
        <p:spPr>
          <a:xfrm>
            <a:off x="112680" y="362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～治療経過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 21"/>
          <p:cNvSpPr/>
          <p:nvPr/>
        </p:nvSpPr>
        <p:spPr>
          <a:xfrm>
            <a:off x="1679400" y="955800"/>
            <a:ext cx="2808360" cy="67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機能検査値異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炎関連症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（黄疸、倦怠感、浮腫、悪心な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円/楕円 22"/>
          <p:cNvSpPr/>
          <p:nvPr/>
        </p:nvSpPr>
        <p:spPr>
          <a:xfrm>
            <a:off x="103320" y="993600"/>
            <a:ext cx="1476360" cy="51444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一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円/楕円 26"/>
          <p:cNvSpPr/>
          <p:nvPr/>
        </p:nvSpPr>
        <p:spPr>
          <a:xfrm>
            <a:off x="104760" y="1766880"/>
            <a:ext cx="1474920" cy="50472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二次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 28"/>
          <p:cNvSpPr/>
          <p:nvPr/>
        </p:nvSpPr>
        <p:spPr>
          <a:xfrm>
            <a:off x="1679400" y="172404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他の肝疾患との鑑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ウイルス性肝炎、肝転移、薬物性肝障害など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肝予備能の評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 29"/>
          <p:cNvSpPr/>
          <p:nvPr/>
        </p:nvSpPr>
        <p:spPr>
          <a:xfrm>
            <a:off x="1690560" y="2727360"/>
            <a:ext cx="27972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画像診断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腹部エコー、腹部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など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病理組織学的検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生検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下矢印 31"/>
          <p:cNvSpPr/>
          <p:nvPr/>
        </p:nvSpPr>
        <p:spPr>
          <a:xfrm>
            <a:off x="2990880" y="2516040"/>
            <a:ext cx="216000" cy="201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右矢印 1"/>
          <p:cNvSpPr/>
          <p:nvPr/>
        </p:nvSpPr>
        <p:spPr>
          <a:xfrm>
            <a:off x="4576680" y="113040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矢印 23"/>
          <p:cNvSpPr/>
          <p:nvPr/>
        </p:nvSpPr>
        <p:spPr>
          <a:xfrm>
            <a:off x="4572000" y="1981080"/>
            <a:ext cx="503280" cy="3114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右矢印 24"/>
          <p:cNvSpPr/>
          <p:nvPr/>
        </p:nvSpPr>
        <p:spPr>
          <a:xfrm>
            <a:off x="4572000" y="2816280"/>
            <a:ext cx="503280" cy="309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角丸四角形 2"/>
          <p:cNvSpPr/>
          <p:nvPr/>
        </p:nvSpPr>
        <p:spPr>
          <a:xfrm>
            <a:off x="5292720" y="987480"/>
            <a:ext cx="31669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de4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肝障害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ST,A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黄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倦怠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浮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悪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、発熱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角丸四角形 25"/>
          <p:cNvSpPr/>
          <p:nvPr/>
        </p:nvSpPr>
        <p:spPr>
          <a:xfrm>
            <a:off x="5292720" y="1668600"/>
            <a:ext cx="31669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原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Bc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CV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RP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3.2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BC 7600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T% 94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 B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lb 3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、計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核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、抗ミトコンドリア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2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抗体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明らかな肝転移、被疑薬剤は指摘できなかっ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角丸四角形 27"/>
          <p:cNvSpPr/>
          <p:nvPr/>
        </p:nvSpPr>
        <p:spPr>
          <a:xfrm>
            <a:off x="5292720" y="2778120"/>
            <a:ext cx="3166920" cy="46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障害を来す明らかな器質的異常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肝生検は未施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テキスト ボックス 3"/>
          <p:cNvSpPr/>
          <p:nvPr/>
        </p:nvSpPr>
        <p:spPr>
          <a:xfrm>
            <a:off x="5527800" y="33638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診断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A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肝障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de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曲折矢印 5"/>
          <p:cNvSpPr/>
          <p:nvPr/>
        </p:nvSpPr>
        <p:spPr>
          <a:xfrm flipV="1">
            <a:off x="6094440" y="3790080"/>
            <a:ext cx="638280" cy="419400"/>
          </a:xfrm>
          <a:custGeom>
            <a:avLst/>
            <a:gdLst/>
            <a:ahLst/>
            <a:rect l="l" t="t" r="r" b="b"/>
            <a:pathLst>
              <a:path w="638175" h="419100">
                <a:moveTo>
                  <a:pt x="0" y="419100"/>
                </a:moveTo>
                <a:lnTo>
                  <a:pt x="0" y="240364"/>
                </a:lnTo>
                <a:cubicBezTo>
                  <a:pt x="0" y="139099"/>
                  <a:pt x="82091" y="57008"/>
                  <a:pt x="183356" y="57008"/>
                </a:cubicBezTo>
                <a:lnTo>
                  <a:pt x="533400" y="57008"/>
                </a:lnTo>
                <a:lnTo>
                  <a:pt x="533400" y="0"/>
                </a:lnTo>
                <a:lnTo>
                  <a:pt x="638175" y="118635"/>
                </a:lnTo>
                <a:lnTo>
                  <a:pt x="533400" y="237269"/>
                </a:lnTo>
                <a:lnTo>
                  <a:pt x="533400" y="180261"/>
                </a:lnTo>
                <a:lnTo>
                  <a:pt x="183356" y="180261"/>
                </a:lnTo>
                <a:cubicBezTo>
                  <a:pt x="150162" y="180261"/>
                  <a:pt x="123253" y="207170"/>
                  <a:pt x="123253" y="240364"/>
                </a:cubicBezTo>
                <a:lnTo>
                  <a:pt x="123253" y="419100"/>
                </a:lnTo>
                <a:lnTo>
                  <a:pt x="0" y="4191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b7de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図 8" descr=""/>
          <p:cNvPicPr/>
          <p:nvPr/>
        </p:nvPicPr>
        <p:blipFill>
          <a:blip r:embed="rId3"/>
          <a:srcRect l="31654" t="21645" r="32087" b="10235"/>
          <a:stretch/>
        </p:blipFill>
        <p:spPr>
          <a:xfrm>
            <a:off x="23760" y="2354400"/>
            <a:ext cx="1655640" cy="1230120"/>
          </a:xfrm>
          <a:prstGeom prst="rect">
            <a:avLst/>
          </a:prstGeom>
          <a:ln w="0">
            <a:noFill/>
          </a:ln>
        </p:spPr>
      </p:pic>
      <p:sp>
        <p:nvSpPr>
          <p:cNvPr id="758" name="直線コネクタ 30"/>
          <p:cNvSpPr/>
          <p:nvPr/>
        </p:nvSpPr>
        <p:spPr>
          <a:xfrm>
            <a:off x="2771640" y="4192560"/>
            <a:ext cx="0" cy="155592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線コネクタ 32"/>
          <p:cNvSpPr/>
          <p:nvPr/>
        </p:nvSpPr>
        <p:spPr>
          <a:xfrm>
            <a:off x="3635280" y="4192560"/>
            <a:ext cx="0" cy="1511280"/>
          </a:xfrm>
          <a:prstGeom prst="line">
            <a:avLst/>
          </a:prstGeom>
          <a:ln w="38160">
            <a:solidFill>
              <a:srgbClr val="d9969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角丸四角形 13"/>
          <p:cNvSpPr/>
          <p:nvPr/>
        </p:nvSpPr>
        <p:spPr>
          <a:xfrm>
            <a:off x="2357280" y="5748480"/>
            <a:ext cx="82872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コンサル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角丸四角形 13"/>
          <p:cNvSpPr/>
          <p:nvPr/>
        </p:nvSpPr>
        <p:spPr>
          <a:xfrm>
            <a:off x="3295800" y="5748480"/>
            <a:ext cx="8283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PSL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導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05:23Z</dcterms:modified>
  <cp:revision>158</cp:revision>
  <dc:subject/>
  <dc:title>肝胆膵病態学総論</dc:title>
</cp:coreProperties>
</file>