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dt" idx="2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ftr" idx="2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 type="sldNum" idx="2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0CAC-2F3D-4F57-9A8F-3DA1EB92C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臨床実習時、実際の学生作らせてい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絵のうち最初の臨床経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173E-A8C6-4900-9C28-6D6A704130F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身体所見のまとめ、全身像で表現させ、また内服剤を使った上での現症を作成してもらっ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多くの投薬がされて、今があれば大事な情報なのでそう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C8CB-0812-4EEF-ACCA-8C5B9AE33C3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肝臓で入院した患者の肝臓の状態を、今までの治療歴を踏ま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図にまとめ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のよ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の図をつくることで、患者の全体像がわかり経過がわかります。この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枚を使い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臨床判断の可否、今の状況、今後の問題点などを討議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EB5A-CE6C-47A2-84A0-EF964F119D7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9A4072-C83E-4E31-B9B5-5E4FA7FD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D5CEE2-4D9A-4A84-955E-66EE87AB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B50191-13BE-4F33-8B50-EF5548D4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B3442E-1A0C-4478-A9C7-6F8780B5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C6E3CF-7D33-4892-B6E6-C5EBD122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A3DCD8-4CF4-4CB1-BCFD-90FB6872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CD6AC7-1A9E-4ADB-B89C-9CAFBD85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792923-6EE1-4CC3-AE25-FD716471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8076EC-9EE8-4FD9-9F63-1D76147D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204A99-976A-45B4-9274-F5829E961F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77D09D-9BF3-40E8-BB7B-EB92FACE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3B910A-2232-4B81-A550-36C1011C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000269-6CE7-4160-BDBB-808F44A5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D01A9D-03C9-4728-993F-9F1B9BF9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6189EF-153A-4DFF-9C11-0C6B3C43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BAAF67-F768-484E-A8A5-FD19A800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799570-2897-4C38-8552-64528A41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F56639-F718-47D7-B297-252F58E0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FB8093-2F9D-47AB-B5B3-C4F31076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794427-D2F6-4BC3-9A1D-8D3EAE09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60BB72-4361-443B-880C-7A19D45F9E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286D8-4FE2-437B-9006-290CF91786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2E0AD-CEFA-4879-B52A-13ABADC2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0A117-FAFD-4637-A4BC-15520A28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FD8BE-4252-4088-88B2-B68D6CFE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DF710-3697-48C7-9CC4-71151325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DF312-D3C3-41C4-A5EC-389B73F8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D7E56-18C5-4D2D-BC06-B851E910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2B1C1-F7FD-4529-B680-362A062B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37BDA-BE78-4BE2-AEAC-F212CC99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29180-2047-40E2-BDD0-4AB37F41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D362B-563F-43F7-8C8B-15378B9A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EFDF2-490D-4C27-ADF2-E587D29D75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20079-1F42-4A83-85FF-6353CB06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EB00D-E4CF-408C-92D9-37197B82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1ABD8-BE49-4AD1-BB08-99813774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B28FD-4372-468F-8EA2-A69D181C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92566-8CDA-40C7-AFC4-4D481887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E425B-A075-42CA-A12C-C4C055D3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B7A5E-A04C-4790-AE43-0473C1D3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E4415-B9A7-4CBE-9BDC-971D42A7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E278E-0E6E-4033-8D16-876C9A95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DFDF3-A12F-4DD6-8D90-E63DAA9B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37C4F-C1C1-45B0-ACAB-9D03BA3B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626B4-4D2C-49DD-B525-536FC054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E26420-AF39-4F4F-9A10-9CC3F2A75A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35BDB2-1ECF-434D-97AC-932466D3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A87C31-C1B2-450B-BB4E-E5A2B450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D14DDD-EDB1-4475-B84B-AB9236B9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3D304A-92D5-4996-9517-20F7E870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C7439C-73B8-4D8D-B78C-7C4D2F0E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3BD425-7D9D-4103-B64B-F845B284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5A1169-0001-484D-9DAE-AAA9167C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F8BF17-2BE5-4164-85D1-5952F941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5395AF-68DC-4114-9023-A9A947C1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98EC62-F75E-421D-8DA3-CAC70D8A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103C9B-FF60-4C68-9805-94E6E8C539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046C2-63EB-4683-B3E8-CE879F5952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8EE84-BFC1-4B4D-87C7-6B4B9FC0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3D80B-D618-4233-B5FB-144853EB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25E1C-C285-484D-9463-C4C9AE68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BB55A-7397-47C5-B025-E34678F6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A17A6-3918-4D36-BEA0-F7DE3262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24325-08B2-4CEB-B055-275FF6D5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ECE52-C82F-4D56-8FBB-F922FF3A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00926-0B1D-48B9-B0C8-4DDBEBC4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94584-BDFF-4A90-9173-4560A5DB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8B4A7-E6E8-4E15-8C00-45905022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E0A49-FAD8-493C-81BE-B570313577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B6E90-0969-415A-BC60-2BC558EC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510B1-6B03-4D55-90B8-AB78968B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3DD18-F708-4E7E-9CD5-41FC75C5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31F4F-9069-4206-B000-9FE002D0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24584-63DB-4BA3-A8EC-1CD367BC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0D35B-FEBD-4C1E-9A9A-899E39A7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E8F6F-43EB-45FE-B5B1-63BB1559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69B48-27FD-42B7-8FB1-498FF8F1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1AC0F-6437-4513-BD86-963BAC37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F057B-47D5-47DE-A866-C70F89EE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D6C89-F757-4F7F-9B2B-51767F2F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9F205-0975-4E2E-AD06-D9B61917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B3B1F9-69A8-4AD5-A982-810EA1BE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7524DF-9993-4622-BCB6-A70D755F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F0B65-09E8-4CC0-A137-CB3C584F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76EE6E-D780-4761-9A82-E8240649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0BBA79-05B7-4A26-AC4E-1C416C0B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1BF74-2A1C-41AD-AA83-B54C83FB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E80AC-9774-440C-AF81-224A2818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B13C05-041E-453A-8019-E76CD834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49540A-3A93-4706-9F46-A2A5CF2B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24C347-4249-496E-8568-84505D0E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D5368B-9E1C-44EB-9CC8-8FEDBA2E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861BBE-1885-43B0-8793-BBDAF91D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65BEF7-96BB-462E-A853-BFC9170D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E42E7F-C728-48B6-884E-25D2D684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11FD14-49E4-497C-8D67-09CEF905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291624-3215-4181-9C79-D6E9F638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BB4126-A6EA-4CD7-9040-4CEECC88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2EECA1-CA2B-4D24-82B4-1E717EBC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EAF89C-3C19-4EE6-8140-386EC5D8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FE5A6D-50AB-474C-B200-738D9C5E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24F79F-F52F-4F24-9A37-D0A6C0FB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B391A0-9B88-4D31-AB22-DC96A98C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790CA0-E3CF-4BBA-8A1D-A6848C1F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20DABF-5EC7-4C2B-BC98-57FB6C92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FD32B9-8F04-4840-8377-5B107A5C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8F068A-010D-435E-980E-FD15BDE3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5EB9B2-391B-47D8-B254-0B8066A5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45.xml"/><Relationship Id="rId10" Type="http://schemas.openxmlformats.org/officeDocument/2006/relationships/slideLayout" Target="../slideLayouts/slideLayout146.xml"/><Relationship Id="rId11" Type="http://schemas.openxmlformats.org/officeDocument/2006/relationships/slideLayout" Target="../slideLayouts/slideLayout147.xml"/><Relationship Id="rId12" Type="http://schemas.openxmlformats.org/officeDocument/2006/relationships/slideLayout" Target="../slideLayouts/slideLayout148.xml"/><Relationship Id="rId13" Type="http://schemas.openxmlformats.org/officeDocument/2006/relationships/slideLayout" Target="../slideLayouts/slideLayout149.xml"/><Relationship Id="rId14" Type="http://schemas.openxmlformats.org/officeDocument/2006/relationships/slideLayout" Target="../slideLayouts/slideLayout150.xml"/><Relationship Id="rId15" Type="http://schemas.openxmlformats.org/officeDocument/2006/relationships/slideLayout" Target="../slideLayouts/slideLayout151.xml"/><Relationship Id="rId16" Type="http://schemas.openxmlformats.org/officeDocument/2006/relationships/slideLayout" Target="../slideLayouts/slideLayout152.xml"/><Relationship Id="rId17" Type="http://schemas.openxmlformats.org/officeDocument/2006/relationships/slideLayout" Target="../slideLayouts/slideLayout153.xml"/><Relationship Id="rId18" Type="http://schemas.openxmlformats.org/officeDocument/2006/relationships/slideLayout" Target="../slideLayouts/slideLayout154.xml"/><Relationship Id="rId19" Type="http://schemas.openxmlformats.org/officeDocument/2006/relationships/slideLayout" Target="../slideLayouts/slideLayout155.xml"/><Relationship Id="rId20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9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28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29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30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4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7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9EDF-6024-4A0B-956D-499B0DE211F4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4E33-382C-4E5B-8CDF-2C827CA2AD55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77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78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79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80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82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3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84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5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6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C461-4650-4D9A-82B8-4F6F5CCC8B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52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2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2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3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3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5" name="PlaceHolder 1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8E9A-7914-4FFA-91E6-DF4FCAB6B7D1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57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7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8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8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8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8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7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6324-8128-433A-8859-C1082AFC2FF9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41CF-78B8-4385-AA36-160067AB3172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9"/>
    <p:sldLayoutId id="2147483806" r:id="rId10"/>
    <p:sldLayoutId id="2147483807" r:id="rId11"/>
    <p:sldLayoutId id="2147483808" r:id="rId12"/>
    <p:sldLayoutId id="2147483809" r:id="rId13"/>
    <p:sldLayoutId id="2147483810" r:id="rId14"/>
    <p:sldLayoutId id="2147483811" r:id="rId15"/>
    <p:sldLayoutId id="2147483812" r:id="rId16"/>
    <p:sldLayoutId id="2147483813" r:id="rId17"/>
    <p:sldLayoutId id="2147483814" r:id="rId18"/>
    <p:sldLayoutId id="2147483815" r:id="rId19"/>
    <p:sldLayoutId id="2147483816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9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0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1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9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9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9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9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0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43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44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45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46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48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50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90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91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92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93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95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6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97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BC76-64EE-4C92-A51E-C227170938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39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240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241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24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4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24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8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9BEE-E2F4-42C9-9304-B17647D088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86B9-BAAC-49BB-8818-5FB6F9E24C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2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3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7" name="PlaceHolder 1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9581-EC9A-4509-BB78-FD0A89C146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7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8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8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8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8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7" name="PlaceHolder 1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6620-6CE9-4B7C-AA92-FD3DF652A3B0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63560" y="2060280"/>
            <a:ext cx="76168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53</a:t>
            </a: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歳 女性 治療が難航す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CC</a:t>
            </a: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の一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角丸四角形吹き出し 5"/>
          <p:cNvSpPr/>
          <p:nvPr/>
        </p:nvSpPr>
        <p:spPr>
          <a:xfrm>
            <a:off x="8043840" y="1424160"/>
            <a:ext cx="1027080" cy="439560"/>
          </a:xfrm>
          <a:prstGeom prst="wedgeRoundRectCallout">
            <a:avLst>
              <a:gd name="adj1" fmla="val -74490"/>
              <a:gd name="adj2" fmla="val 55921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hild-pugh: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角丸四角形吹き出し 5"/>
          <p:cNvSpPr/>
          <p:nvPr/>
        </p:nvSpPr>
        <p:spPr>
          <a:xfrm>
            <a:off x="6143760" y="1432080"/>
            <a:ext cx="1028520" cy="439560"/>
          </a:xfrm>
          <a:prstGeom prst="wedgeRoundRectCallout">
            <a:avLst>
              <a:gd name="adj1" fmla="val 76074"/>
              <a:gd name="adj2" fmla="val 5779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hild-pugh: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角丸四角形吹き出し 5"/>
          <p:cNvSpPr/>
          <p:nvPr/>
        </p:nvSpPr>
        <p:spPr>
          <a:xfrm>
            <a:off x="4341960" y="1427040"/>
            <a:ext cx="1027080" cy="438120"/>
          </a:xfrm>
          <a:prstGeom prst="wedgeRoundRectCallout">
            <a:avLst>
              <a:gd name="adj1" fmla="val 90490"/>
              <a:gd name="adj2" fmla="val 59671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hild-pugh: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グループ化 29"/>
          <p:cNvGrpSpPr/>
          <p:nvPr/>
        </p:nvGrpSpPr>
        <p:grpSpPr>
          <a:xfrm>
            <a:off x="231840" y="1384200"/>
            <a:ext cx="8592840" cy="4729680"/>
            <a:chOff x="231840" y="1384200"/>
            <a:chExt cx="8592840" cy="4729680"/>
          </a:xfrm>
        </p:grpSpPr>
        <p:sp>
          <p:nvSpPr>
            <p:cNvPr id="637" name="テキスト ボックス 50"/>
            <p:cNvSpPr/>
            <p:nvPr/>
          </p:nvSpPr>
          <p:spPr>
            <a:xfrm>
              <a:off x="231840" y="2166840"/>
              <a:ext cx="4610160" cy="3947040"/>
            </a:xfrm>
            <a:prstGeom prst="roundRect">
              <a:avLst>
                <a:gd name="adj" fmla="val 16667"/>
              </a:avLst>
            </a:pr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テキスト ボックス 60"/>
            <p:cNvSpPr/>
            <p:nvPr/>
          </p:nvSpPr>
          <p:spPr>
            <a:xfrm>
              <a:off x="4889520" y="2085840"/>
              <a:ext cx="3906720" cy="3943080"/>
            </a:xfrm>
            <a:custGeom>
              <a:avLst/>
              <a:gdLst>
                <a:gd name="textAreaLeft" fmla="*/ 190440 w 3906720"/>
                <a:gd name="textAreaRight" fmla="*/ 3716280 w 3906720"/>
                <a:gd name="textAreaTop" fmla="*/ 190440 h 3943080"/>
                <a:gd name="textAreaBottom" fmla="*/ 3752640 h 3943080"/>
              </a:gdLst>
              <a:ahLst/>
              <a:rect l="textAreaLeft" t="textAreaTop" r="textAreaRight" b="textAreaBottom"/>
              <a:pathLst>
                <a:path w="21600" h="21801">
                  <a:moveTo>
                    <a:pt x="3600" y="0"/>
                  </a:moveTo>
                  <a:arcTo wR="3600" hR="3600" stAng="16200000" swAng="-5400000"/>
                  <a:lnTo>
                    <a:pt x="0" y="18201"/>
                  </a:lnTo>
                  <a:arcTo wR="3600" hR="3600" stAng="10800000" swAng="-5400000"/>
                  <a:lnTo>
                    <a:pt x="18000" y="218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テキスト ボックス 14"/>
            <p:cNvSpPr/>
            <p:nvPr/>
          </p:nvSpPr>
          <p:spPr>
            <a:xfrm>
              <a:off x="1972080" y="138420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2019</a:t>
              </a:r>
              <a:r>
                <a:rPr b="0" lang="ja-JP" sz="1600" spc="-1" strike="noStrike">
                  <a:solidFill>
                    <a:srgbClr val="ff0000"/>
                  </a:solidFill>
                  <a:latin typeface="Arial"/>
                </a:rPr>
                <a:t>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テキスト ボックス 26"/>
            <p:cNvSpPr/>
            <p:nvPr/>
          </p:nvSpPr>
          <p:spPr>
            <a:xfrm>
              <a:off x="1985400" y="1608480"/>
              <a:ext cx="56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1" name="直線矢印コネクタ 4"/>
            <p:cNvCxnSpPr/>
            <p:nvPr/>
          </p:nvCxnSpPr>
          <p:spPr>
            <a:xfrm>
              <a:off x="328320" y="1976040"/>
              <a:ext cx="8496720" cy="1080"/>
            </a:xfrm>
            <a:prstGeom prst="straightConnector1">
              <a:avLst/>
            </a:prstGeom>
            <a:ln w="7632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642" name="角丸四角形 9"/>
            <p:cNvSpPr/>
            <p:nvPr/>
          </p:nvSpPr>
          <p:spPr>
            <a:xfrm>
              <a:off x="615960" y="2207880"/>
              <a:ext cx="2313000" cy="942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ＭＳ Ｐゴシック"/>
                </a:rPr>
                <a:t>HBV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キャリアとして新潟市民病院受診。肝硬変に対してエンテカビル内服を開始した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直線コネクタ 46"/>
          <p:cNvSpPr/>
          <p:nvPr/>
        </p:nvSpPr>
        <p:spPr>
          <a:xfrm>
            <a:off x="2021040" y="1960560"/>
            <a:ext cx="0" cy="2476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0" y="82080"/>
            <a:ext cx="9144000" cy="700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現病歴　既往歴　治療介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テキスト ボックス 3"/>
          <p:cNvSpPr/>
          <p:nvPr/>
        </p:nvSpPr>
        <p:spPr>
          <a:xfrm>
            <a:off x="762840" y="905040"/>
            <a:ext cx="3109320" cy="398880"/>
          </a:xfrm>
          <a:prstGeom prst="rect">
            <a:avLst/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歳 女性 治療が難航す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CC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の一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角丸四角形 47"/>
          <p:cNvSpPr/>
          <p:nvPr/>
        </p:nvSpPr>
        <p:spPr>
          <a:xfrm>
            <a:off x="625320" y="3489480"/>
            <a:ext cx="2337120" cy="1339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佐渡病院でフォローしていたが、高度肥満と造影剤アレルギーにより画像評価が難渋してい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バラクルードからベムルディ（テノボビル）に薬剤を変更し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テキスト ボックス 14"/>
          <p:cNvSpPr/>
          <p:nvPr/>
        </p:nvSpPr>
        <p:spPr>
          <a:xfrm>
            <a:off x="436680" y="140004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16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テキスト ボックス 14"/>
          <p:cNvSpPr/>
          <p:nvPr/>
        </p:nvSpPr>
        <p:spPr>
          <a:xfrm>
            <a:off x="3447720" y="140796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20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テキスト ボックス 26"/>
          <p:cNvSpPr/>
          <p:nvPr/>
        </p:nvSpPr>
        <p:spPr>
          <a:xfrm>
            <a:off x="3398760" y="1619280"/>
            <a:ext cx="90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テキスト ボックス 26"/>
          <p:cNvSpPr/>
          <p:nvPr/>
        </p:nvSpPr>
        <p:spPr>
          <a:xfrm>
            <a:off x="5272200" y="1616040"/>
            <a:ext cx="108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テキスト ボックス 14"/>
          <p:cNvSpPr/>
          <p:nvPr/>
        </p:nvSpPr>
        <p:spPr>
          <a:xfrm>
            <a:off x="7236000" y="139536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テキスト ボックス 26"/>
          <p:cNvSpPr/>
          <p:nvPr/>
        </p:nvSpPr>
        <p:spPr>
          <a:xfrm>
            <a:off x="7167600" y="16160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直線コネクタ 69"/>
          <p:cNvSpPr/>
          <p:nvPr/>
        </p:nvSpPr>
        <p:spPr>
          <a:xfrm flipH="1">
            <a:off x="7620120" y="1998720"/>
            <a:ext cx="2880" cy="8604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直線コネクタ 49"/>
          <p:cNvSpPr/>
          <p:nvPr/>
        </p:nvSpPr>
        <p:spPr>
          <a:xfrm flipH="1">
            <a:off x="7921800" y="1979640"/>
            <a:ext cx="33120" cy="12384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角丸四角形 47"/>
          <p:cNvSpPr/>
          <p:nvPr/>
        </p:nvSpPr>
        <p:spPr>
          <a:xfrm>
            <a:off x="6840360" y="3224160"/>
            <a:ext cx="1793880" cy="600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残存病変に対して当院放射線科で治療を行う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角丸四角形 47"/>
          <p:cNvSpPr/>
          <p:nvPr/>
        </p:nvSpPr>
        <p:spPr>
          <a:xfrm>
            <a:off x="6821640" y="2244600"/>
            <a:ext cx="1793880" cy="82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PHAG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にて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８、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３に造影される腫瘤を確認し、同病変に対して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TACE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を施行し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線コネクタ 52"/>
          <p:cNvSpPr/>
          <p:nvPr/>
        </p:nvSpPr>
        <p:spPr>
          <a:xfrm flipH="1">
            <a:off x="5823000" y="1979640"/>
            <a:ext cx="17280" cy="11541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角丸四角形 47"/>
          <p:cNvSpPr/>
          <p:nvPr/>
        </p:nvSpPr>
        <p:spPr>
          <a:xfrm>
            <a:off x="4938840" y="2697120"/>
            <a:ext cx="1793880" cy="11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8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病変に対して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TACE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を施行した。外側区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3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病変に対しては、カテーテルが先進せず処置を行わなかっ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直線コネクタ 54"/>
          <p:cNvSpPr/>
          <p:nvPr/>
        </p:nvSpPr>
        <p:spPr>
          <a:xfrm flipH="1">
            <a:off x="3911760" y="1973160"/>
            <a:ext cx="17280" cy="11541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角丸四角形 47"/>
          <p:cNvSpPr/>
          <p:nvPr/>
        </p:nvSpPr>
        <p:spPr>
          <a:xfrm>
            <a:off x="3048120" y="2166840"/>
            <a:ext cx="1793880" cy="168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血液検査にて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PIVKA-Ⅱ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が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43.2mAU/mL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、その後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87.6AU/mL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と上昇傾向にあったため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Dynamic CT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を撮影し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8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に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2.5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ｃｍ、外側区に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.5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㎝の早期濃染を伴う腫瘤が指摘され、ＨＣＣが疑われ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直線コネクタ 48"/>
          <p:cNvSpPr/>
          <p:nvPr/>
        </p:nvSpPr>
        <p:spPr>
          <a:xfrm>
            <a:off x="2021040" y="3143160"/>
            <a:ext cx="0" cy="3463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角丸四角形 35"/>
          <p:cNvSpPr/>
          <p:nvPr/>
        </p:nvSpPr>
        <p:spPr>
          <a:xfrm>
            <a:off x="682560" y="5097600"/>
            <a:ext cx="1913040" cy="653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入院時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身長：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49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㎝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、体重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05.9k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BMI: 47.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角丸四角形 35"/>
          <p:cNvSpPr/>
          <p:nvPr/>
        </p:nvSpPr>
        <p:spPr>
          <a:xfrm>
            <a:off x="5280120" y="2170080"/>
            <a:ext cx="107928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当科入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グループ化 2"/>
          <p:cNvGrpSpPr/>
          <p:nvPr/>
        </p:nvGrpSpPr>
        <p:grpSpPr>
          <a:xfrm>
            <a:off x="3314880" y="3959280"/>
            <a:ext cx="2566800" cy="2279520"/>
            <a:chOff x="3314880" y="3959280"/>
            <a:chExt cx="2566800" cy="2279520"/>
          </a:xfrm>
        </p:grpSpPr>
        <p:pic>
          <p:nvPicPr>
            <p:cNvPr id="665" name="図 5" descr=""/>
            <p:cNvPicPr/>
            <p:nvPr/>
          </p:nvPicPr>
          <p:blipFill>
            <a:blip r:embed="rId1"/>
            <a:srcRect l="30" t="14111" r="-25" b="14640"/>
            <a:stretch/>
          </p:blipFill>
          <p:spPr>
            <a:xfrm>
              <a:off x="3314880" y="3959280"/>
              <a:ext cx="2566800" cy="22795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66" name="直線矢印コネクタ 37"/>
            <p:cNvCxnSpPr/>
            <p:nvPr/>
          </p:nvCxnSpPr>
          <p:spPr>
            <a:xfrm flipV="1">
              <a:off x="3911400" y="5385960"/>
              <a:ext cx="1080" cy="2037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667" name="グループ化 5"/>
          <p:cNvGrpSpPr/>
          <p:nvPr/>
        </p:nvGrpSpPr>
        <p:grpSpPr>
          <a:xfrm>
            <a:off x="6084720" y="3959280"/>
            <a:ext cx="2519640" cy="2278080"/>
            <a:chOff x="6084720" y="3959280"/>
            <a:chExt cx="2519640" cy="2278080"/>
          </a:xfrm>
        </p:grpSpPr>
        <p:pic>
          <p:nvPicPr>
            <p:cNvPr id="668" name="図 8" descr="写真, 本, テーブル, 食品 が含まれている画像&#10;&#10;自動的に生成された説明"/>
            <p:cNvPicPr/>
            <p:nvPr/>
          </p:nvPicPr>
          <p:blipFill>
            <a:blip r:embed="rId2"/>
            <a:srcRect l="0" t="13369" r="0" b="14203"/>
            <a:stretch/>
          </p:blipFill>
          <p:spPr>
            <a:xfrm>
              <a:off x="6084720" y="3959280"/>
              <a:ext cx="2519640" cy="2278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69" name="直線矢印コネクタ 41"/>
            <p:cNvCxnSpPr/>
            <p:nvPr/>
          </p:nvCxnSpPr>
          <p:spPr>
            <a:xfrm flipV="1">
              <a:off x="7524360" y="4828680"/>
              <a:ext cx="1080" cy="2037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3" descr="C:\Users\p039eb\Desktop\ポリクリ\全身図：前.png"/>
          <p:cNvPicPr/>
          <p:nvPr/>
        </p:nvPicPr>
        <p:blipFill>
          <a:blip r:embed="rId1"/>
          <a:stretch/>
        </p:blipFill>
        <p:spPr>
          <a:xfrm>
            <a:off x="1467000" y="858960"/>
            <a:ext cx="2412720" cy="53067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3760" y="38160"/>
            <a:ext cx="9144000" cy="620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身体所見のまと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テキスト ボックス 4"/>
          <p:cNvSpPr/>
          <p:nvPr/>
        </p:nvSpPr>
        <p:spPr>
          <a:xfrm>
            <a:off x="5057640" y="635040"/>
            <a:ext cx="4032360" cy="432324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4323240"/>
              <a:gd name="textAreaBottom" fmla="*/ 4126680 h 4323240"/>
            </a:gdLst>
            <a:ahLst/>
            <a:rect l="textAreaLeft" t="textAreaTop" r="textAreaRight" b="textAreaBottom"/>
            <a:pathLst>
              <a:path w="21600" h="23158">
                <a:moveTo>
                  <a:pt x="3600" y="0"/>
                </a:moveTo>
                <a:arcTo wR="3600" hR="3600" stAng="16200000" swAng="-5400000"/>
                <a:lnTo>
                  <a:pt x="0" y="19558"/>
                </a:lnTo>
                <a:arcTo wR="3600" hR="3600" stAng="10800000" swAng="-5400000"/>
                <a:lnTo>
                  <a:pt x="18000" y="23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【入院時所見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KT: 36.7℃, SpO2: 96(room a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【生活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飲酒歴：なし、喫煙歴：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【家族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特記事項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【既往歴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月に強直性脊椎炎、肝硬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20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月に肝細胞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輸血歴：なし、刺青：なし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20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月に当科にて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ACE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施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【アレルギー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造影剤アレルギー（詳細不明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内服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テノボビル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25)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　１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分岐鎖アミノ酸製剤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4.15) 3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防風通聖散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2.5)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３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アミノレバン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50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角丸四角形吹き出し 5"/>
          <p:cNvSpPr/>
          <p:nvPr/>
        </p:nvSpPr>
        <p:spPr>
          <a:xfrm>
            <a:off x="131760" y="896760"/>
            <a:ext cx="1727280" cy="935280"/>
          </a:xfrm>
          <a:prstGeom prst="wedgeRoundRectCallout">
            <a:avLst>
              <a:gd name="adj1" fmla="val 80078"/>
              <a:gd name="adj2" fmla="val -361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意識清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リンパ節腫脹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眼瞼結膜：貧血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眼球結膜：黄染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角丸四角形吹き出し 11"/>
          <p:cNvSpPr/>
          <p:nvPr/>
        </p:nvSpPr>
        <p:spPr>
          <a:xfrm>
            <a:off x="112680" y="1917720"/>
            <a:ext cx="2413080" cy="1224000"/>
          </a:xfrm>
          <a:prstGeom prst="wedgeRoundRectCallout">
            <a:avLst>
              <a:gd name="adj1" fmla="val 64898"/>
              <a:gd name="adj2" fmla="val -6689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HR: 86, BP: 100/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Heart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：心音正常、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no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murm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Lung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：呼吸音正常、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no r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角丸四角形吹き出し 12"/>
          <p:cNvSpPr/>
          <p:nvPr/>
        </p:nvSpPr>
        <p:spPr>
          <a:xfrm>
            <a:off x="3259080" y="1982880"/>
            <a:ext cx="1656000" cy="1657080"/>
          </a:xfrm>
          <a:prstGeom prst="wedgeRoundRectCallout">
            <a:avLst>
              <a:gd name="adj1" fmla="val -72638"/>
              <a:gd name="adj2" fmla="val 17754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腹部：平坦、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圧痛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腸蠕動音正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ＭＳ Ｐゴシック"/>
              </a:rPr>
              <a:t>血管雑音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脾・腎触知しない腫瘤触知し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クモ状血管腫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角丸四角形吹き出し 27"/>
          <p:cNvSpPr/>
          <p:nvPr/>
        </p:nvSpPr>
        <p:spPr>
          <a:xfrm>
            <a:off x="3330720" y="5086440"/>
            <a:ext cx="1152360" cy="431640"/>
          </a:xfrm>
          <a:prstGeom prst="wedgeRoundRectCallout">
            <a:avLst>
              <a:gd name="adj1" fmla="val -56680"/>
              <a:gd name="adj2" fmla="val 85592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下腿浮腫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角丸四角形吹き出し 16"/>
          <p:cNvSpPr/>
          <p:nvPr/>
        </p:nvSpPr>
        <p:spPr>
          <a:xfrm>
            <a:off x="112680" y="3303720"/>
            <a:ext cx="2087640" cy="1606320"/>
          </a:xfrm>
          <a:prstGeom prst="wedgeRoundRectCallout">
            <a:avLst>
              <a:gd name="adj1" fmla="val 68981"/>
              <a:gd name="adj2" fmla="val -63004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肝：触知し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黄疸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、腹水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Child-Pugh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分類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A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6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点）脳症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腹水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総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Bil 1.8mg/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Alb 3.2g/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角丸四角形吹き出し 17"/>
          <p:cNvSpPr/>
          <p:nvPr/>
        </p:nvSpPr>
        <p:spPr>
          <a:xfrm>
            <a:off x="3583080" y="3997440"/>
            <a:ext cx="1152360" cy="431640"/>
          </a:xfrm>
          <a:prstGeom prst="wedgeRoundRectCallout">
            <a:avLst>
              <a:gd name="adj1" fmla="val -41166"/>
              <a:gd name="adj2" fmla="val -8746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手掌紅斑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テキスト ボックス 18"/>
          <p:cNvSpPr/>
          <p:nvPr/>
        </p:nvSpPr>
        <p:spPr>
          <a:xfrm>
            <a:off x="112680" y="5072040"/>
            <a:ext cx="2376360" cy="12848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【検査所見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 本文"/>
                <a:ea typeface="游明朝"/>
              </a:rPr>
              <a:t>PT% 74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 本文"/>
                <a:ea typeface="游明朝"/>
              </a:rPr>
              <a:t>％ 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 本文"/>
                <a:ea typeface="游明朝"/>
              </a:rPr>
              <a:t>, Alb 3.2g/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 本文"/>
                <a:ea typeface="游明朝"/>
              </a:rPr>
              <a:t>AST 55 U/L, ALT 47 U/L, LD 215 U/L, ALP 121 U/L, γ-GTP 23 U/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テキスト ボックス 19"/>
          <p:cNvSpPr/>
          <p:nvPr/>
        </p:nvSpPr>
        <p:spPr>
          <a:xfrm>
            <a:off x="5070600" y="5079960"/>
            <a:ext cx="4020840" cy="12848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【腫瘍マーカー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※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020/11/26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020/12/21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021/2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FP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(ng/m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FP-L3%: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＜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0.5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＜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0.5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→ 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＜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0.5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FP-L1%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： ＞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99.5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→ 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＞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99.5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→ 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＞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99.5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IVKAⅡ: 56.1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73.3 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1.1(mAU/m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角丸四角形吹き出し 11"/>
          <p:cNvSpPr/>
          <p:nvPr/>
        </p:nvSpPr>
        <p:spPr>
          <a:xfrm>
            <a:off x="3479760" y="863640"/>
            <a:ext cx="1403280" cy="1058760"/>
          </a:xfrm>
          <a:prstGeom prst="wedgeRoundRectCallout">
            <a:avLst>
              <a:gd name="adj1" fmla="val 50217"/>
              <a:gd name="adj2" fmla="val -10268"/>
              <a:gd name="adj3" fmla="val 16667"/>
            </a:avLst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身長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: 149cm, 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体重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105.9kg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ＭＳ Ｐゴシック"/>
              </a:rPr>
              <a:t>BMI: 47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図 3" descr="写真, 猫, 横たわる, 男 が含まれている画像&#10;&#10;自動的に生成された説明"/>
          <p:cNvPicPr/>
          <p:nvPr/>
        </p:nvPicPr>
        <p:blipFill>
          <a:blip r:embed="rId1"/>
          <a:srcRect l="0" t="4151" r="0" b="28394"/>
          <a:stretch/>
        </p:blipFill>
        <p:spPr>
          <a:xfrm>
            <a:off x="2786040" y="1069920"/>
            <a:ext cx="6040440" cy="3141720"/>
          </a:xfrm>
          <a:prstGeom prst="rect">
            <a:avLst/>
          </a:prstGeom>
          <a:ln w="0">
            <a:noFill/>
          </a:ln>
        </p:spPr>
      </p:pic>
      <p:grpSp>
        <p:nvGrpSpPr>
          <p:cNvPr id="683" name="グループ化 26"/>
          <p:cNvGrpSpPr/>
          <p:nvPr/>
        </p:nvGrpSpPr>
        <p:grpSpPr>
          <a:xfrm>
            <a:off x="368280" y="1028880"/>
            <a:ext cx="2001960" cy="3068280"/>
            <a:chOff x="368280" y="1028880"/>
            <a:chExt cx="2001960" cy="3068280"/>
          </a:xfrm>
        </p:grpSpPr>
        <p:sp>
          <p:nvSpPr>
            <p:cNvPr id="684" name="テキスト ボックス 17"/>
            <p:cNvSpPr/>
            <p:nvPr/>
          </p:nvSpPr>
          <p:spPr>
            <a:xfrm>
              <a:off x="371160" y="3284640"/>
              <a:ext cx="1984680" cy="812520"/>
            </a:xfrm>
            <a:prstGeom prst="roundRect">
              <a:avLst>
                <a:gd name="adj" fmla="val 16667"/>
              </a:avLst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2</a:t>
              </a:r>
              <a:r>
                <a:rPr b="0" lang="ja-JP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8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病変に対し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CE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を施行した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テキスト ボックス 16"/>
            <p:cNvSpPr/>
            <p:nvPr/>
          </p:nvSpPr>
          <p:spPr>
            <a:xfrm>
              <a:off x="385560" y="2232000"/>
              <a:ext cx="1984680" cy="812520"/>
            </a:xfrm>
            <a:prstGeom prst="roundRect">
              <a:avLst>
                <a:gd name="adj" fmla="val 16667"/>
              </a:avLst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11</a:t>
              </a:r>
              <a:r>
                <a:rPr b="0" lang="ja-JP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月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26</a:t>
              </a:r>
              <a:r>
                <a:rPr b="0" lang="ja-JP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8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病変のみ当科に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CE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を施行した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テキスト ボックス 11"/>
            <p:cNvSpPr/>
            <p:nvPr/>
          </p:nvSpPr>
          <p:spPr>
            <a:xfrm>
              <a:off x="368280" y="1028880"/>
              <a:ext cx="1984680" cy="1048680"/>
            </a:xfrm>
            <a:prstGeom prst="roundRect">
              <a:avLst>
                <a:gd name="adj" fmla="val 16667"/>
              </a:avLst>
            </a:prstGeom>
            <a:solidFill>
              <a:srgbClr val="dce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2021</a:t>
              </a:r>
              <a:r>
                <a:rPr b="0" lang="ja-JP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年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2</a:t>
              </a:r>
              <a:r>
                <a:rPr b="0" lang="ja-JP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HC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8</a:t>
              </a:r>
              <a:r>
                <a:rPr b="0" lang="ja-JP" sz="1400" spc="-1" strike="noStrike">
                  <a:solidFill>
                    <a:srgbClr val="ff0000"/>
                  </a:solidFill>
                  <a:latin typeface="Arial"/>
                </a:rPr>
                <a:t>：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2.5</a:t>
              </a:r>
              <a:r>
                <a:rPr b="0" lang="ja-JP" sz="1400" spc="-1" strike="noStrike">
                  <a:solidFill>
                    <a:srgbClr val="ff0000"/>
                  </a:solidFill>
                  <a:latin typeface="Arial"/>
                </a:rPr>
                <a:t>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0000"/>
                  </a:solidFill>
                  <a:latin typeface="Arial"/>
                </a:rPr>
                <a:t>外側区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(S3)</a:t>
              </a:r>
              <a:r>
                <a:rPr b="0" lang="ja-JP" sz="1400" spc="-1" strike="noStrike">
                  <a:solidFill>
                    <a:srgbClr val="ff0000"/>
                  </a:solidFill>
                  <a:latin typeface="Arial"/>
                </a:rPr>
                <a:t>：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1.5</a:t>
              </a:r>
              <a:r>
                <a:rPr b="0" lang="ja-JP" sz="1400" spc="-1" strike="noStrike">
                  <a:solidFill>
                    <a:srgbClr val="ff0000"/>
                  </a:solidFill>
                  <a:latin typeface="Arial"/>
                </a:rPr>
                <a:t>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角丸四角形 27"/>
          <p:cNvSpPr/>
          <p:nvPr/>
        </p:nvSpPr>
        <p:spPr>
          <a:xfrm>
            <a:off x="108000" y="4387680"/>
            <a:ext cx="5467320" cy="187200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Calibri"/>
              </a:rPr>
              <a:t>血管造影所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HAG(7.5/1.5)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施行し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8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3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造影される腫瘤を認め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TAP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確認し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8,S3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早期濃染し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ash out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される所見を認め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HAG(5/1)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施行し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3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濃染を確認し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3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まで進め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3AG(2.8/0/7)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で確認し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pi 10mg+DC Beads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投与し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8AG(4/1)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施行し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8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の濃染を確認した。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8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より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T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造影を行い、終了し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54080" y="46080"/>
            <a:ext cx="9144000" cy="79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治療経過（臨床実習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I</a:t>
            </a: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　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5</a:t>
            </a: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年生のまとめ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角丸四角形 27"/>
          <p:cNvSpPr/>
          <p:nvPr/>
        </p:nvSpPr>
        <p:spPr>
          <a:xfrm>
            <a:off x="5796000" y="4675320"/>
            <a:ext cx="3125880" cy="1296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Calibri"/>
              </a:rPr>
              <a:t>今後の治療方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・放射線科にて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BRT 35Gy/5fr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などの通常よりも低めの線量にて治療を検討し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0" name="直線矢印コネクタ 2"/>
          <p:cNvCxnSpPr/>
          <p:nvPr/>
        </p:nvCxnSpPr>
        <p:spPr>
          <a:xfrm flipV="1">
            <a:off x="4284360" y="1823400"/>
            <a:ext cx="1080" cy="2610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91" name="直線矢印コネクタ 13"/>
          <p:cNvCxnSpPr/>
          <p:nvPr/>
        </p:nvCxnSpPr>
        <p:spPr>
          <a:xfrm flipV="1">
            <a:off x="6659280" y="2918880"/>
            <a:ext cx="1080" cy="261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692" name="グループ化 8"/>
          <p:cNvGrpSpPr/>
          <p:nvPr/>
        </p:nvGrpSpPr>
        <p:grpSpPr>
          <a:xfrm>
            <a:off x="2519280" y="979560"/>
            <a:ext cx="3737160" cy="3279600"/>
            <a:chOff x="2519280" y="979560"/>
            <a:chExt cx="3737160" cy="3279600"/>
          </a:xfrm>
        </p:grpSpPr>
        <p:pic>
          <p:nvPicPr>
            <p:cNvPr id="693" name="図 6" descr="写真, 座る, 古い, 立つ が含まれている画像&#10;&#10;自動的に生成された説明"/>
            <p:cNvPicPr/>
            <p:nvPr/>
          </p:nvPicPr>
          <p:blipFill>
            <a:blip r:embed="rId2"/>
            <a:srcRect l="3505" t="1703" r="26756" b="37477"/>
            <a:stretch/>
          </p:blipFill>
          <p:spPr>
            <a:xfrm>
              <a:off x="2519280" y="979560"/>
              <a:ext cx="3737160" cy="32796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94" name="直線矢印コネクタ 16"/>
            <p:cNvCxnSpPr/>
            <p:nvPr/>
          </p:nvCxnSpPr>
          <p:spPr>
            <a:xfrm flipV="1">
              <a:off x="3619080" y="2890440"/>
              <a:ext cx="1080" cy="3657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695" name="グループ化 6"/>
          <p:cNvGrpSpPr/>
          <p:nvPr/>
        </p:nvGrpSpPr>
        <p:grpSpPr>
          <a:xfrm>
            <a:off x="5608800" y="979560"/>
            <a:ext cx="3290760" cy="3244680"/>
            <a:chOff x="5608800" y="979560"/>
            <a:chExt cx="3290760" cy="3244680"/>
          </a:xfrm>
        </p:grpSpPr>
        <p:pic>
          <p:nvPicPr>
            <p:cNvPr id="696" name="図 5" descr="古い が含まれている画像&#10;&#10;自動的に生成された説明"/>
            <p:cNvPicPr/>
            <p:nvPr/>
          </p:nvPicPr>
          <p:blipFill>
            <a:blip r:embed="rId3"/>
            <a:srcRect l="12404" t="2752" r="12404" b="22699"/>
            <a:stretch/>
          </p:blipFill>
          <p:spPr>
            <a:xfrm>
              <a:off x="5608800" y="979560"/>
              <a:ext cx="3290760" cy="32446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97" name="直線矢印コネクタ 22"/>
            <p:cNvCxnSpPr/>
            <p:nvPr/>
          </p:nvCxnSpPr>
          <p:spPr>
            <a:xfrm flipV="1">
              <a:off x="7596000" y="2893680"/>
              <a:ext cx="1080" cy="3657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06:56:55Z</dcterms:created>
  <dc:creator>TERAI</dc:creator>
  <dc:description/>
  <dc:language>en-US</dc:language>
  <cp:lastModifiedBy>小山 究太郎</cp:lastModifiedBy>
  <cp:lastPrinted>2015-02-02T01:37:24Z</cp:lastPrinted>
  <dcterms:modified xsi:type="dcterms:W3CDTF">2021-06-15T07:20:48Z</dcterms:modified>
  <cp:revision>121</cp:revision>
  <dc:subject/>
  <dc:title>肝胆膵病態学総論</dc:title>
</cp:coreProperties>
</file>