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dt" idx="2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ftr" idx="28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 type="sldNum" idx="29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945F-3E86-42CF-BA09-5F9902963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048D-1E11-47B2-A4C7-978D9630F4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ボノプラザン（タケキャブ）→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トリメブチン　→　胃腸薬（慢性胃炎、過敏性腸症候群：腸の動きを正常化す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コバラミン（メチコバール）→　ビタミ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製剤（末梢神経障害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モサプリド　→　副交感神経刺激薬（消化管運動亢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酪酸塩（ビオスリー）→　整腸剤（下痢、便秘、腹部膨満：乳酸菌を補う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プレカバリン（リリカ）→　鎮痛（中枢神経系において神経細胞を興奮させ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イオンの流入を抑え、興奮性神経伝達物質の過剰な放出を抑え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酸化マグネシウム　→　排便を促す（塩類下剤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ジメモルファリン（アストミン錠）→　鎮咳薬（咳中枢の抑制、気道拡張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エピナスチン　→　抗ヒスタミン薬（咳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9C61-2F1E-4A23-929F-8CB2EADB892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PH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シスプラチン製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D66A-0A5D-4CE4-A555-8A2E6FC2753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FF7999-A082-4430-B480-00913D92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7A7B8A-2715-4D42-998C-0BA55D7C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C909F1-3903-487C-A201-CF75336A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65F8D5-182A-41E2-ADB9-614AB675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158DA9-E753-48BD-81FD-E4E9DF97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9DD03D-9941-40EB-9097-F729B796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5D4935-3761-4C6D-8F86-3EF94FDD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640AE-C675-453A-89D8-D9C23B28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E8B7C8-BEC6-418B-9302-C59D42A5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D39945-93AC-4B2D-8D12-0D281C50D3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8F0BB1-9B23-4244-90FA-56ACD397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60BF03-A4C9-4D7F-AC24-074AF190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75936C-4F51-4BEA-97A1-A1220AE0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BA3877-3267-40AE-A3C3-A07EC236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9B567A-167F-439D-80AC-974C955E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89E58E-2B27-41E0-BD98-4F31ACDA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353E89-E1E6-45D8-A8A6-022FDDF5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7EEB6C-FDB6-41D9-993A-5A23222D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278F3D-16B6-48F2-8542-922EBF53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7EE66B-9DD4-4DD0-AD9E-1B96870D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20348B-101C-4179-AEAB-20A6A244E0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EBF15-712E-4EEF-B051-640AC34ECA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E4BC9-9313-430B-AB7F-F1F4E4AB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4A497-1D2B-4B1F-84AF-379067B8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0C55A-BD4F-4CA0-BD56-89C1C754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C0024-603C-4E44-AC3A-34C77228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12E84-9FB4-40D7-9EFA-5694862B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5F5D9-70C1-410D-87A9-BB11D43A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4A882-46DD-4B4C-9CFB-68316D91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EF078-2D17-42A6-98FC-F87AE2F8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BEEF0-406A-4C15-B5BE-7161CB3B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245E8-D768-4951-BFB0-2CC7A83C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00DD4-7F56-443B-9532-943781E386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A7DF4-8371-46FC-8305-994B24BC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C7234-7E4A-4B00-A8EA-CB612304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A64BE-7425-445C-B0DF-0F8FE5B6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53AE2-BB81-43F0-ACCC-416BCEB5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F64E1-2D7E-47B5-A03A-C7102F3A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90E16-7075-4A83-B509-B051144C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C90C3-994A-460F-8115-B7EB5D93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D2DC0-8DA8-47A9-8FC6-D76DF791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FEB19-B4CF-45AE-B39B-053370C0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4C678-2B7B-4475-89D3-AC4DB1D8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48715-4E6A-4593-B910-834175FC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9ED97-ECE3-466C-8B46-DA77AF83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51F6C-E15F-403E-AB7C-39E6E014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F18C7-64CB-47D2-A806-7453CBBB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5D911-2690-4D80-8A6E-1B3BA75A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DB1DD-84A1-4672-B4DC-6457CA41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FCE1E-22BA-48FB-8D8B-108848FD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4B53C-2C91-4EF5-BF89-9D16DE06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BC865-D774-449A-9011-A54CC1AC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B2B8B-ECC6-4839-A0BB-06966396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BCB12-BCC4-4DCE-BD96-B7FE6AE1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7FA33-C1D9-4651-A867-A78220E2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0F6CA-09A9-4E24-A471-80CC79E9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1BB20-8C30-47E3-ACD7-A0B0F302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ECFC60-746F-401C-A19E-0D3F904579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0F7BEF-E32F-4430-9C84-11D535E8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EA34C7-615A-4271-B5C5-B6656DD1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4E2E8D-0E94-4BAE-B14F-E00BBB99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D7082D-2743-4C14-8887-274CF4FF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26208D-3308-415A-95DC-CC242694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6B4CA6-915F-4041-B64F-C74F99AA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BB86ED-E94E-490D-9BB4-AE875C14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F982CD-47F5-4D0B-9941-E61B6D8C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2898CB-1E8A-451D-B649-F11D7282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4AEBCE-390A-4E94-9959-6F1D52FE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2BC513-7D98-48A5-B95B-E96A1CEB8C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6DE97-A29D-4207-8053-26524AD489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B1E86-3BD8-44B1-BE6B-5B2B8D17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54B2D-5DA4-45B3-A2F5-7D9C889A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8A035-9D33-416B-8528-D81486C9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A791D-C086-4E2F-BAB2-B42C537B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18E2F-B47B-47A0-95A9-26578BF1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6E03D-8231-4789-AC85-856C99DA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77D35-94EE-4124-AC89-5CE878BF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FC1EC-B5A4-431B-A59E-837B2DB3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911E8-C4A5-4BDD-9AAA-7316D519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589FB-4CB1-4806-A26B-0569CD64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960D8-2060-4FFE-A6A8-855444EEB4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5E48F-FEF4-4571-BCD9-E90EA769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D2E4F-A8D0-4E60-8ED8-B116E566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BDCA6-8226-4E74-8485-6409F0E3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DA920-E248-4112-BF75-8C336561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57C7B-2E2E-4B1A-8376-8150CECC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887D1-D4F6-4C1F-B76A-A1052677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6D0A4-AECF-43D0-B8EC-6689EC7A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6DE6A-8BDA-4BB8-B451-F5897D03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1DA70-9C87-4E12-9B8D-3BBE885F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46A3F-AECF-4438-B3F0-6C6BA9C5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C1336-B95B-4B08-95CE-2F6DB2D1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BC2FE-E430-4F2C-A861-8792D70E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986A30-0372-4A10-A9BC-0F0B422A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E46103-A8F0-4201-AD84-0C1CE91D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1C8B0-F077-48CA-81E3-AB51EA8A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311A6-483D-4C6A-9B7F-1DA0E701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16D1B-B0DB-421A-B006-7BF8CA55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C337F-1304-4832-B009-7D391811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C44AC8-9103-4662-B0D0-EE8E90D9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A3D557-6AE8-4A52-BB25-92CCCF86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99249D-6994-487C-A337-8771FA3C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B2E3F-CB39-4435-93A9-819B5F51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43D99-3BAA-40A5-87D6-ADD29743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E40B8-EA08-4BC8-A869-28C03417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8827B9-774D-4DCB-8889-BF068461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763E58-0498-4265-A52A-D44D79CD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D4F467-75EF-4E9F-9AA9-D445829A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101817-6070-486D-BECF-27A4FC0D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ED3106-F4E5-4925-8A22-2FDAD256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A21888-E790-4949-91E7-539620C1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F2D7EF-6110-4348-BB2F-CF31A1BB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FA2A41-352C-40DC-90B1-6F0E3E3C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F72069-19A7-4093-989F-B06E3D95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8F7332-5061-4452-B710-B54524F2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AAAC40-8D83-4F1B-B603-A216466C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1523DA-15CD-477C-BAF7-49274928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39A007-62FD-47A8-8EE7-1206BA44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A2711D-F662-4B1A-87BB-6FAE6909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67E802-0BC7-4374-9904-6F7067E2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45.xml"/><Relationship Id="rId10" Type="http://schemas.openxmlformats.org/officeDocument/2006/relationships/slideLayout" Target="../slideLayouts/slideLayout146.xml"/><Relationship Id="rId11" Type="http://schemas.openxmlformats.org/officeDocument/2006/relationships/slideLayout" Target="../slideLayouts/slideLayout147.xml"/><Relationship Id="rId12" Type="http://schemas.openxmlformats.org/officeDocument/2006/relationships/slideLayout" Target="../slideLayouts/slideLayout148.xml"/><Relationship Id="rId13" Type="http://schemas.openxmlformats.org/officeDocument/2006/relationships/slideLayout" Target="../slideLayouts/slideLayout149.xml"/><Relationship Id="rId14" Type="http://schemas.openxmlformats.org/officeDocument/2006/relationships/slideLayout" Target="../slideLayouts/slideLayout150.xml"/><Relationship Id="rId15" Type="http://schemas.openxmlformats.org/officeDocument/2006/relationships/slideLayout" Target="../slideLayouts/slideLayout151.xml"/><Relationship Id="rId16" Type="http://schemas.openxmlformats.org/officeDocument/2006/relationships/slideLayout" Target="../slideLayouts/slideLayout152.xml"/><Relationship Id="rId17" Type="http://schemas.openxmlformats.org/officeDocument/2006/relationships/slideLayout" Target="../slideLayouts/slideLayout153.xml"/><Relationship Id="rId18" Type="http://schemas.openxmlformats.org/officeDocument/2006/relationships/slideLayout" Target="../slideLayouts/slideLayout154.xml"/><Relationship Id="rId19" Type="http://schemas.openxmlformats.org/officeDocument/2006/relationships/slideLayout" Target="../slideLayouts/slideLayout155.xml"/><Relationship Id="rId20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9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28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29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30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4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7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BD8C-AA52-460F-A917-B61A72197DA5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BBAF-7AE0-400B-9FE0-A3E88F082462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77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478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479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480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82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3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484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6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F5D1-CFBE-47DB-87D5-D25A21AD21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2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2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2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3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3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05DC-DB2C-4C95-B514-00AADEBAB7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57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7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7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7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8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8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5" name="PlaceHolder 1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D6AD-973A-4EAB-A69C-DCF0EEE3F8DC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9"/>
    <p:sldLayoutId id="2147483806" r:id="rId10"/>
    <p:sldLayoutId id="2147483807" r:id="rId11"/>
    <p:sldLayoutId id="2147483808" r:id="rId12"/>
    <p:sldLayoutId id="2147483809" r:id="rId13"/>
    <p:sldLayoutId id="2147483810" r:id="rId14"/>
    <p:sldLayoutId id="2147483811" r:id="rId15"/>
    <p:sldLayoutId id="2147483812" r:id="rId16"/>
    <p:sldLayoutId id="2147483813" r:id="rId17"/>
    <p:sldLayoutId id="2147483814" r:id="rId18"/>
    <p:sldLayoutId id="2147483815" r:id="rId19"/>
    <p:sldLayoutId id="2147483816" r:id="rId20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6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6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6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6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6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37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FA2A-A3CD-4949-826D-507E14E83057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30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FCA7-78D3-4A6D-B845-5D753233A40E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49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50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51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5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5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ppw126\Desktop\rogo_IMG\rogo_IMG\25%_rogo.png"/>
          <p:cNvPicPr/>
          <p:nvPr/>
        </p:nvPicPr>
        <p:blipFill>
          <a:blip r:embed="rId3"/>
          <a:stretch/>
        </p:blipFill>
        <p:spPr>
          <a:xfrm>
            <a:off x="395280" y="115920"/>
            <a:ext cx="576360" cy="582480"/>
          </a:xfrm>
          <a:prstGeom prst="rect">
            <a:avLst/>
          </a:prstGeom>
          <a:ln w="0">
            <a:noFill/>
          </a:ln>
        </p:spPr>
      </p:pic>
      <p:grpSp>
        <p:nvGrpSpPr>
          <p:cNvPr id="96" name="グループ化 2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97" name="グループ化 23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98" name="グループ化 2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99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1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グループ化 24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03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43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44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45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46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8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50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190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191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192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193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95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6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197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640B-073E-4F16-B3CB-6A75BA39AF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239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240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241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242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44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246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8" name="PlaceHolder 1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C37F-A7E8-4314-BAF1-E2F7337DB2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B30E-CB84-45B3-9C93-D1C7594616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2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3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3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3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3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7" name="PlaceHolder 1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6718-E0AB-4905-8A89-5AFA2F44C7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Users\ppw126\Desktop\rogo_IMG\rogo_IMG\Letterhea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ppw126\Desktop\rogo_IMG\rogo_IMG\NIIGATA_UNIVERSITY.png"/>
          <p:cNvPicPr/>
          <p:nvPr/>
        </p:nvPicPr>
        <p:blipFill>
          <a:blip r:embed="rId3"/>
          <a:stretch/>
        </p:blipFill>
        <p:spPr>
          <a:xfrm>
            <a:off x="3478320" y="333360"/>
            <a:ext cx="2187360" cy="20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グループ化 2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grpSp>
          <p:nvGrpSpPr>
            <p:cNvPr id="379" name="グループ化 16"/>
            <p:cNvGrpSpPr/>
            <p:nvPr/>
          </p:nvGrpSpPr>
          <p:grpSpPr>
            <a:xfrm>
              <a:off x="0" y="6308640"/>
              <a:ext cx="9144000" cy="549360"/>
              <a:chOff x="0" y="6308640"/>
              <a:chExt cx="9144000" cy="549360"/>
            </a:xfrm>
          </p:grpSpPr>
          <p:grpSp>
            <p:nvGrpSpPr>
              <p:cNvPr id="380" name="グループ化 17"/>
              <p:cNvGrpSpPr/>
              <p:nvPr/>
            </p:nvGrpSpPr>
            <p:grpSpPr>
              <a:xfrm>
                <a:off x="0" y="6308640"/>
                <a:ext cx="9144000" cy="549360"/>
                <a:chOff x="0" y="6308640"/>
                <a:chExt cx="9144000" cy="549360"/>
              </a:xfrm>
            </p:grpSpPr>
            <p:pic>
              <p:nvPicPr>
                <p:cNvPr id="381" name="Picture 5" descr="C:\Users\ppw126\Desktop\rogo_IMG\rogo_IMG\Letterhead.png"/>
                <p:cNvPicPr/>
                <p:nvPr/>
              </p:nvPicPr>
              <p:blipFill>
                <a:blip r:embed="rId4"/>
                <a:srcRect l="0" t="0" r="666" b="0"/>
                <a:stretch/>
              </p:blipFill>
              <p:spPr>
                <a:xfrm>
                  <a:off x="3714120" y="6308640"/>
                  <a:ext cx="542988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5" descr="C:\Users\ppw126\Desktop\rogo_IMG\rogo_IMG\Letterhead.png"/>
                <p:cNvPicPr/>
                <p:nvPr/>
              </p:nvPicPr>
              <p:blipFill>
                <a:blip r:embed="rId5"/>
                <a:srcRect l="0" t="0" r="45841" b="0"/>
                <a:stretch/>
              </p:blipFill>
              <p:spPr>
                <a:xfrm>
                  <a:off x="0" y="6308640"/>
                  <a:ext cx="3937320" cy="54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83" name="Picture 3" descr="C:\Users\ppw126\Desktop\rogo_IMG\rogo_IMG\25%_rogo.png"/>
              <p:cNvPicPr/>
              <p:nvPr/>
            </p:nvPicPr>
            <p:blipFill>
              <a:blip r:embed="rId6"/>
              <a:stretch/>
            </p:blipFill>
            <p:spPr>
              <a:xfrm>
                <a:off x="6489000" y="6408720"/>
                <a:ext cx="29268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4" name="グループ化 1"/>
            <p:cNvGrpSpPr/>
            <p:nvPr/>
          </p:nvGrpSpPr>
          <p:grpSpPr>
            <a:xfrm>
              <a:off x="2363760" y="6380640"/>
              <a:ext cx="4644720" cy="432720"/>
              <a:chOff x="2363760" y="6380640"/>
              <a:chExt cx="4644720" cy="432720"/>
            </a:xfrm>
          </p:grpSpPr>
          <p:pic>
            <p:nvPicPr>
              <p:cNvPr id="385" name="Picture 3" descr="C:\Users\ppw126\Desktop\rogo_IMG\rogo_IMG\Letterhead_eng_02.png"/>
              <p:cNvPicPr/>
              <p:nvPr/>
            </p:nvPicPr>
            <p:blipFill>
              <a:blip r:embed="rId7"/>
              <a:srcRect l="0" t="10724" r="17911" b="10156"/>
              <a:stretch/>
            </p:blipFill>
            <p:spPr>
              <a:xfrm>
                <a:off x="2363760" y="6413400"/>
                <a:ext cx="44683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Picture 3" descr="C:\Users\ppw126\Desktop\rogo_IMG\rogo_IMG\25%_rogo.png"/>
              <p:cNvPicPr/>
              <p:nvPr/>
            </p:nvPicPr>
            <p:blipFill>
              <a:blip r:embed="rId8"/>
              <a:stretch/>
            </p:blipFill>
            <p:spPr>
              <a:xfrm>
                <a:off x="6645600" y="6380640"/>
                <a:ext cx="362880" cy="36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7" name="PlaceHolder 1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9F2D-B9C6-403B-A622-A1C79B9124CA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テキスト ボックス 1"/>
          <p:cNvSpPr/>
          <p:nvPr/>
        </p:nvSpPr>
        <p:spPr>
          <a:xfrm>
            <a:off x="2629800" y="1444680"/>
            <a:ext cx="388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6600"/>
                </a:solidFill>
                <a:latin typeface="Arial"/>
              </a:rPr>
              <a:t>多発肝細胞癌に対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TACE</a:t>
            </a:r>
            <a:r>
              <a:rPr b="1" lang="ja-JP" sz="5400" spc="-1" strike="noStrike">
                <a:solidFill>
                  <a:srgbClr val="006600"/>
                </a:solidFill>
                <a:latin typeface="Arial"/>
              </a:rPr>
              <a:t>を施行した一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7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現病歴　既往歴　治療介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テキスト ボックス 3"/>
          <p:cNvSpPr/>
          <p:nvPr/>
        </p:nvSpPr>
        <p:spPr>
          <a:xfrm>
            <a:off x="6300720" y="871560"/>
            <a:ext cx="2151000" cy="398880"/>
          </a:xfrm>
          <a:prstGeom prst="rect">
            <a:avLst/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歳　再発する肝細胞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テキスト ボックス 56"/>
          <p:cNvSpPr/>
          <p:nvPr/>
        </p:nvSpPr>
        <p:spPr>
          <a:xfrm>
            <a:off x="586080" y="132084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19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グループ化 7"/>
          <p:cNvGrpSpPr/>
          <p:nvPr/>
        </p:nvGrpSpPr>
        <p:grpSpPr>
          <a:xfrm>
            <a:off x="95400" y="1657440"/>
            <a:ext cx="8622720" cy="3332160"/>
            <a:chOff x="95400" y="1657440"/>
            <a:chExt cx="8622720" cy="3332160"/>
          </a:xfrm>
        </p:grpSpPr>
        <p:sp>
          <p:nvSpPr>
            <p:cNvPr id="687" name="角丸四角形 9"/>
            <p:cNvSpPr/>
            <p:nvPr/>
          </p:nvSpPr>
          <p:spPr>
            <a:xfrm>
              <a:off x="468360" y="2882880"/>
              <a:ext cx="1211040" cy="406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ＭＳ Ｐゴシック"/>
                </a:rPr>
                <a:t>TAE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施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（当院放射線科）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8" name="グループ化 5"/>
            <p:cNvGrpSpPr/>
            <p:nvPr/>
          </p:nvGrpSpPr>
          <p:grpSpPr>
            <a:xfrm>
              <a:off x="95400" y="1657440"/>
              <a:ext cx="8622720" cy="3332160"/>
              <a:chOff x="95400" y="1657440"/>
              <a:chExt cx="8622720" cy="3332160"/>
            </a:xfrm>
          </p:grpSpPr>
          <p:sp>
            <p:nvSpPr>
              <p:cNvPr id="689" name="直線コネクタ 77"/>
              <p:cNvSpPr/>
              <p:nvPr/>
            </p:nvSpPr>
            <p:spPr>
              <a:xfrm>
                <a:off x="7667640" y="2000160"/>
                <a:ext cx="0" cy="113976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直線コネクタ 51"/>
              <p:cNvSpPr/>
              <p:nvPr/>
            </p:nvSpPr>
            <p:spPr>
              <a:xfrm>
                <a:off x="2882880" y="2860560"/>
                <a:ext cx="7920" cy="121608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直線コネクタ 53"/>
              <p:cNvSpPr/>
              <p:nvPr/>
            </p:nvSpPr>
            <p:spPr>
              <a:xfrm>
                <a:off x="3967200" y="1993680"/>
                <a:ext cx="0" cy="256248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直線コネクタ 55"/>
              <p:cNvSpPr/>
              <p:nvPr/>
            </p:nvSpPr>
            <p:spPr>
              <a:xfrm>
                <a:off x="5867640" y="1987560"/>
                <a:ext cx="0" cy="126504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直線コネクタ 57"/>
              <p:cNvSpPr/>
              <p:nvPr/>
            </p:nvSpPr>
            <p:spPr>
              <a:xfrm>
                <a:off x="4788000" y="1987560"/>
                <a:ext cx="0" cy="55692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直線コネクタ 59"/>
              <p:cNvSpPr/>
              <p:nvPr/>
            </p:nvSpPr>
            <p:spPr>
              <a:xfrm>
                <a:off x="6443640" y="1989000"/>
                <a:ext cx="0" cy="173988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直線コネクタ 61"/>
              <p:cNvSpPr/>
              <p:nvPr/>
            </p:nvSpPr>
            <p:spPr>
              <a:xfrm>
                <a:off x="7093080" y="1989000"/>
                <a:ext cx="0" cy="70308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直線コネクタ 48"/>
              <p:cNvSpPr/>
              <p:nvPr/>
            </p:nvSpPr>
            <p:spPr>
              <a:xfrm>
                <a:off x="2881440" y="1989000"/>
                <a:ext cx="0" cy="55548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角丸四角形 33"/>
              <p:cNvSpPr/>
              <p:nvPr/>
            </p:nvSpPr>
            <p:spPr>
              <a:xfrm>
                <a:off x="7812360" y="3589560"/>
                <a:ext cx="865080" cy="4158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ＭＳ Ｐゴシック"/>
                  </a:rPr>
                  <a:t>TACE</a:t>
                </a:r>
                <a:r>
                  <a:rPr b="1" lang="ja-JP" sz="1100" spc="-1" strike="noStrike">
                    <a:solidFill>
                      <a:srgbClr val="ffffff"/>
                    </a:solidFill>
                    <a:latin typeface="ＭＳ Ｐゴシック"/>
                  </a:rPr>
                  <a:t>④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100" spc="-1" strike="noStrike">
                    <a:solidFill>
                      <a:srgbClr val="ffffff"/>
                    </a:solidFill>
                    <a:latin typeface="ＭＳ Ｐゴシック"/>
                  </a:rPr>
                  <a:t>（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ＭＳ Ｐゴシック"/>
                  </a:rPr>
                  <a:t>S7,S8</a:t>
                </a:r>
                <a:r>
                  <a:rPr b="1" lang="ja-JP" sz="1100" spc="-1" strike="noStrike">
                    <a:solidFill>
                      <a:srgbClr val="ffffff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角丸四角形 27"/>
              <p:cNvSpPr/>
              <p:nvPr/>
            </p:nvSpPr>
            <p:spPr>
              <a:xfrm>
                <a:off x="2368440" y="4077000"/>
                <a:ext cx="1152360" cy="433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消化器内科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紹介受診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角丸四角形 23"/>
              <p:cNvSpPr/>
              <p:nvPr/>
            </p:nvSpPr>
            <p:spPr>
              <a:xfrm>
                <a:off x="1135080" y="3414960"/>
                <a:ext cx="1276200" cy="647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腹腔鏡下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肝部分切除（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6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（当院外科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角丸四角形 13"/>
              <p:cNvSpPr/>
              <p:nvPr/>
            </p:nvSpPr>
            <p:spPr>
              <a:xfrm>
                <a:off x="4156200" y="2347920"/>
                <a:ext cx="1357200" cy="587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CT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にて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5/6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に多発再発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８単発を指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01" name="直線矢印コネクタ 4"/>
              <p:cNvCxnSpPr/>
              <p:nvPr/>
            </p:nvCxnSpPr>
            <p:spPr>
              <a:xfrm>
                <a:off x="221760" y="1960200"/>
                <a:ext cx="8496720" cy="1080"/>
              </a:xfrm>
              <a:prstGeom prst="straightConnector1">
                <a:avLst/>
              </a:prstGeom>
              <a:ln w="7632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02" name="角丸四角形 28"/>
              <p:cNvSpPr/>
              <p:nvPr/>
            </p:nvSpPr>
            <p:spPr>
              <a:xfrm>
                <a:off x="6524640" y="2357280"/>
                <a:ext cx="1606320" cy="504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CT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にて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7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、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8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に多発再発出現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曲折矢印 40"/>
              <p:cNvSpPr/>
              <p:nvPr/>
            </p:nvSpPr>
            <p:spPr>
              <a:xfrm flipH="1" rot="10800000">
                <a:off x="3206880" y="4516560"/>
                <a:ext cx="288720" cy="287280"/>
              </a:xfrm>
              <a:custGeom>
                <a:avLst/>
                <a:gdLst/>
                <a:ahLst/>
                <a:rect l="l" t="t" r="r" b="b"/>
                <a:pathLst>
                  <a:path w="288925" h="287337">
                    <a:moveTo>
                      <a:pt x="0" y="287337"/>
                    </a:moveTo>
                    <a:lnTo>
                      <a:pt x="0" y="161627"/>
                    </a:lnTo>
                    <a:cubicBezTo>
                      <a:pt x="0" y="92199"/>
                      <a:pt x="56282" y="35917"/>
                      <a:pt x="125710" y="35917"/>
                    </a:cubicBezTo>
                    <a:lnTo>
                      <a:pt x="217091" y="35917"/>
                    </a:lnTo>
                    <a:lnTo>
                      <a:pt x="217091" y="0"/>
                    </a:lnTo>
                    <a:lnTo>
                      <a:pt x="288925" y="71834"/>
                    </a:lnTo>
                    <a:lnTo>
                      <a:pt x="217091" y="143669"/>
                    </a:lnTo>
                    <a:lnTo>
                      <a:pt x="217091" y="107751"/>
                    </a:lnTo>
                    <a:lnTo>
                      <a:pt x="125710" y="107751"/>
                    </a:lnTo>
                    <a:cubicBezTo>
                      <a:pt x="95955" y="107751"/>
                      <a:pt x="71834" y="131872"/>
                      <a:pt x="71834" y="161627"/>
                    </a:cubicBezTo>
                    <a:lnTo>
                      <a:pt x="71834" y="287337"/>
                    </a:lnTo>
                    <a:lnTo>
                      <a:pt x="0" y="287337"/>
                    </a:lnTo>
                    <a:close/>
                  </a:path>
                </a:pathLst>
              </a:custGeom>
              <a:solidFill>
                <a:srgbClr val="4f6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曲折矢印 41"/>
              <p:cNvSpPr/>
              <p:nvPr/>
            </p:nvSpPr>
            <p:spPr>
              <a:xfrm flipH="1" rot="10800000">
                <a:off x="5147280" y="2924280"/>
                <a:ext cx="276120" cy="379440"/>
              </a:xfrm>
              <a:custGeom>
                <a:avLst/>
                <a:gdLst/>
                <a:ahLst/>
                <a:rect l="l" t="t" r="r" b="b"/>
                <a:pathLst>
                  <a:path w="276225" h="379413">
                    <a:moveTo>
                      <a:pt x="0" y="379413"/>
                    </a:moveTo>
                    <a:lnTo>
                      <a:pt x="0" y="155377"/>
                    </a:lnTo>
                    <a:cubicBezTo>
                      <a:pt x="0" y="88634"/>
                      <a:pt x="54105" y="34529"/>
                      <a:pt x="120848" y="34529"/>
                    </a:cubicBezTo>
                    <a:lnTo>
                      <a:pt x="207169" y="34528"/>
                    </a:lnTo>
                    <a:lnTo>
                      <a:pt x="207169" y="0"/>
                    </a:lnTo>
                    <a:lnTo>
                      <a:pt x="276225" y="69056"/>
                    </a:lnTo>
                    <a:lnTo>
                      <a:pt x="207169" y="138113"/>
                    </a:lnTo>
                    <a:lnTo>
                      <a:pt x="207169" y="103584"/>
                    </a:lnTo>
                    <a:lnTo>
                      <a:pt x="120848" y="103584"/>
                    </a:lnTo>
                    <a:cubicBezTo>
                      <a:pt x="92244" y="103584"/>
                      <a:pt x="69056" y="126772"/>
                      <a:pt x="69056" y="155376"/>
                    </a:cubicBezTo>
                    <a:lnTo>
                      <a:pt x="69056" y="379413"/>
                    </a:lnTo>
                    <a:lnTo>
                      <a:pt x="0" y="379413"/>
                    </a:lnTo>
                    <a:close/>
                  </a:path>
                </a:pathLst>
              </a:custGeom>
              <a:solidFill>
                <a:srgbClr val="4f6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曲折矢印 42"/>
              <p:cNvSpPr/>
              <p:nvPr/>
            </p:nvSpPr>
            <p:spPr>
              <a:xfrm flipH="1" rot="10800000">
                <a:off x="5724720" y="3428640"/>
                <a:ext cx="288720" cy="360360"/>
              </a:xfrm>
              <a:custGeom>
                <a:avLst/>
                <a:gdLst/>
                <a:ahLst/>
                <a:rect l="l" t="t" r="r" b="b"/>
                <a:pathLst>
                  <a:path w="288925" h="360363">
                    <a:moveTo>
                      <a:pt x="0" y="360363"/>
                    </a:moveTo>
                    <a:lnTo>
                      <a:pt x="0" y="162520"/>
                    </a:lnTo>
                    <a:cubicBezTo>
                      <a:pt x="0" y="92708"/>
                      <a:pt x="56593" y="36115"/>
                      <a:pt x="126405" y="36115"/>
                    </a:cubicBezTo>
                    <a:lnTo>
                      <a:pt x="216694" y="36116"/>
                    </a:lnTo>
                    <a:lnTo>
                      <a:pt x="216694" y="0"/>
                    </a:lnTo>
                    <a:lnTo>
                      <a:pt x="288925" y="72231"/>
                    </a:lnTo>
                    <a:lnTo>
                      <a:pt x="216694" y="144463"/>
                    </a:lnTo>
                    <a:lnTo>
                      <a:pt x="216694" y="108347"/>
                    </a:lnTo>
                    <a:lnTo>
                      <a:pt x="126405" y="108347"/>
                    </a:lnTo>
                    <a:cubicBezTo>
                      <a:pt x="96486" y="108347"/>
                      <a:pt x="72232" y="132601"/>
                      <a:pt x="72232" y="162520"/>
                    </a:cubicBezTo>
                    <a:cubicBezTo>
                      <a:pt x="72232" y="228468"/>
                      <a:pt x="72231" y="294415"/>
                      <a:pt x="72231" y="360363"/>
                    </a:cubicBezTo>
                    <a:lnTo>
                      <a:pt x="0" y="360363"/>
                    </a:lnTo>
                    <a:close/>
                  </a:path>
                </a:pathLst>
              </a:custGeom>
              <a:solidFill>
                <a:srgbClr val="4f6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曲折矢印 43"/>
              <p:cNvSpPr/>
              <p:nvPr/>
            </p:nvSpPr>
            <p:spPr>
              <a:xfrm flipH="1" rot="10800000">
                <a:off x="6948720" y="2852640"/>
                <a:ext cx="287280" cy="358560"/>
              </a:xfrm>
              <a:custGeom>
                <a:avLst/>
                <a:gdLst/>
                <a:ahLst/>
                <a:rect l="l" t="t" r="r" b="b"/>
                <a:pathLst>
                  <a:path w="287337" h="358775">
                    <a:moveTo>
                      <a:pt x="0" y="358775"/>
                    </a:moveTo>
                    <a:lnTo>
                      <a:pt x="0" y="161627"/>
                    </a:lnTo>
                    <a:cubicBezTo>
                      <a:pt x="0" y="92199"/>
                      <a:pt x="56282" y="35917"/>
                      <a:pt x="125710" y="35917"/>
                    </a:cubicBezTo>
                    <a:lnTo>
                      <a:pt x="215503" y="35917"/>
                    </a:lnTo>
                    <a:lnTo>
                      <a:pt x="215503" y="0"/>
                    </a:lnTo>
                    <a:lnTo>
                      <a:pt x="287337" y="71834"/>
                    </a:lnTo>
                    <a:lnTo>
                      <a:pt x="215503" y="143669"/>
                    </a:lnTo>
                    <a:lnTo>
                      <a:pt x="215503" y="107751"/>
                    </a:lnTo>
                    <a:lnTo>
                      <a:pt x="125710" y="107751"/>
                    </a:lnTo>
                    <a:cubicBezTo>
                      <a:pt x="95955" y="107751"/>
                      <a:pt x="71834" y="131872"/>
                      <a:pt x="71834" y="161627"/>
                    </a:cubicBezTo>
                    <a:lnTo>
                      <a:pt x="71834" y="358775"/>
                    </a:lnTo>
                    <a:lnTo>
                      <a:pt x="0" y="358775"/>
                    </a:lnTo>
                    <a:close/>
                  </a:path>
                </a:pathLst>
              </a:custGeom>
              <a:solidFill>
                <a:srgbClr val="4f6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直線コネクタ 46"/>
              <p:cNvSpPr/>
              <p:nvPr/>
            </p:nvSpPr>
            <p:spPr>
              <a:xfrm>
                <a:off x="1763640" y="1987560"/>
                <a:ext cx="7920" cy="140796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直線コネクタ 50"/>
              <p:cNvSpPr/>
              <p:nvPr/>
            </p:nvSpPr>
            <p:spPr>
              <a:xfrm>
                <a:off x="851040" y="1989000"/>
                <a:ext cx="0" cy="30924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9" name="グループ化 2"/>
              <p:cNvGrpSpPr/>
              <p:nvPr/>
            </p:nvGrpSpPr>
            <p:grpSpPr>
              <a:xfrm>
                <a:off x="95400" y="2306520"/>
                <a:ext cx="1530360" cy="850320"/>
                <a:chOff x="95400" y="2306520"/>
                <a:chExt cx="1530360" cy="850320"/>
              </a:xfrm>
            </p:grpSpPr>
            <p:sp>
              <p:nvSpPr>
                <p:cNvPr id="710" name="角丸四角形 13"/>
                <p:cNvSpPr/>
                <p:nvPr/>
              </p:nvSpPr>
              <p:spPr>
                <a:xfrm>
                  <a:off x="95400" y="2306520"/>
                  <a:ext cx="1530360" cy="47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558e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100" spc="-1" strike="noStrike">
                      <a:solidFill>
                        <a:srgbClr val="000000"/>
                      </a:solidFill>
                      <a:latin typeface="ＭＳ Ｐゴシック"/>
                    </a:rPr>
                    <a:t>肝細胞癌破裂による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100" spc="-1" strike="noStrike">
                      <a:solidFill>
                        <a:srgbClr val="000000"/>
                      </a:solidFill>
                      <a:latin typeface="ＭＳ Ｐゴシック"/>
                    </a:rPr>
                    <a:t>腹腔内出血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曲折矢印 36"/>
                <p:cNvSpPr/>
                <p:nvPr/>
              </p:nvSpPr>
              <p:spPr>
                <a:xfrm flipH="1" rot="10800000">
                  <a:off x="177840" y="2796480"/>
                  <a:ext cx="277560" cy="360360"/>
                </a:xfrm>
                <a:custGeom>
                  <a:avLst/>
                  <a:gdLst/>
                  <a:ahLst/>
                  <a:rect l="l" t="t" r="r" b="b"/>
                  <a:pathLst>
                    <a:path w="287009" h="360419">
                      <a:moveTo>
                        <a:pt x="0" y="360419"/>
                      </a:moveTo>
                      <a:lnTo>
                        <a:pt x="0" y="161443"/>
                      </a:lnTo>
                      <a:cubicBezTo>
                        <a:pt x="0" y="92095"/>
                        <a:pt x="56218" y="35877"/>
                        <a:pt x="125566" y="35877"/>
                      </a:cubicBezTo>
                      <a:lnTo>
                        <a:pt x="215257" y="35876"/>
                      </a:lnTo>
                      <a:lnTo>
                        <a:pt x="215257" y="0"/>
                      </a:lnTo>
                      <a:lnTo>
                        <a:pt x="287009" y="71752"/>
                      </a:lnTo>
                      <a:lnTo>
                        <a:pt x="215257" y="143505"/>
                      </a:lnTo>
                      <a:lnTo>
                        <a:pt x="215257" y="107628"/>
                      </a:lnTo>
                      <a:lnTo>
                        <a:pt x="125566" y="107628"/>
                      </a:lnTo>
                      <a:cubicBezTo>
                        <a:pt x="95845" y="107628"/>
                        <a:pt x="71752" y="131721"/>
                        <a:pt x="71752" y="161442"/>
                      </a:cubicBezTo>
                      <a:lnTo>
                        <a:pt x="71752" y="360419"/>
                      </a:lnTo>
                      <a:lnTo>
                        <a:pt x="0" y="360419"/>
                      </a:lnTo>
                      <a:close/>
                    </a:path>
                  </a:pathLst>
                </a:custGeom>
                <a:solidFill>
                  <a:srgbClr val="4f62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曲折矢印 36"/>
              <p:cNvSpPr/>
              <p:nvPr/>
            </p:nvSpPr>
            <p:spPr>
              <a:xfrm flipH="1" rot="10800000">
                <a:off x="826920" y="3295440"/>
                <a:ext cx="279360" cy="360360"/>
              </a:xfrm>
              <a:custGeom>
                <a:avLst/>
                <a:gdLst/>
                <a:ahLst/>
                <a:rect l="l" t="t" r="r" b="b"/>
                <a:pathLst>
                  <a:path w="279400" h="360363">
                    <a:moveTo>
                      <a:pt x="0" y="360363"/>
                    </a:moveTo>
                    <a:lnTo>
                      <a:pt x="0" y="157163"/>
                    </a:lnTo>
                    <a:cubicBezTo>
                      <a:pt x="0" y="89653"/>
                      <a:pt x="54728" y="34925"/>
                      <a:pt x="122238" y="34925"/>
                    </a:cubicBezTo>
                    <a:lnTo>
                      <a:pt x="209550" y="34925"/>
                    </a:lnTo>
                    <a:lnTo>
                      <a:pt x="209550" y="0"/>
                    </a:lnTo>
                    <a:lnTo>
                      <a:pt x="279400" y="69850"/>
                    </a:lnTo>
                    <a:lnTo>
                      <a:pt x="209550" y="139700"/>
                    </a:lnTo>
                    <a:lnTo>
                      <a:pt x="209550" y="104775"/>
                    </a:lnTo>
                    <a:lnTo>
                      <a:pt x="122238" y="104775"/>
                    </a:lnTo>
                    <a:cubicBezTo>
                      <a:pt x="93305" y="104775"/>
                      <a:pt x="69850" y="128230"/>
                      <a:pt x="69850" y="157163"/>
                    </a:cubicBezTo>
                    <a:lnTo>
                      <a:pt x="69850" y="360363"/>
                    </a:lnTo>
                    <a:lnTo>
                      <a:pt x="0" y="360363"/>
                    </a:lnTo>
                    <a:close/>
                  </a:path>
                </a:pathLst>
              </a:custGeom>
              <a:solidFill>
                <a:srgbClr val="4f6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角丸四角形 13"/>
              <p:cNvSpPr/>
              <p:nvPr/>
            </p:nvSpPr>
            <p:spPr>
              <a:xfrm>
                <a:off x="1987560" y="2324160"/>
                <a:ext cx="1828800" cy="615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558e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術後腫瘍マーカー高値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遷延し、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CT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施行したところ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5/6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に多発再発出現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角丸四角形 9"/>
              <p:cNvSpPr/>
              <p:nvPr/>
            </p:nvSpPr>
            <p:spPr>
              <a:xfrm>
                <a:off x="3521160" y="4556520"/>
                <a:ext cx="888840" cy="433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TACE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（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5/6)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角丸四角形 9"/>
              <p:cNvSpPr/>
              <p:nvPr/>
            </p:nvSpPr>
            <p:spPr>
              <a:xfrm>
                <a:off x="5435640" y="3068640"/>
                <a:ext cx="928440" cy="350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放射線治療（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5/6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角丸四角形 9"/>
              <p:cNvSpPr/>
              <p:nvPr/>
            </p:nvSpPr>
            <p:spPr>
              <a:xfrm>
                <a:off x="7236000" y="2997360"/>
                <a:ext cx="888840" cy="433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TACE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③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（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７、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8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角丸四角形 9"/>
              <p:cNvSpPr/>
              <p:nvPr/>
            </p:nvSpPr>
            <p:spPr>
              <a:xfrm>
                <a:off x="6012000" y="3573720"/>
                <a:ext cx="88884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TACE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②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（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ＭＳ Ｐゴシック"/>
                  </a:rPr>
                  <a:t>S8</a:t>
                </a:r>
                <a:r>
                  <a:rPr b="0" lang="ja-JP" sz="1100" spc="-1" strike="noStrike">
                    <a:solidFill>
                      <a:srgbClr val="000000"/>
                    </a:solidFill>
                    <a:latin typeface="ＭＳ Ｐゴシック"/>
                  </a:rPr>
                  <a:t>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直線コネクタ 78"/>
              <p:cNvSpPr/>
              <p:nvPr/>
            </p:nvSpPr>
            <p:spPr>
              <a:xfrm>
                <a:off x="8210520" y="2000160"/>
                <a:ext cx="0" cy="1573200"/>
              </a:xfrm>
              <a:prstGeom prst="line">
                <a:avLst/>
              </a:prstGeom>
              <a:ln w="381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9" name="グループ化 2"/>
              <p:cNvGrpSpPr/>
              <p:nvPr/>
            </p:nvGrpSpPr>
            <p:grpSpPr>
              <a:xfrm>
                <a:off x="587520" y="1657440"/>
                <a:ext cx="7945560" cy="307080"/>
                <a:chOff x="587520" y="1657440"/>
                <a:chExt cx="7945560" cy="307080"/>
              </a:xfrm>
            </p:grpSpPr>
            <p:sp>
              <p:nvSpPr>
                <p:cNvPr id="720" name="テキスト ボックス 30"/>
                <p:cNvSpPr/>
                <p:nvPr/>
              </p:nvSpPr>
              <p:spPr>
                <a:xfrm>
                  <a:off x="4500720" y="1657440"/>
                  <a:ext cx="57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10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テキスト ボックス 31"/>
                <p:cNvSpPr/>
                <p:nvPr/>
              </p:nvSpPr>
              <p:spPr>
                <a:xfrm>
                  <a:off x="5580360" y="1657440"/>
                  <a:ext cx="576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11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テキスト ボックス 32"/>
                <p:cNvSpPr/>
                <p:nvPr/>
              </p:nvSpPr>
              <p:spPr>
                <a:xfrm>
                  <a:off x="6870960" y="1657440"/>
                  <a:ext cx="576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5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テキスト ボックス 34"/>
                <p:cNvSpPr/>
                <p:nvPr/>
              </p:nvSpPr>
              <p:spPr>
                <a:xfrm>
                  <a:off x="6228000" y="1657440"/>
                  <a:ext cx="504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2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テキスト ボックス 15"/>
                <p:cNvSpPr/>
                <p:nvPr/>
              </p:nvSpPr>
              <p:spPr>
                <a:xfrm>
                  <a:off x="1548000" y="1657440"/>
                  <a:ext cx="576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400" spc="-1" strike="noStrike">
                      <a:solidFill>
                        <a:srgbClr val="ff0000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3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テキスト ボックス 16"/>
                <p:cNvSpPr/>
                <p:nvPr/>
              </p:nvSpPr>
              <p:spPr>
                <a:xfrm>
                  <a:off x="2603520" y="1657440"/>
                  <a:ext cx="6602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400" spc="-1" strike="noStrike">
                      <a:solidFill>
                        <a:srgbClr val="ff0000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4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テキスト ボックス 73"/>
                <p:cNvSpPr/>
                <p:nvPr/>
              </p:nvSpPr>
              <p:spPr>
                <a:xfrm>
                  <a:off x="3683160" y="1657440"/>
                  <a:ext cx="949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6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テキスト ボックス 15"/>
                <p:cNvSpPr/>
                <p:nvPr/>
              </p:nvSpPr>
              <p:spPr>
                <a:xfrm>
                  <a:off x="587520" y="1657440"/>
                  <a:ext cx="576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1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テキスト ボックス 32"/>
                <p:cNvSpPr/>
                <p:nvPr/>
              </p:nvSpPr>
              <p:spPr>
                <a:xfrm>
                  <a:off x="7432920" y="1657440"/>
                  <a:ext cx="576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７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テキスト ボックス 32"/>
                <p:cNvSpPr/>
                <p:nvPr/>
              </p:nvSpPr>
              <p:spPr>
                <a:xfrm>
                  <a:off x="7957080" y="1657440"/>
                  <a:ext cx="576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1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0" name="曲折矢印 43"/>
              <p:cNvSpPr/>
              <p:nvPr/>
            </p:nvSpPr>
            <p:spPr>
              <a:xfrm flipH="1" rot="10800000">
                <a:off x="7524720" y="3438720"/>
                <a:ext cx="287280" cy="358560"/>
              </a:xfrm>
              <a:custGeom>
                <a:avLst/>
                <a:gdLst/>
                <a:ahLst/>
                <a:rect l="l" t="t" r="r" b="b"/>
                <a:pathLst>
                  <a:path w="287338" h="358775">
                    <a:moveTo>
                      <a:pt x="0" y="358775"/>
                    </a:moveTo>
                    <a:lnTo>
                      <a:pt x="0" y="161628"/>
                    </a:lnTo>
                    <a:cubicBezTo>
                      <a:pt x="0" y="92200"/>
                      <a:pt x="56282" y="35918"/>
                      <a:pt x="125710" y="35918"/>
                    </a:cubicBezTo>
                    <a:lnTo>
                      <a:pt x="215504" y="35917"/>
                    </a:lnTo>
                    <a:lnTo>
                      <a:pt x="215504" y="0"/>
                    </a:lnTo>
                    <a:lnTo>
                      <a:pt x="287338" y="71835"/>
                    </a:lnTo>
                    <a:lnTo>
                      <a:pt x="215504" y="143669"/>
                    </a:lnTo>
                    <a:lnTo>
                      <a:pt x="215504" y="107752"/>
                    </a:lnTo>
                    <a:lnTo>
                      <a:pt x="125710" y="107752"/>
                    </a:lnTo>
                    <a:cubicBezTo>
                      <a:pt x="95955" y="107752"/>
                      <a:pt x="71834" y="131873"/>
                      <a:pt x="71834" y="161628"/>
                    </a:cubicBezTo>
                    <a:cubicBezTo>
                      <a:pt x="71834" y="227344"/>
                      <a:pt x="71835" y="293059"/>
                      <a:pt x="71835" y="358775"/>
                    </a:cubicBezTo>
                    <a:lnTo>
                      <a:pt x="0" y="358775"/>
                    </a:lnTo>
                    <a:close/>
                  </a:path>
                </a:pathLst>
              </a:custGeom>
              <a:solidFill>
                <a:srgbClr val="4f6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1" name="テキスト ボックス 56"/>
          <p:cNvSpPr/>
          <p:nvPr/>
        </p:nvSpPr>
        <p:spPr>
          <a:xfrm>
            <a:off x="7755120" y="131436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テキスト ボックス 56"/>
          <p:cNvSpPr/>
          <p:nvPr/>
        </p:nvSpPr>
        <p:spPr>
          <a:xfrm>
            <a:off x="6108840" y="132084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20</a:t>
            </a: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グループ化 8"/>
          <p:cNvGrpSpPr/>
          <p:nvPr/>
        </p:nvGrpSpPr>
        <p:grpSpPr>
          <a:xfrm>
            <a:off x="415800" y="4287960"/>
            <a:ext cx="2919600" cy="1919160"/>
            <a:chOff x="415800" y="4287960"/>
            <a:chExt cx="2919600" cy="1919160"/>
          </a:xfrm>
        </p:grpSpPr>
        <p:pic>
          <p:nvPicPr>
            <p:cNvPr id="734" name="図 2" descr=""/>
            <p:cNvPicPr/>
            <p:nvPr/>
          </p:nvPicPr>
          <p:blipFill>
            <a:blip r:embed="rId1"/>
            <a:srcRect l="13723" t="11470" r="13496" b="14124"/>
            <a:stretch/>
          </p:blipFill>
          <p:spPr>
            <a:xfrm>
              <a:off x="415800" y="4287960"/>
              <a:ext cx="1878120" cy="1919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35" name="直線矢印コネクタ 6"/>
            <p:cNvCxnSpPr/>
            <p:nvPr/>
          </p:nvCxnSpPr>
          <p:spPr>
            <a:xfrm flipH="1">
              <a:off x="1582200" y="5732640"/>
              <a:ext cx="829440" cy="17352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36" name="テキスト ボックス 10"/>
            <p:cNvSpPr/>
            <p:nvPr/>
          </p:nvSpPr>
          <p:spPr>
            <a:xfrm>
              <a:off x="2446560" y="5594400"/>
              <a:ext cx="88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出血部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7" name="図 2" descr=""/>
          <p:cNvPicPr/>
          <p:nvPr/>
        </p:nvPicPr>
        <p:blipFill>
          <a:blip r:embed="rId2"/>
          <a:stretch/>
        </p:blipFill>
        <p:spPr>
          <a:xfrm>
            <a:off x="6480000" y="4295880"/>
            <a:ext cx="22561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グループ化 15"/>
          <p:cNvGrpSpPr/>
          <p:nvPr/>
        </p:nvGrpSpPr>
        <p:grpSpPr>
          <a:xfrm>
            <a:off x="1403280" y="1068480"/>
            <a:ext cx="2664000" cy="5673600"/>
            <a:chOff x="1403280" y="1068480"/>
            <a:chExt cx="2664000" cy="5673600"/>
          </a:xfrm>
        </p:grpSpPr>
        <p:pic>
          <p:nvPicPr>
            <p:cNvPr id="739" name="Picture 3" descr="C:\Users\p039eb\Desktop\ポリクリ\全身図：前.png"/>
            <p:cNvPicPr/>
            <p:nvPr/>
          </p:nvPicPr>
          <p:blipFill>
            <a:blip r:embed="rId1"/>
            <a:stretch/>
          </p:blipFill>
          <p:spPr>
            <a:xfrm>
              <a:off x="1403280" y="1068480"/>
              <a:ext cx="2664000" cy="56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直線コネクタ 14"/>
            <p:cNvSpPr/>
            <p:nvPr/>
          </p:nvSpPr>
          <p:spPr>
            <a:xfrm>
              <a:off x="2776680" y="3141720"/>
              <a:ext cx="0" cy="25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3760" y="38160"/>
            <a:ext cx="9144000" cy="62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身体所見のまと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テキスト ボックス 4"/>
          <p:cNvSpPr/>
          <p:nvPr/>
        </p:nvSpPr>
        <p:spPr>
          <a:xfrm>
            <a:off x="5014800" y="1197000"/>
            <a:ext cx="4116600" cy="4512960"/>
          </a:xfrm>
          <a:custGeom>
            <a:avLst/>
            <a:gdLst>
              <a:gd name="textAreaLeft" fmla="*/ 200880 w 4116600"/>
              <a:gd name="textAreaRight" fmla="*/ 3915720 w 4116600"/>
              <a:gd name="textAreaTop" fmla="*/ 200880 h 4512960"/>
              <a:gd name="textAreaBottom" fmla="*/ 4312080 h 4512960"/>
            </a:gdLst>
            <a:ahLst/>
            <a:rect l="textAreaLeft" t="textAreaTop" r="textAreaRight" b="textAreaBottom"/>
            <a:pathLst>
              <a:path w="21600" h="23680">
                <a:moveTo>
                  <a:pt x="3600" y="0"/>
                </a:moveTo>
                <a:arcTo wR="3600" hR="3600" stAng="16200000" swAng="-5400000"/>
                <a:lnTo>
                  <a:pt x="0" y="20080"/>
                </a:lnTo>
                <a:arcTo wR="3600" hR="3600" stAng="10800000" swAng="-5400000"/>
                <a:lnTo>
                  <a:pt x="18000" y="236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入院時所見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KT: 37.0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℃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, SpO2: 96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room a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下腿浮腫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生活歴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飲酒歴：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喫煙歴：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家族歴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特記すべきこと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既往歴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糖尿病、胃潰瘍、脂質異常症、過活動性膀胱、内痔核、左緑内障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ope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019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HCC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にて肝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S6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切除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【アレルギー】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内服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ボノプラザンフマル酸塩錠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20mg)1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朝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トリメブチンマレイン酸塩錠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100mg)3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毎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メコバラミン錠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500ug)3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毎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モサプリドクエン酸塩水和物錠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5mg)3T 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毎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酪酸塩配合剤散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毎食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プレカバリン口腔内崩壊錠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5mg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cap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就寝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酸化マグネシウム錠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00mg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毎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ジメモルファンリン酸塩錠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0mg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毎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エピナスチン塩酸塩錠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10mg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T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分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朝食後、夕食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角丸四角形吹き出し 5"/>
          <p:cNvSpPr/>
          <p:nvPr/>
        </p:nvSpPr>
        <p:spPr>
          <a:xfrm>
            <a:off x="611280" y="981000"/>
            <a:ext cx="1728720" cy="854280"/>
          </a:xfrm>
          <a:prstGeom prst="wedgeRoundRectCallout">
            <a:avLst>
              <a:gd name="adj1" fmla="val 41222"/>
              <a:gd name="adj2" fmla="val 6423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意識清明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リンパ節腫脹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眼瞼結膜：貧血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眼球結膜：黄染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角丸四角形吹き出し 11"/>
          <p:cNvSpPr/>
          <p:nvPr/>
        </p:nvSpPr>
        <p:spPr>
          <a:xfrm>
            <a:off x="108000" y="2112840"/>
            <a:ext cx="2413080" cy="792360"/>
          </a:xfrm>
          <a:prstGeom prst="wedgeRoundRectCallout">
            <a:avLst>
              <a:gd name="adj1" fmla="val 60726"/>
              <a:gd name="adj2" fmla="val 32495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HR: 86, BP: 122/7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Heart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：心音正常、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no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murm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Lung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：呼吸音正常、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no ra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角丸四角形吹き出し 12"/>
          <p:cNvSpPr/>
          <p:nvPr/>
        </p:nvSpPr>
        <p:spPr>
          <a:xfrm>
            <a:off x="3348000" y="2219400"/>
            <a:ext cx="1655640" cy="1657440"/>
          </a:xfrm>
          <a:prstGeom prst="wedgeRoundRectCallout">
            <a:avLst>
              <a:gd name="adj1" fmla="val -59972"/>
              <a:gd name="adj2" fmla="val 33949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腹部：平坦、軟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ＭＳ Ｐゴシック"/>
              </a:rPr>
              <a:t>圧痛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ＭＳ Ｐゴシック"/>
              </a:rPr>
              <a:t>腸蠕動音正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300" spc="-1" strike="noStrike">
                <a:solidFill>
                  <a:srgbClr val="000000"/>
                </a:solidFill>
                <a:latin typeface="ＭＳ Ｐゴシック"/>
              </a:rPr>
              <a:t>血管雑音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脾・腎触知しない腫瘤触知しな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クモ状血管腫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角丸四角形吹き出し 27"/>
          <p:cNvSpPr/>
          <p:nvPr/>
        </p:nvSpPr>
        <p:spPr>
          <a:xfrm>
            <a:off x="1042920" y="5603760"/>
            <a:ext cx="1297080" cy="432000"/>
          </a:xfrm>
          <a:prstGeom prst="wedgeRoundRectCallout">
            <a:avLst>
              <a:gd name="adj1" fmla="val 67060"/>
              <a:gd name="adj2" fmla="val 389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下腿浮腫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角丸四角形吹き出し 16"/>
          <p:cNvSpPr/>
          <p:nvPr/>
        </p:nvSpPr>
        <p:spPr>
          <a:xfrm>
            <a:off x="250920" y="3227400"/>
            <a:ext cx="1944720" cy="1800360"/>
          </a:xfrm>
          <a:prstGeom prst="wedgeRoundRectCallout">
            <a:avLst>
              <a:gd name="adj1" fmla="val 63402"/>
              <a:gd name="adj2" fmla="val -51106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肝：触知しな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黄疸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、腹水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Child-Pugh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分類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点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正中部に手術痕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＋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0000"/>
                </a:solidFill>
                <a:uFillTx/>
                <a:latin typeface="ＭＳ Ｐゴシック"/>
              </a:rPr>
              <a:t>2019</a:t>
            </a:r>
            <a:r>
              <a:rPr b="1" lang="ja-JP" sz="1300" spc="-1" strike="noStrike" u="sng">
                <a:solidFill>
                  <a:srgbClr val="ff0000"/>
                </a:solidFill>
                <a:uFillTx/>
                <a:latin typeface="ＭＳ Ｐゴシック"/>
              </a:rPr>
              <a:t>年</a:t>
            </a:r>
            <a:r>
              <a:rPr b="1" lang="en-US" sz="1300" spc="-1" strike="noStrike" u="sng">
                <a:solidFill>
                  <a:srgbClr val="ff0000"/>
                </a:solidFill>
                <a:uFillTx/>
                <a:latin typeface="ＭＳ Ｐゴシック"/>
              </a:rPr>
              <a:t>3/2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ff0000"/>
                </a:solidFill>
                <a:latin typeface="ＭＳ Ｐゴシック"/>
              </a:rPr>
              <a:t>腹腔鏡下肝部分切除術（</a:t>
            </a:r>
            <a:r>
              <a:rPr b="1" lang="en-US" sz="1300" spc="-1" strike="noStrike">
                <a:solidFill>
                  <a:srgbClr val="ff0000"/>
                </a:solidFill>
                <a:latin typeface="ＭＳ Ｐゴシック"/>
              </a:rPr>
              <a:t>S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角丸四角形吹き出し 17"/>
          <p:cNvSpPr/>
          <p:nvPr/>
        </p:nvSpPr>
        <p:spPr>
          <a:xfrm>
            <a:off x="3635280" y="4595760"/>
            <a:ext cx="1224000" cy="432000"/>
          </a:xfrm>
          <a:prstGeom prst="wedgeRoundRectCallout">
            <a:avLst>
              <a:gd name="adj1" fmla="val -41166"/>
              <a:gd name="adj2" fmla="val -87467"/>
              <a:gd name="adj3" fmla="val 1666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手掌紅斑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3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角丸四角形 27"/>
          <p:cNvSpPr/>
          <p:nvPr/>
        </p:nvSpPr>
        <p:spPr>
          <a:xfrm>
            <a:off x="689040" y="4481640"/>
            <a:ext cx="4292640" cy="136368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DP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肝動注と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CE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同時に行う予定であったが、術中に、腫瘍内動静脈シャントがあることが分かったため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DP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0mg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）右肝動注のみを実施し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CE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は行わなかっ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54080" y="46080"/>
            <a:ext cx="9144000" cy="79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6600"/>
                </a:solidFill>
                <a:latin typeface="Calibri"/>
              </a:rPr>
              <a:t>治療経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1" name="グループ化 2"/>
          <p:cNvGrpSpPr/>
          <p:nvPr/>
        </p:nvGrpSpPr>
        <p:grpSpPr>
          <a:xfrm>
            <a:off x="371520" y="1044720"/>
            <a:ext cx="4292640" cy="2908080"/>
            <a:chOff x="371520" y="1044720"/>
            <a:chExt cx="4292640" cy="2908080"/>
          </a:xfrm>
        </p:grpSpPr>
        <p:pic>
          <p:nvPicPr>
            <p:cNvPr id="752" name="図 5" descr=""/>
            <p:cNvPicPr/>
            <p:nvPr/>
          </p:nvPicPr>
          <p:blipFill>
            <a:blip r:embed="rId1"/>
            <a:srcRect l="14565" t="31619" r="33462" b="5753"/>
            <a:stretch/>
          </p:blipFill>
          <p:spPr>
            <a:xfrm>
              <a:off x="371520" y="1044720"/>
              <a:ext cx="4292640" cy="29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楕円 1"/>
            <p:cNvSpPr/>
            <p:nvPr/>
          </p:nvSpPr>
          <p:spPr>
            <a:xfrm>
              <a:off x="1935000" y="1811160"/>
              <a:ext cx="28728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楕円 12"/>
            <p:cNvSpPr/>
            <p:nvPr/>
          </p:nvSpPr>
          <p:spPr>
            <a:xfrm>
              <a:off x="2654280" y="214488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楕円 13"/>
            <p:cNvSpPr/>
            <p:nvPr/>
          </p:nvSpPr>
          <p:spPr>
            <a:xfrm>
              <a:off x="2583000" y="1450800"/>
              <a:ext cx="28728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楕円 14"/>
            <p:cNvSpPr/>
            <p:nvPr/>
          </p:nvSpPr>
          <p:spPr>
            <a:xfrm>
              <a:off x="2470320" y="3078360"/>
              <a:ext cx="647640" cy="64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グループ化 7"/>
          <p:cNvGrpSpPr/>
          <p:nvPr/>
        </p:nvGrpSpPr>
        <p:grpSpPr>
          <a:xfrm>
            <a:off x="5178600" y="1044720"/>
            <a:ext cx="3685680" cy="2518920"/>
            <a:chOff x="5178600" y="1044720"/>
            <a:chExt cx="3685680" cy="2518920"/>
          </a:xfrm>
        </p:grpSpPr>
        <p:pic>
          <p:nvPicPr>
            <p:cNvPr id="758" name="図 3" descr=""/>
            <p:cNvPicPr/>
            <p:nvPr/>
          </p:nvPicPr>
          <p:blipFill>
            <a:blip r:embed="rId2"/>
            <a:srcRect l="11786" t="0" r="0" b="10460"/>
            <a:stretch/>
          </p:blipFill>
          <p:spPr>
            <a:xfrm rot="5400000">
              <a:off x="5984280" y="667800"/>
              <a:ext cx="2447280" cy="331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テキスト ボックス 4"/>
            <p:cNvSpPr/>
            <p:nvPr/>
          </p:nvSpPr>
          <p:spPr>
            <a:xfrm>
              <a:off x="6165720" y="189756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S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テキスト ボックス 17"/>
            <p:cNvSpPr/>
            <p:nvPr/>
          </p:nvSpPr>
          <p:spPr>
            <a:xfrm>
              <a:off x="5546520" y="170892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S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テキスト ボックス 18"/>
            <p:cNvSpPr/>
            <p:nvPr/>
          </p:nvSpPr>
          <p:spPr>
            <a:xfrm>
              <a:off x="5522400" y="243072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S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テキスト ボックス 19"/>
            <p:cNvSpPr/>
            <p:nvPr/>
          </p:nvSpPr>
          <p:spPr>
            <a:xfrm>
              <a:off x="6472440" y="281448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S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テキスト ボックス 20"/>
            <p:cNvSpPr/>
            <p:nvPr/>
          </p:nvSpPr>
          <p:spPr>
            <a:xfrm>
              <a:off x="6349680" y="1044720"/>
              <a:ext cx="17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70c0"/>
                  </a:solidFill>
                  <a:latin typeface="Arial"/>
                </a:rPr>
                <a:t>腫瘍内シャン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テキスト ボックス 22"/>
            <p:cNvSpPr/>
            <p:nvPr/>
          </p:nvSpPr>
          <p:spPr>
            <a:xfrm>
              <a:off x="5178600" y="3287160"/>
              <a:ext cx="110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</a:rPr>
                <a:t>S6</a:t>
              </a:r>
              <a:r>
                <a:rPr b="0" lang="ja-JP" sz="1200" spc="-1" strike="noStrike">
                  <a:solidFill>
                    <a:srgbClr val="003300"/>
                  </a:solidFill>
                  <a:latin typeface="Arial"/>
                </a:rPr>
                <a:t>切除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グループ化 3"/>
          <p:cNvGrpSpPr/>
          <p:nvPr/>
        </p:nvGrpSpPr>
        <p:grpSpPr>
          <a:xfrm>
            <a:off x="5580000" y="3754440"/>
            <a:ext cx="2925720" cy="2448000"/>
            <a:chOff x="5580000" y="3754440"/>
            <a:chExt cx="2925720" cy="2448000"/>
          </a:xfrm>
        </p:grpSpPr>
        <p:grpSp>
          <p:nvGrpSpPr>
            <p:cNvPr id="766" name="グループ化 1"/>
            <p:cNvGrpSpPr/>
            <p:nvPr/>
          </p:nvGrpSpPr>
          <p:grpSpPr>
            <a:xfrm>
              <a:off x="5580000" y="3754440"/>
              <a:ext cx="2925720" cy="2448000"/>
              <a:chOff x="5580000" y="3754440"/>
              <a:chExt cx="2925720" cy="2448000"/>
            </a:xfrm>
          </p:grpSpPr>
          <p:pic>
            <p:nvPicPr>
              <p:cNvPr id="767" name="図 2" descr=""/>
              <p:cNvPicPr/>
              <p:nvPr/>
            </p:nvPicPr>
            <p:blipFill>
              <a:blip r:embed="rId3"/>
              <a:srcRect l="0" t="12466" r="0" b="12466"/>
              <a:stretch/>
            </p:blipFill>
            <p:spPr>
              <a:xfrm>
                <a:off x="5580000" y="3754440"/>
                <a:ext cx="2925720" cy="24480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768" name="直線矢印コネクタ 10"/>
              <p:cNvCxnSpPr/>
              <p:nvPr/>
            </p:nvCxnSpPr>
            <p:spPr>
              <a:xfrm flipH="1" flipV="1">
                <a:off x="6476040" y="4407840"/>
                <a:ext cx="224280" cy="430920"/>
              </a:xfrm>
              <a:prstGeom prst="straightConnector1">
                <a:avLst/>
              </a:prstGeom>
              <a:ln w="28440">
                <a:solidFill>
                  <a:srgbClr val="1f497d"/>
                </a:solidFill>
                <a:miter/>
                <a:tailEnd len="med" type="triangle" w="med"/>
              </a:ln>
            </p:spPr>
          </p:cxnSp>
        </p:grpSp>
        <p:sp>
          <p:nvSpPr>
            <p:cNvPr id="769" name="テキスト ボックス 2"/>
            <p:cNvSpPr/>
            <p:nvPr/>
          </p:nvSpPr>
          <p:spPr>
            <a:xfrm>
              <a:off x="6545880" y="4793760"/>
              <a:ext cx="126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肝静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6:56:55Z</dcterms:created>
  <dc:creator>TERAI</dc:creator>
  <dc:description/>
  <dc:language>en-US</dc:language>
  <cp:lastModifiedBy>小山 究太郎</cp:lastModifiedBy>
  <cp:lastPrinted>2015-02-02T01:37:24Z</cp:lastPrinted>
  <dcterms:modified xsi:type="dcterms:W3CDTF">2021-06-15T08:50:12Z</dcterms:modified>
  <cp:revision>112</cp:revision>
  <dc:subject/>
  <dc:title>肝胆膵病態学総論</dc:title>
</cp:coreProperties>
</file>