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dt" idx="2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ftr" idx="2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 type="sldNum" idx="2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71A2-FB4B-4D51-B52A-A5A60F64B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実習時、実際の学生作らせてい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絵のうち最初の臨床経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3A75-D233-485B-AA01-6CD9E7D9FD5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身体所見のまとめ、全身像で表現させ、また内服剤を使った上での現症を作成してもらっ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多くの投薬がされて、今があれば大事な情報なのでそう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FBBC-AB0E-4E02-839C-8392B4C163B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肝臓で入院した患者の肝臓の状態を、今までの治療歴を踏ま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にまとめ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のよ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をつくることで、患者の全体像がわかり経過がわかります。この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を使い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判断の可否、今の状況、今後の問題点などを討議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994C-53BB-4FE9-B053-6D16098FFF3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40647C-8A67-4830-AAB5-EB2E27F1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18D543-4E6F-4DED-949F-CB5304F9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02F04-9A52-48C1-A4C0-FBA90BAD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6A188-0ED0-490D-AC7D-2E168A73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DA231-9151-4187-B1DD-3D035309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2227A8-38B5-4D4C-BB96-B1F083D7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1A70F7-67BE-4063-87ED-CA2A74B7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E2E8F4-92AC-4DF7-BB71-F754E0A1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028E8D-416A-4BA8-9759-FD102BDC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4F0886-F7DE-46E2-B644-DADF50CBCA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EC0FC7-23A3-4765-A26B-3C5FB261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F9E312-DA3E-43AB-A508-DCB40B96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FA2016-9BC9-426C-96E4-FB56DEE8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7E4344-4BB6-4E70-8040-215CE25C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4F56F8-39B7-4E95-A861-885B5303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47066D-2D2B-4D1E-A3EA-340EB4B8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598CA7-931D-4891-AA02-11CCF29E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D49F19-05A4-4938-9A7B-0D56A951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F409BC-5CC9-4F85-9149-7FBDC61D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07CE58-D62A-4151-B39E-51B229FA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04ECA5-853A-427D-B117-8AB42DEAEA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5E7A1-77FC-4908-A176-2EEAFD3EB5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C5AF3-8D3E-418C-B3CC-5F6CC719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70B7D-A4ED-4780-A36D-B58124ED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2E300-014B-438B-9532-3DAEE04E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DAB48-EEE0-428F-8327-4235FA75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2DDF2-6D8F-4EB9-8F75-303893E1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A94C4-5258-41E2-9FE0-59464E9F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491C0-9DB6-4A38-B33B-85FD0199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DD4F7-1FFA-4317-B44B-790476C3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53309-8CC7-4EEC-A1AE-D437B0E5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6F9D6-759D-4B79-AA7F-EDA55E96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85233-B805-4B87-8C01-508F60A3E8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DA9B8-9320-408E-B37C-0AEA9D3C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5E8ED-B9E3-434F-9163-195162CA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7B884-6D01-4086-9C1E-782F6112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6CC43-4488-4254-8EDE-A3F63C21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FEAC1-C8AE-475A-A619-D72E294F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2209F-E43D-4AEE-B91A-D3BA2B5A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B78C0-17DD-4788-B580-671AD2F5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C1E50-2F1B-4CE1-93D2-312774C4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FF465-F3A7-4228-BA2D-37DE1EED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1FD45-D1A3-49C8-8BA8-9112837A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52D65-4A3F-4465-8F93-69A0255C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73820-36DF-4378-8003-0A6FCB54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31D33-C6BC-42BE-9710-8F412A2C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C1E8F-B892-486F-AF2E-6EE1F2BC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3AF4D-2189-435F-8FD2-D13C2470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EDB0D-2AB0-44F9-AC73-69D917F4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063BD-D145-4CBB-9F7C-CEB649FE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BDFB2-C5E0-4C42-9BA2-20E3F326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0DA57-8939-4970-8AA9-F54D722F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19BA1-3CC3-425B-9397-F6435489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FF2AC-BE60-4D17-A2CE-3E8C63AD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B17DE-BDFE-4A27-9E47-BEBF8D5D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ADE15-9C9F-4B41-89B5-D527DDC9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80EF7-E186-450C-8379-FBF07A3F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2A46AC-5FB9-43C5-AE4A-7DEC1FDF6C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997329-9973-4955-9F77-9A0A7412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26BA97-B210-4962-8E8B-BB7E8C19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737095-242D-425A-8631-0EE8AD8C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5885E8-2801-4978-8F50-1CC546E1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B44768-CD6F-4A0C-B93E-0479AA13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89AEC1-B7E6-48AF-91D5-5688BD5E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477CFC-C925-4385-B1A3-9239B182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FCF716-48CE-43ED-B8DD-65857AD3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B1FE42-D187-46E2-BE90-30E90EFC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FC7A34-615B-4B2E-9AFA-1F9303FC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2635E3-A01F-4543-BB0B-29F0C1437C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B443C-E1BF-4F91-A0A9-68B31710EC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CA8EB-F94B-4BAA-AFAB-4E179436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A9BF2-FD79-481D-9528-D0C4077A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B4934-D3B2-4B9C-A9C4-43B6AF31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8630A-CE39-41F2-A717-4CC23DBC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C55D4-92BC-4C3F-AC8D-2BB28386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C1BEF-98F5-4BC2-AB52-3131C8B8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3F54F-DAF5-476B-ADCB-B0FB3B63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5A0DF-5E4A-498D-B689-5FCA85C8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5B077-87B6-40ED-8D8B-E3485006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D16B1-39E4-47EB-B464-004D19B6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E868D-C3B9-4A63-9088-67DBB56E75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C1F76-0865-4641-A7F7-19391E39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FE9DB-E145-4448-9E5A-E4708A8C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D0F30-90C9-4172-B994-EC9A805A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B92A1-C1F7-4C13-95DC-ECF0BD81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E8CD0-20E6-438E-8FE9-8929D734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96F3C-69F1-4592-BA7F-D1F1AFFE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F87FB-AB48-4771-9F3E-F6900D31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298B3-BC18-45FE-BFF1-CD60EC66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E3E75-3B2E-4EC3-BA8C-105DE3B9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CFB69-F704-40AB-B0AA-08975452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3690A-B975-4560-8F82-618C32D3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4E936-3E8D-4805-A004-05D2EAF4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EF4EB-11ED-477F-A824-6834E881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86EFF-4522-48BC-B46C-C183B7DC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54363-7F19-49A3-834E-FC3B2189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D442C-2B8B-4204-9827-CE5CF16A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8F8DF-C8CC-4ABD-B5BA-4680ABF3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3AFB6-5589-4B4C-8C7D-7D4F48E1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B3DBA-E173-4DFE-865B-2B76018C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CA72E-7B32-4215-A0D1-9EB97D8E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83D57-232D-4BB8-934A-B9C8FD7D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75D87-FA68-4F70-8B74-BA7814DE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EC4CE-507C-4BCF-B829-628E17EE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47A05-D66D-48DD-8D77-D56C3AD0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65B0DD-D366-462F-945A-FAED9938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C36A9C-F240-4DCA-BEAD-60995C65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F2221C-D06A-401F-9890-711A2FAC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8F2A5-E4CF-4327-8F29-C42D1388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752588-C09E-4569-85FE-4D7CC715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7A41E5-F375-484E-B0D9-2367C088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FA4847-04A7-4B85-A083-05B81683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1E0B27-BD49-490E-8D7B-C9DEA861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DBF322-4CC6-4758-92AF-392CCC49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695A7D-81FB-43E2-BA72-8B19EE11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4893AF-C334-4922-BD09-5E6624A4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41E64C-8186-4159-9B35-005EE1D3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9B1AF-DC08-4963-9A7C-2D1E4F91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702E14-556C-48EF-8837-8B924699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73C806-5716-406E-B36D-55C0E1F2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9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28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29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30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2192-9C08-4BFD-B132-B999B55F9666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53B4-99A9-4FA8-9EB9-0D06A2D55922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77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78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79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80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2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3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84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6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B93D-9442-4B45-8BCB-07E8B50AA6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2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2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2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3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F1F7-BC5E-48C9-9ACE-0C62B198BA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7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7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7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7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8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8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5" name="PlaceHolder 1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274A-FC78-44A5-97CE-C5C3EA521F6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6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6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6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6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6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37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F472-6740-48EF-A2B4-6C0647FC8DC1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09CE-FD94-4EB2-B7CE-B8EA5357752F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9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0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1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9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9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0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44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45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46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8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50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90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91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92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93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5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97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9EB1-7509-41A9-9C3B-948601D14B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39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240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241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24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24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8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55DD-E1B5-4E58-B9B2-D98AAEEAD2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AC19-2F19-490F-9BC2-69E664FB7D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7" name="PlaceHolder 1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EDB1-91C2-42EA-93EA-453390048D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PlaceHolder 1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C4B0-1184-4B8E-A9DF-77C303EBDC07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テキスト ボックス 1"/>
          <p:cNvSpPr/>
          <p:nvPr/>
        </p:nvSpPr>
        <p:spPr>
          <a:xfrm>
            <a:off x="2371680" y="907920"/>
            <a:ext cx="44733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6600"/>
                </a:solidFill>
                <a:latin typeface="Arial"/>
              </a:rPr>
              <a:t>再発食道癌に対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6600"/>
                </a:solidFill>
                <a:latin typeface="Arial"/>
              </a:rPr>
              <a:t>光線力学療法（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PDT</a:t>
            </a:r>
            <a:r>
              <a:rPr b="1" lang="ja-JP" sz="4400" spc="-1" strike="noStrike">
                <a:solidFill>
                  <a:srgbClr val="006600"/>
                </a:solidFill>
                <a:latin typeface="Arial"/>
              </a:rPr>
              <a:t>）を行った一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直線コネクタ 83"/>
          <p:cNvSpPr/>
          <p:nvPr/>
        </p:nvSpPr>
        <p:spPr>
          <a:xfrm>
            <a:off x="7812000" y="1989000"/>
            <a:ext cx="0" cy="81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線コネクタ 51"/>
          <p:cNvSpPr/>
          <p:nvPr/>
        </p:nvSpPr>
        <p:spPr>
          <a:xfrm>
            <a:off x="3949560" y="1989000"/>
            <a:ext cx="0" cy="1349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直線コネクタ 57"/>
          <p:cNvSpPr/>
          <p:nvPr/>
        </p:nvSpPr>
        <p:spPr>
          <a:xfrm>
            <a:off x="4572000" y="1989000"/>
            <a:ext cx="0" cy="2232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直線コネクタ 55"/>
          <p:cNvSpPr/>
          <p:nvPr/>
        </p:nvSpPr>
        <p:spPr>
          <a:xfrm>
            <a:off x="6227640" y="1989000"/>
            <a:ext cx="0" cy="2257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直線コネクタ 61"/>
          <p:cNvSpPr/>
          <p:nvPr/>
        </p:nvSpPr>
        <p:spPr>
          <a:xfrm flipH="1">
            <a:off x="8386920" y="1989000"/>
            <a:ext cx="1440" cy="26942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7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ＭＳ Ｐゴシック"/>
              </a:rPr>
              <a:t>症例　</a:t>
            </a:r>
            <a:r>
              <a:rPr b="1" lang="en-US" sz="3200" spc="-1" strike="noStrike">
                <a:solidFill>
                  <a:srgbClr val="006600"/>
                </a:solidFill>
                <a:latin typeface="ＭＳ Ｐゴシック"/>
              </a:rPr>
              <a:t>80</a:t>
            </a:r>
            <a:r>
              <a:rPr b="1" lang="ja-JP" sz="3200" spc="-1" strike="noStrike">
                <a:solidFill>
                  <a:srgbClr val="006600"/>
                </a:solidFill>
                <a:latin typeface="ＭＳ Ｐゴシック"/>
              </a:rPr>
              <a:t>代男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9" name="グループ化 37"/>
          <p:cNvGrpSpPr/>
          <p:nvPr/>
        </p:nvGrpSpPr>
        <p:grpSpPr>
          <a:xfrm>
            <a:off x="196920" y="960480"/>
            <a:ext cx="8623080" cy="4826160"/>
            <a:chOff x="196920" y="960480"/>
            <a:chExt cx="8623080" cy="4826160"/>
          </a:xfrm>
        </p:grpSpPr>
        <p:grpSp>
          <p:nvGrpSpPr>
            <p:cNvPr id="690" name="グループ化 29"/>
            <p:cNvGrpSpPr/>
            <p:nvPr/>
          </p:nvGrpSpPr>
          <p:grpSpPr>
            <a:xfrm>
              <a:off x="196920" y="960480"/>
              <a:ext cx="8623080" cy="4826160"/>
              <a:chOff x="196920" y="960480"/>
              <a:chExt cx="8623080" cy="4826160"/>
            </a:xfrm>
          </p:grpSpPr>
          <p:sp>
            <p:nvSpPr>
              <p:cNvPr id="691" name="角丸四角形 33"/>
              <p:cNvSpPr/>
              <p:nvPr/>
            </p:nvSpPr>
            <p:spPr>
              <a:xfrm>
                <a:off x="7954920" y="4653000"/>
                <a:ext cx="865080" cy="50472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ＭＳ Ｐゴシック"/>
                  </a:rPr>
                  <a:t>PDT</a:t>
                </a:r>
                <a:r>
                  <a:rPr b="1" lang="ja-JP" sz="1100" spc="-1" strike="noStrike">
                    <a:solidFill>
                      <a:srgbClr val="ffffff"/>
                    </a:solidFill>
                    <a:latin typeface="ＭＳ Ｐゴシック"/>
                  </a:rPr>
                  <a:t>施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角丸四角形 35"/>
              <p:cNvSpPr/>
              <p:nvPr/>
            </p:nvSpPr>
            <p:spPr>
              <a:xfrm>
                <a:off x="7020000" y="2636640"/>
                <a:ext cx="1325520" cy="1398600"/>
              </a:xfrm>
              <a:custGeom>
                <a:avLst/>
                <a:gdLst>
                  <a:gd name="textAreaLeft" fmla="*/ 64440 w 1325520"/>
                  <a:gd name="textAreaRight" fmla="*/ 1261080 w 1325520"/>
                  <a:gd name="textAreaTop" fmla="*/ 64440 h 1398600"/>
                  <a:gd name="textAreaBottom" fmla="*/ 1334160 h 1398600"/>
                </a:gdLst>
                <a:ahLst/>
                <a:rect l="textAreaLeft" t="textAreaTop" r="textAreaRight" b="textAreaBottom"/>
                <a:pathLst>
                  <a:path w="21600" h="22791">
                    <a:moveTo>
                      <a:pt x="3600" y="0"/>
                    </a:moveTo>
                    <a:arcTo wR="3600" hR="3600" stAng="16200000" swAng="-5400000"/>
                    <a:lnTo>
                      <a:pt x="0" y="19191"/>
                    </a:lnTo>
                    <a:arcTo wR="3600" hR="3600" stAng="10800000" swAng="-5400000"/>
                    <a:lnTo>
                      <a:pt x="18000" y="2279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手術、放射線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化学療法は困難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Cancer board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PDT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治療目的に当科入院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テキスト ボックス 39"/>
              <p:cNvSpPr/>
              <p:nvPr/>
            </p:nvSpPr>
            <p:spPr>
              <a:xfrm>
                <a:off x="5072040" y="1854000"/>
                <a:ext cx="1901520" cy="3017520"/>
              </a:xfrm>
              <a:custGeom>
                <a:avLst/>
                <a:gdLst>
                  <a:gd name="textAreaLeft" fmla="*/ 92520 w 1901520"/>
                  <a:gd name="textAreaRight" fmla="*/ 1809000 w 1901520"/>
                  <a:gd name="textAreaTop" fmla="*/ 92520 h 3017520"/>
                  <a:gd name="textAreaBottom" fmla="*/ 2925000 h 3017520"/>
                </a:gdLst>
                <a:ahLst/>
                <a:rect l="textAreaLeft" t="textAreaTop" r="textAreaRight" b="textAreaBottom"/>
                <a:pathLst>
                  <a:path w="21600" h="34275">
                    <a:moveTo>
                      <a:pt x="3600" y="0"/>
                    </a:moveTo>
                    <a:arcTo wR="3600" hR="3600" stAng="16200000" swAng="-5400000"/>
                    <a:lnTo>
                      <a:pt x="0" y="30675"/>
                    </a:lnTo>
                    <a:arcTo wR="3600" hR="3600" stAng="10800000" swAng="-5400000"/>
                    <a:lnTo>
                      <a:pt x="18000" y="3427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6d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切歯列から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33c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0-I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病変を認め、生検で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SCC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と診断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（深達度は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SM massive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疑い）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テキスト ボックス 21"/>
              <p:cNvSpPr/>
              <p:nvPr/>
            </p:nvSpPr>
            <p:spPr>
              <a:xfrm>
                <a:off x="1490400" y="1854000"/>
                <a:ext cx="1928520" cy="3932640"/>
              </a:xfrm>
              <a:custGeom>
                <a:avLst/>
                <a:gdLst>
                  <a:gd name="textAreaLeft" fmla="*/ 93960 w 1928520"/>
                  <a:gd name="textAreaRight" fmla="*/ 1834560 w 1928520"/>
                  <a:gd name="textAreaTop" fmla="*/ 93960 h 3932640"/>
                  <a:gd name="textAreaBottom" fmla="*/ 3838680 h 3932640"/>
                </a:gdLst>
                <a:ahLst/>
                <a:rect l="textAreaLeft" t="textAreaTop" r="textAreaRight" b="textAreaBottom"/>
                <a:pathLst>
                  <a:path w="21600" h="44043">
                    <a:moveTo>
                      <a:pt x="3600" y="0"/>
                    </a:moveTo>
                    <a:arcTo wR="3600" hR="3600" stAng="16200000" swAng="-5400000"/>
                    <a:lnTo>
                      <a:pt x="0" y="40443"/>
                    </a:lnTo>
                    <a:arcTo wR="3600" hR="3600" stAng="10800000" swAng="-5400000"/>
                    <a:lnTo>
                      <a:pt x="18000" y="4404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6d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切歯列から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30-32c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SM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浸潤が疑われ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食道癌を認めた。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(cT1bN0M0 stageⅠ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上記病変に対して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C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(Low-dose FP+RT66Gy)</a:t>
                </a: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施行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→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C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角丸四角形 28"/>
              <p:cNvSpPr/>
              <p:nvPr/>
            </p:nvSpPr>
            <p:spPr>
              <a:xfrm>
                <a:off x="3755880" y="4059360"/>
                <a:ext cx="1288800" cy="658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表在型食道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切歯列から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40cm 0-II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ES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テキスト ボックス 25"/>
              <p:cNvSpPr/>
              <p:nvPr/>
            </p:nvSpPr>
            <p:spPr>
              <a:xfrm>
                <a:off x="4315680" y="1484280"/>
                <a:ext cx="814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ＭＳ Ｐゴシック"/>
                  </a:rPr>
                  <a:t>2018</a:t>
                </a:r>
                <a:r>
                  <a:rPr b="0" lang="ja-JP" sz="1600" spc="-1" strike="noStrike">
                    <a:solidFill>
                      <a:srgbClr val="ff0000"/>
                    </a:solidFill>
                    <a:latin typeface="ＭＳ Ｐゴシック"/>
                  </a:rPr>
                  <a:t>年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テキスト ボックス 30"/>
              <p:cNvSpPr/>
              <p:nvPr/>
            </p:nvSpPr>
            <p:spPr>
              <a:xfrm>
                <a:off x="5724360" y="1700280"/>
                <a:ext cx="66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1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テキスト ボックス 32"/>
              <p:cNvSpPr/>
              <p:nvPr/>
            </p:nvSpPr>
            <p:spPr>
              <a:xfrm>
                <a:off x="8028000" y="1700280"/>
                <a:ext cx="57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/1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角丸四角形 17"/>
              <p:cNvSpPr/>
              <p:nvPr/>
            </p:nvSpPr>
            <p:spPr>
              <a:xfrm>
                <a:off x="2787480" y="5158080"/>
                <a:ext cx="1657080" cy="5540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照射後甲状腺機能低下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テキスト ボックス 6"/>
              <p:cNvSpPr/>
              <p:nvPr/>
            </p:nvSpPr>
            <p:spPr>
              <a:xfrm>
                <a:off x="196920" y="960480"/>
                <a:ext cx="3074760" cy="307080"/>
              </a:xfrm>
              <a:prstGeom prst="rect">
                <a:avLst/>
              </a:prstGeom>
              <a:solidFill>
                <a:srgbClr val="fdeada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5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年前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 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食道癌化学放射線療法（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CR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角丸四角形 13"/>
              <p:cNvSpPr/>
              <p:nvPr/>
            </p:nvSpPr>
            <p:spPr>
              <a:xfrm>
                <a:off x="3492360" y="3284640"/>
                <a:ext cx="101124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胃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部分切除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R-Y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再建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テキスト ボックス 15"/>
              <p:cNvSpPr/>
              <p:nvPr/>
            </p:nvSpPr>
            <p:spPr>
              <a:xfrm>
                <a:off x="1979640" y="1700280"/>
                <a:ext cx="57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ff0000"/>
                    </a:solidFill>
                    <a:latin typeface="ＭＳ Ｐゴシック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3" name="直線矢印コネクタ 4"/>
              <p:cNvCxnSpPr/>
              <p:nvPr/>
            </p:nvCxnSpPr>
            <p:spPr>
              <a:xfrm>
                <a:off x="323280" y="1988640"/>
                <a:ext cx="8496720" cy="1080"/>
              </a:xfrm>
              <a:prstGeom prst="straightConnector1">
                <a:avLst/>
              </a:prstGeom>
              <a:ln w="7632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04" name="角丸四角形 9"/>
              <p:cNvSpPr/>
              <p:nvPr/>
            </p:nvSpPr>
            <p:spPr>
              <a:xfrm>
                <a:off x="1576440" y="2182680"/>
                <a:ext cx="1771560" cy="406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食道癌に対し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CR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曲折矢印 41"/>
            <p:cNvSpPr/>
            <p:nvPr/>
          </p:nvSpPr>
          <p:spPr>
            <a:xfrm flipH="1" rot="10800000">
              <a:off x="2405160" y="4841640"/>
              <a:ext cx="358560" cy="647640"/>
            </a:xfrm>
            <a:custGeom>
              <a:avLst/>
              <a:gdLst/>
              <a:ahLst/>
              <a:rect l="l" t="t" r="r" b="b"/>
              <a:pathLst>
                <a:path w="358834" h="647765">
                  <a:moveTo>
                    <a:pt x="0" y="647765"/>
                  </a:moveTo>
                  <a:lnTo>
                    <a:pt x="0" y="201844"/>
                  </a:lnTo>
                  <a:cubicBezTo>
                    <a:pt x="0" y="115141"/>
                    <a:pt x="70287" y="44854"/>
                    <a:pt x="156990" y="44854"/>
                  </a:cubicBezTo>
                  <a:lnTo>
                    <a:pt x="269126" y="44854"/>
                  </a:lnTo>
                  <a:lnTo>
                    <a:pt x="269126" y="0"/>
                  </a:lnTo>
                  <a:lnTo>
                    <a:pt x="358834" y="89709"/>
                  </a:lnTo>
                  <a:lnTo>
                    <a:pt x="269126" y="179417"/>
                  </a:lnTo>
                  <a:lnTo>
                    <a:pt x="269126" y="134563"/>
                  </a:lnTo>
                  <a:lnTo>
                    <a:pt x="156990" y="134563"/>
                  </a:lnTo>
                  <a:cubicBezTo>
                    <a:pt x="119832" y="134563"/>
                    <a:pt x="89709" y="164686"/>
                    <a:pt x="89709" y="201844"/>
                  </a:cubicBezTo>
                  <a:lnTo>
                    <a:pt x="89709" y="647765"/>
                  </a:lnTo>
                  <a:lnTo>
                    <a:pt x="0" y="647765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曲折矢印 42"/>
            <p:cNvSpPr/>
            <p:nvPr/>
          </p:nvSpPr>
          <p:spPr>
            <a:xfrm flipH="1" rot="10800000">
              <a:off x="5723280" y="4005360"/>
              <a:ext cx="360360" cy="576000"/>
            </a:xfrm>
            <a:custGeom>
              <a:avLst/>
              <a:gdLst/>
              <a:ahLst/>
              <a:rect l="l" t="t" r="r" b="b"/>
              <a:pathLst>
                <a:path w="360422" h="576320">
                  <a:moveTo>
                    <a:pt x="0" y="576320"/>
                  </a:moveTo>
                  <a:lnTo>
                    <a:pt x="0" y="202737"/>
                  </a:lnTo>
                  <a:cubicBezTo>
                    <a:pt x="0" y="115650"/>
                    <a:pt x="70598" y="45052"/>
                    <a:pt x="157685" y="45052"/>
                  </a:cubicBezTo>
                  <a:lnTo>
                    <a:pt x="270317" y="45053"/>
                  </a:lnTo>
                  <a:lnTo>
                    <a:pt x="270317" y="0"/>
                  </a:lnTo>
                  <a:lnTo>
                    <a:pt x="360422" y="90106"/>
                  </a:lnTo>
                  <a:lnTo>
                    <a:pt x="270317" y="180211"/>
                  </a:lnTo>
                  <a:lnTo>
                    <a:pt x="270317" y="135158"/>
                  </a:lnTo>
                  <a:lnTo>
                    <a:pt x="157685" y="135158"/>
                  </a:lnTo>
                  <a:cubicBezTo>
                    <a:pt x="120362" y="135158"/>
                    <a:pt x="90106" y="165414"/>
                    <a:pt x="90106" y="202737"/>
                  </a:cubicBezTo>
                  <a:lnTo>
                    <a:pt x="90106" y="576320"/>
                  </a:lnTo>
                  <a:lnTo>
                    <a:pt x="0" y="576320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直線コネクタ 45"/>
          <p:cNvSpPr/>
          <p:nvPr/>
        </p:nvSpPr>
        <p:spPr>
          <a:xfrm>
            <a:off x="2411280" y="2008080"/>
            <a:ext cx="0" cy="1605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テキスト ボックス 3"/>
          <p:cNvSpPr/>
          <p:nvPr/>
        </p:nvSpPr>
        <p:spPr>
          <a:xfrm>
            <a:off x="4832640" y="941400"/>
            <a:ext cx="3198240" cy="398880"/>
          </a:xfrm>
          <a:prstGeom prst="rect">
            <a:avLst/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再発食道癌に対する光線力学療法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(P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テキスト ボックス 56"/>
          <p:cNvSpPr/>
          <p:nvPr/>
        </p:nvSpPr>
        <p:spPr>
          <a:xfrm>
            <a:off x="2004120" y="147636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2005</a:t>
            </a:r>
            <a:r>
              <a:rPr b="0" lang="ja-JP" sz="1600" spc="-1" strike="noStrike">
                <a:solidFill>
                  <a:srgbClr val="ff0000"/>
                </a:solidFill>
                <a:latin typeface="ＭＳ Ｐゴシック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テキスト ボックス 56"/>
          <p:cNvSpPr/>
          <p:nvPr/>
        </p:nvSpPr>
        <p:spPr>
          <a:xfrm>
            <a:off x="108000" y="1482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1980</a:t>
            </a:r>
            <a:r>
              <a:rPr b="0" lang="ja-JP" sz="1600" spc="-1" strike="noStrike">
                <a:solidFill>
                  <a:srgbClr val="ff0000"/>
                </a:solidFill>
                <a:latin typeface="ＭＳ Ｐゴシック"/>
              </a:rPr>
              <a:t>年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直線コネクタ 54"/>
          <p:cNvSpPr/>
          <p:nvPr/>
        </p:nvSpPr>
        <p:spPr>
          <a:xfrm flipV="1">
            <a:off x="554040" y="2007720"/>
            <a:ext cx="0" cy="7923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角丸四角形 58"/>
          <p:cNvSpPr/>
          <p:nvPr/>
        </p:nvSpPr>
        <p:spPr>
          <a:xfrm>
            <a:off x="34920" y="2800440"/>
            <a:ext cx="102384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胃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幽門側胃切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Billroth-II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テキスト ボックス 56"/>
          <p:cNvSpPr/>
          <p:nvPr/>
        </p:nvSpPr>
        <p:spPr>
          <a:xfrm>
            <a:off x="3547080" y="148284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2014</a:t>
            </a:r>
            <a:r>
              <a:rPr b="0" lang="ja-JP" sz="1600" spc="-1" strike="noStrike">
                <a:solidFill>
                  <a:srgbClr val="ff0000"/>
                </a:solidFill>
                <a:latin typeface="ＭＳ Ｐゴシック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テキスト ボックス 25"/>
          <p:cNvSpPr/>
          <p:nvPr/>
        </p:nvSpPr>
        <p:spPr>
          <a:xfrm>
            <a:off x="5607720" y="148104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2020</a:t>
            </a:r>
            <a:r>
              <a:rPr b="0" lang="ja-JP" sz="1600" spc="-1" strike="noStrike">
                <a:solidFill>
                  <a:srgbClr val="ff0000"/>
                </a:solidFill>
                <a:latin typeface="ＭＳ Ｐゴシック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角丸四角形 73"/>
          <p:cNvSpPr/>
          <p:nvPr/>
        </p:nvSpPr>
        <p:spPr>
          <a:xfrm>
            <a:off x="5364000" y="2171880"/>
            <a:ext cx="1463760" cy="382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CR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後食道癌再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線コネクタ 74"/>
          <p:cNvSpPr/>
          <p:nvPr/>
        </p:nvSpPr>
        <p:spPr>
          <a:xfrm>
            <a:off x="6084720" y="1989000"/>
            <a:ext cx="0" cy="1605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角丸四角形 78"/>
          <p:cNvSpPr/>
          <p:nvPr/>
        </p:nvSpPr>
        <p:spPr>
          <a:xfrm>
            <a:off x="6105600" y="4260960"/>
            <a:ext cx="132552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全身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C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て転移は指摘され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テキスト ボックス 25"/>
          <p:cNvSpPr/>
          <p:nvPr/>
        </p:nvSpPr>
        <p:spPr>
          <a:xfrm>
            <a:off x="7295400" y="148104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ＭＳ Ｐゴシック"/>
              </a:rPr>
              <a:t>2021</a:t>
            </a:r>
            <a:r>
              <a:rPr b="0" lang="ja-JP" sz="1600" spc="-1" strike="noStrike">
                <a:solidFill>
                  <a:srgbClr val="ff0000"/>
                </a:solidFill>
                <a:latin typeface="ＭＳ Ｐゴシック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テキスト ボックス 32"/>
          <p:cNvSpPr/>
          <p:nvPr/>
        </p:nvSpPr>
        <p:spPr>
          <a:xfrm>
            <a:off x="7526160" y="1700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曲折矢印 44"/>
          <p:cNvSpPr/>
          <p:nvPr/>
        </p:nvSpPr>
        <p:spPr>
          <a:xfrm flipH="1" rot="5400000">
            <a:off x="7343640" y="4107240"/>
            <a:ext cx="505080" cy="344520"/>
          </a:xfrm>
          <a:custGeom>
            <a:avLst/>
            <a:gdLst/>
            <a:ahLst/>
            <a:rect l="l" t="t" r="r" b="b"/>
            <a:pathLst>
              <a:path w="504825" h="344487">
                <a:moveTo>
                  <a:pt x="0" y="344487"/>
                </a:moveTo>
                <a:lnTo>
                  <a:pt x="0" y="193774"/>
                </a:lnTo>
                <a:cubicBezTo>
                  <a:pt x="0" y="110538"/>
                  <a:pt x="67477" y="43061"/>
                  <a:pt x="150713" y="43061"/>
                </a:cubicBezTo>
                <a:lnTo>
                  <a:pt x="418703" y="43061"/>
                </a:lnTo>
                <a:lnTo>
                  <a:pt x="418703" y="0"/>
                </a:lnTo>
                <a:lnTo>
                  <a:pt x="504825" y="86122"/>
                </a:lnTo>
                <a:lnTo>
                  <a:pt x="418703" y="172244"/>
                </a:lnTo>
                <a:lnTo>
                  <a:pt x="418703" y="129183"/>
                </a:lnTo>
                <a:lnTo>
                  <a:pt x="150713" y="129183"/>
                </a:lnTo>
                <a:cubicBezTo>
                  <a:pt x="115040" y="129183"/>
                  <a:pt x="86122" y="158101"/>
                  <a:pt x="86122" y="193774"/>
                </a:cubicBezTo>
                <a:lnTo>
                  <a:pt x="86122" y="344487"/>
                </a:lnTo>
                <a:lnTo>
                  <a:pt x="0" y="344487"/>
                </a:ln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3" descr="C:\Users\p039eb\Desktop\ポリクリ\全身図：前.png"/>
          <p:cNvPicPr/>
          <p:nvPr/>
        </p:nvPicPr>
        <p:blipFill>
          <a:blip r:embed="rId1"/>
          <a:stretch/>
        </p:blipFill>
        <p:spPr>
          <a:xfrm>
            <a:off x="1403280" y="1125360"/>
            <a:ext cx="2664000" cy="567396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3760" y="38160"/>
            <a:ext cx="9144000" cy="62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身体所見の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テキスト ボックス 4"/>
          <p:cNvSpPr/>
          <p:nvPr/>
        </p:nvSpPr>
        <p:spPr>
          <a:xfrm>
            <a:off x="4932360" y="804960"/>
            <a:ext cx="4116240" cy="5397480"/>
          </a:xfrm>
          <a:custGeom>
            <a:avLst/>
            <a:gdLst>
              <a:gd name="textAreaLeft" fmla="*/ 200880 w 4116240"/>
              <a:gd name="textAreaRight" fmla="*/ 3915360 w 4116240"/>
              <a:gd name="textAreaTop" fmla="*/ 200880 h 5397480"/>
              <a:gd name="textAreaBottom" fmla="*/ 5196600 h 5397480"/>
            </a:gdLst>
            <a:ahLst/>
            <a:rect l="textAreaLeft" t="textAreaTop" r="textAreaRight" b="textAreaBottom"/>
            <a:pathLst>
              <a:path w="21600" h="28323">
                <a:moveTo>
                  <a:pt x="3600" y="0"/>
                </a:moveTo>
                <a:arcTo wR="3600" hR="3600" stAng="16200000" swAng="-5400000"/>
                <a:lnTo>
                  <a:pt x="0" y="24723"/>
                </a:lnTo>
                <a:arcTo wR="3600" hR="3600" stAng="10800000" swAng="-5400000"/>
                <a:lnTo>
                  <a:pt x="18000" y="28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 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【入院時所見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体温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36.4℃, SpO2: 98%(room 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脈拍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79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回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/min,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血圧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17/70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【生活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飲酒歴：ウイスキー水割り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杯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/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喫煙歴：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65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歳まで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60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/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【家族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特記事項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【既往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980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頃胃癌手術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Billroth-II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法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01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直腸癌手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05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食道癌（切歯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30-32cm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C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13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下行結腸癌手術、人工肛門造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14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胃癌手術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R-Y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法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2018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食道癌（切歯列より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40cm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E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【アレルギー】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内服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レボチロキシ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甲状腺ホルモン製剤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ジスチグミ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末梢性コリンエステラーゼ阻害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ロスバスタチ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HMG-CoA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還元酵素阻害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テプレノ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防御因子増強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シロドシ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α1a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遮断薬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ラタノプロス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プロスタグランジ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F2a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誘導体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角丸四角形吹き出し 5"/>
          <p:cNvSpPr/>
          <p:nvPr/>
        </p:nvSpPr>
        <p:spPr>
          <a:xfrm>
            <a:off x="795240" y="900000"/>
            <a:ext cx="1727280" cy="935280"/>
          </a:xfrm>
          <a:prstGeom prst="wedgeRoundRectCallout">
            <a:avLst>
              <a:gd name="adj1" fmla="val 41222"/>
              <a:gd name="adj2" fmla="val 6423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意識清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リンパ節腫脹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眼瞼結膜：貧血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眼球結膜：黄染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角丸四角形吹き出し 11"/>
          <p:cNvSpPr/>
          <p:nvPr/>
        </p:nvSpPr>
        <p:spPr>
          <a:xfrm>
            <a:off x="108000" y="2112840"/>
            <a:ext cx="2413080" cy="792360"/>
          </a:xfrm>
          <a:prstGeom prst="wedgeRoundRectCallout">
            <a:avLst>
              <a:gd name="adj1" fmla="val 60726"/>
              <a:gd name="adj2" fmla="val 32495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HR: 77, BP: 154/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Heart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：心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urm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Lung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：呼吸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 r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角丸四角形吹き出し 12"/>
          <p:cNvSpPr/>
          <p:nvPr/>
        </p:nvSpPr>
        <p:spPr>
          <a:xfrm>
            <a:off x="3348000" y="2219400"/>
            <a:ext cx="1655640" cy="1657440"/>
          </a:xfrm>
          <a:prstGeom prst="wedgeRoundRectCallout">
            <a:avLst>
              <a:gd name="adj1" fmla="val -59972"/>
              <a:gd name="adj2" fmla="val 33949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腹部：平坦、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圧痛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腸蠕動音正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血管雑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脾・腎触知しない腫瘤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クモ状血管腫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角丸四角形吹き出し 27"/>
          <p:cNvSpPr/>
          <p:nvPr/>
        </p:nvSpPr>
        <p:spPr>
          <a:xfrm>
            <a:off x="1187280" y="5603760"/>
            <a:ext cx="1152720" cy="432000"/>
          </a:xfrm>
          <a:prstGeom prst="wedgeRoundRectCallout">
            <a:avLst>
              <a:gd name="adj1" fmla="val 67060"/>
              <a:gd name="adj2" fmla="val 389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下腿浮腫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角丸四角形吹き出し 16"/>
          <p:cNvSpPr/>
          <p:nvPr/>
        </p:nvSpPr>
        <p:spPr>
          <a:xfrm>
            <a:off x="755640" y="3227400"/>
            <a:ext cx="1515960" cy="1033560"/>
          </a:xfrm>
          <a:prstGeom prst="wedgeRoundRectCallout">
            <a:avLst>
              <a:gd name="adj1" fmla="val 63402"/>
              <a:gd name="adj2" fmla="val -5110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肝：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黄疸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、腹水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角丸四角形吹き出し 17"/>
          <p:cNvSpPr/>
          <p:nvPr/>
        </p:nvSpPr>
        <p:spPr>
          <a:xfrm>
            <a:off x="3635280" y="4595760"/>
            <a:ext cx="1152720" cy="432000"/>
          </a:xfrm>
          <a:prstGeom prst="wedgeRoundRectCallout">
            <a:avLst>
              <a:gd name="adj1" fmla="val -41166"/>
              <a:gd name="adj2" fmla="val -874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手掌紅斑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直線コネクタ 3"/>
          <p:cNvSpPr/>
          <p:nvPr/>
        </p:nvSpPr>
        <p:spPr>
          <a:xfrm>
            <a:off x="2987640" y="3413160"/>
            <a:ext cx="21600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直線コネクタ 7"/>
          <p:cNvSpPr/>
          <p:nvPr/>
        </p:nvSpPr>
        <p:spPr>
          <a:xfrm flipH="1">
            <a:off x="2655360" y="3413160"/>
            <a:ext cx="71640" cy="52056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線コネクタ 9"/>
          <p:cNvSpPr/>
          <p:nvPr/>
        </p:nvSpPr>
        <p:spPr>
          <a:xfrm>
            <a:off x="2521080" y="3211560"/>
            <a:ext cx="17928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直線コネクタ 18"/>
          <p:cNvSpPr/>
          <p:nvPr/>
        </p:nvSpPr>
        <p:spPr>
          <a:xfrm>
            <a:off x="2484360" y="3363840"/>
            <a:ext cx="17784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直線コネクタ 19"/>
          <p:cNvSpPr/>
          <p:nvPr/>
        </p:nvSpPr>
        <p:spPr>
          <a:xfrm>
            <a:off x="2405160" y="3629160"/>
            <a:ext cx="222120" cy="1584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テキスト ボックス 11"/>
          <p:cNvSpPr/>
          <p:nvPr/>
        </p:nvSpPr>
        <p:spPr>
          <a:xfrm>
            <a:off x="154080" y="2546280"/>
            <a:ext cx="857160" cy="5079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治療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入院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角丸四角形 27"/>
          <p:cNvSpPr/>
          <p:nvPr/>
        </p:nvSpPr>
        <p:spPr>
          <a:xfrm>
            <a:off x="154080" y="4221000"/>
            <a:ext cx="8810640" cy="196380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合併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・出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・穿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・皮膚障害（レザフェリン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54080" y="46080"/>
            <a:ext cx="9144000" cy="79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治療経過（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5</a:t>
            </a: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年生のまとめ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角丸四角形 7"/>
          <p:cNvSpPr/>
          <p:nvPr/>
        </p:nvSpPr>
        <p:spPr>
          <a:xfrm>
            <a:off x="108000" y="933480"/>
            <a:ext cx="4392720" cy="155880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Ｐゴシック"/>
              </a:rPr>
              <a:t>適応、奏効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CRT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もしくは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T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後の局所遺残再発食道癌（転移なし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T2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以下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cm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以下、半周以内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完全奏効率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5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Ｐゴシック"/>
              </a:rPr>
              <a:t>禁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タラポルフィンナトリウム過敏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ポルフィリン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放射線治療前の原発巣の大動脈への直接浸潤ありの症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角丸四角形 12"/>
          <p:cNvSpPr/>
          <p:nvPr/>
        </p:nvSpPr>
        <p:spPr>
          <a:xfrm>
            <a:off x="4572000" y="933480"/>
            <a:ext cx="4471920" cy="155880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照射当日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(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当日朝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タラポルフィンナトリウム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40mg/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静脈内投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4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〜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6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時間後（当日午後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レーザー照射（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照射あたり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1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分間）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00J/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ＭＳ Ｐ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24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時間後（翌日朝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内視鏡観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必要に応じて追加照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2266920" y="4317840"/>
          <a:ext cx="6481800" cy="1775160"/>
        </p:xfrm>
        <a:graphic>
          <a:graphicData uri="http://schemas.openxmlformats.org/drawingml/2006/table">
            <a:tbl>
              <a:tblPr/>
              <a:tblGrid>
                <a:gridCol w="925560"/>
                <a:gridCol w="927000"/>
                <a:gridCol w="925560"/>
                <a:gridCol w="925560"/>
                <a:gridCol w="762120"/>
                <a:gridCol w="163440"/>
                <a:gridCol w="927000"/>
                <a:gridCol w="925560"/>
              </a:tblGrid>
              <a:tr h="258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施行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日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日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週間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週間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週間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95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内視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レーザー照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必要に応じて追加照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追加照射した場合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内視鏡観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内視鏡観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食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絶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絶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流動食から開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全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常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495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遮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0lux</a:t>
                      </a:r>
                      <a:r>
                        <a:rPr b="0" lang="ja-JP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以下の遮光制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光線過敏試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解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pic>
        <p:nvPicPr>
          <p:cNvPr id="741" name="図 8" descr=""/>
          <p:cNvPicPr/>
          <p:nvPr/>
        </p:nvPicPr>
        <p:blipFill>
          <a:blip r:embed="rId1"/>
          <a:srcRect l="11446" t="13594" r="8929" b="16812"/>
          <a:stretch/>
        </p:blipFill>
        <p:spPr>
          <a:xfrm>
            <a:off x="5191200" y="2576520"/>
            <a:ext cx="1806480" cy="1579680"/>
          </a:xfrm>
          <a:prstGeom prst="rect">
            <a:avLst/>
          </a:prstGeom>
          <a:ln w="0">
            <a:noFill/>
          </a:ln>
        </p:spPr>
      </p:pic>
      <p:pic>
        <p:nvPicPr>
          <p:cNvPr id="742" name="図 9" descr=""/>
          <p:cNvPicPr/>
          <p:nvPr/>
        </p:nvPicPr>
        <p:blipFill>
          <a:blip r:embed="rId2"/>
          <a:srcRect l="29653" t="24287" r="12092" b="24796"/>
          <a:stretch/>
        </p:blipFill>
        <p:spPr>
          <a:xfrm>
            <a:off x="1200240" y="2576520"/>
            <a:ext cx="1807920" cy="1581120"/>
          </a:xfrm>
          <a:prstGeom prst="rect">
            <a:avLst/>
          </a:prstGeom>
          <a:ln w="0">
            <a:noFill/>
          </a:ln>
        </p:spPr>
      </p:pic>
      <p:pic>
        <p:nvPicPr>
          <p:cNvPr id="743" name="図 10" descr=""/>
          <p:cNvPicPr/>
          <p:nvPr/>
        </p:nvPicPr>
        <p:blipFill>
          <a:blip r:embed="rId3"/>
          <a:srcRect l="12188" t="12907" r="7242" b="16669"/>
          <a:stretch/>
        </p:blipFill>
        <p:spPr>
          <a:xfrm>
            <a:off x="3197160" y="2576520"/>
            <a:ext cx="1808280" cy="1579680"/>
          </a:xfrm>
          <a:prstGeom prst="rect">
            <a:avLst/>
          </a:prstGeom>
          <a:ln w="0">
            <a:noFill/>
          </a:ln>
        </p:spPr>
      </p:pic>
      <p:pic>
        <p:nvPicPr>
          <p:cNvPr id="744" name="図 10" descr=""/>
          <p:cNvPicPr/>
          <p:nvPr/>
        </p:nvPicPr>
        <p:blipFill>
          <a:blip r:embed="rId4"/>
          <a:srcRect l="29653" t="24696" r="11933" b="24593"/>
          <a:stretch/>
        </p:blipFill>
        <p:spPr>
          <a:xfrm>
            <a:off x="7183440" y="2581200"/>
            <a:ext cx="1806480" cy="1568520"/>
          </a:xfrm>
          <a:prstGeom prst="rect">
            <a:avLst/>
          </a:prstGeom>
          <a:ln w="0">
            <a:noFill/>
          </a:ln>
        </p:spPr>
      </p:pic>
      <p:cxnSp>
        <p:nvCxnSpPr>
          <p:cNvPr id="745" name="直線矢印コネクタ 3"/>
          <p:cNvCxnSpPr/>
          <p:nvPr/>
        </p:nvCxnSpPr>
        <p:spPr>
          <a:xfrm flipV="1">
            <a:off x="3708000" y="4155480"/>
            <a:ext cx="72360" cy="16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6" name="直線矢印コネクタ 5"/>
          <p:cNvCxnSpPr/>
          <p:nvPr/>
        </p:nvCxnSpPr>
        <p:spPr>
          <a:xfrm flipV="1">
            <a:off x="4572000" y="4155480"/>
            <a:ext cx="619920" cy="16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7" name="直線矢印コネクタ 8"/>
          <p:cNvCxnSpPr/>
          <p:nvPr/>
        </p:nvCxnSpPr>
        <p:spPr>
          <a:xfrm flipV="1">
            <a:off x="6443280" y="4149000"/>
            <a:ext cx="740520" cy="168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8" name="直線矢印コネクタ 10"/>
          <p:cNvCxnSpPr/>
          <p:nvPr/>
        </p:nvCxnSpPr>
        <p:spPr>
          <a:xfrm>
            <a:off x="1010880" y="3068280"/>
            <a:ext cx="18972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6:56:55Z</dcterms:created>
  <dc:creator>TERAI</dc:creator>
  <dc:description/>
  <dc:language>en-US</dc:language>
  <cp:lastModifiedBy>小山 究太郎</cp:lastModifiedBy>
  <cp:lastPrinted>2015-02-02T01:37:24Z</cp:lastPrinted>
  <dcterms:modified xsi:type="dcterms:W3CDTF">2021-06-15T07:12:52Z</dcterms:modified>
  <cp:revision>124</cp:revision>
  <dc:subject/>
  <dc:title>肝胆膵病態学総論</dc:title>
</cp:coreProperties>
</file>