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8108-2C93-4C51-BC8E-0A294418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408-CD74-4233-81BA-AF0B2A71B0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C7B-3EF9-4555-9E05-8B5DAA79B7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9F35-FDA8-48AE-BCE9-440AFED921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47ED8-2750-48BE-B3C9-51E56AD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4603C-CB15-4061-A734-D0F34224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BC65D-C4C5-4FAC-B527-9DF4D67F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BE7AC-F14B-4DA7-82DC-7A99C2A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14D45-1B30-40A0-A0EC-4332332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6EDF9-72CF-4A5A-ADA7-2F4C09A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48B0F-DD4C-47B8-944E-42A126E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A7E8E-C94A-4DBC-8AB0-14319D8A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31D65-D9AB-4FE5-A0C6-4EF3BE1C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8A7E15-1437-4AC4-A048-8F38E2C39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F286A-36F3-42DC-B7DE-BBFBA1E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67BDE-95AD-4042-A5B7-324C9A90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197E35-CD23-465E-9178-91B7E2F4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5BC06-D1D7-4917-830D-90C99592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3DB67-F4EC-4E33-B53F-0AEF4C2B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3B4B2-787C-4481-BBBE-4664821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616E2A-A0C3-4E2F-8A51-3819EC48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A11A1-B8A1-4580-893B-9B73690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6A56B-37B1-4AB5-A126-133842D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11CF9-9726-45EA-AFCE-7491D1B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058AF-559F-4243-B384-D08AE8891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6CCE-28C0-4BED-9EC7-0191C00AF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64FC-DA15-41D8-8F7F-808B0BEE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1E7B-BEC5-4DCA-961A-45E775A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6035B-37A4-4176-8C5B-DCC24AD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2ED2-7401-4499-8A3E-B29DDD4A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9E36-FE09-4C49-ADCF-DD72B713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CE1DC-8B24-4EF4-ACE7-BAF9659A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A246-933B-475A-8948-3A208A8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9B4F0-F866-4BFB-9799-A7387964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22AA-953C-47D5-AE77-8236CF8F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06F6F-B574-4985-B818-9E9CA17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D2F2-F605-48A4-8B10-C3CA968344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DAFF-7741-4A8B-A0DB-C7907035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8920-561C-4C4F-8DBE-C58E166F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F9C4-4ADD-4B13-9B4C-231AB4F7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EF37-81E5-4B9F-A871-37CB96CC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07E3-7A7A-4F4A-8F68-8F2BDA2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E03D-7670-421A-82D4-22D09876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FF11-1810-4FFF-B0AA-5A5975A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D387E-F1A3-4919-9A0A-0F8F037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3A58-C522-4690-99DD-990C481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07AD-CF0E-4A60-BC3F-908392B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197C1-F5CF-477E-8FE5-3BC89783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BC54-4D04-4BEA-9037-9A3B67FE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0E42-BCFD-4DC6-A076-9B2B384E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B9EC-B7E8-4097-B45D-8AD8BBC7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06E5D-2951-4125-B6DA-03AF004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32E97-EDD9-445B-936A-CFC4B668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4AEC2-A037-4AA3-A991-A370937C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D9B69-87A0-4053-9704-99D3AF3E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671C-B58E-4823-9265-5E12870C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C3A1-E514-412D-86C0-624D73A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3006-04BC-4032-A1E7-4E9FD79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1A63F-F045-46C8-99DB-976D7CA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C6D2-462D-40F6-9E7B-81AE7E14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E59C-56CC-4423-94E2-6E3F8318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61698-CF21-4412-86C4-99422C75E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14FFB-2833-45A0-8CE3-543EBF8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F4DF1-EF35-4E31-A87A-7931B000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620628-3B99-4026-AA52-16D2C71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C887E-9C85-4FFB-B360-73598331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412A3-C633-4803-A35B-40D81873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D7302-D8FD-41B9-BC2D-2A491B30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8D23F-91FD-4FA2-B8D7-4410C9D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6CE4D2-C26E-41E0-9766-C764FAC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CC2B1-FF21-4E27-A4F9-7D2F541F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F0E9C-B7B2-4FA0-B1DC-98059C5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D175B6-30B5-4930-9798-0FFB06271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017F-F6A6-4139-BE27-2A5B92A7C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7385-83CB-4E5D-A74F-5A2BDDF9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0C52-2EAA-4E5C-970C-F83C1DBA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5919-AC3F-4FCB-9169-F6DB8112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529E-17AA-4C67-9A9F-5256DC44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0D4C-F4E7-429F-9C70-08F03C3E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5D14-05D4-4396-BD4D-7B1736B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AD10-F7FE-49E0-AB77-18178E2A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24EC-5ABF-45AB-AD61-A3AF627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CA49-2F1B-4C4E-87DE-AC0FE2A9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F009-F246-4ACA-923B-3C89048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2247-10B3-44CF-97E5-D856C9921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F7E01-550D-43D4-A3F6-D3321A83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EE6F-20CD-44EE-A4B3-0652668A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634DF-D2D0-4F8A-9885-6363CBA5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9312-82C7-459F-A073-6341A50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B1C22-A1CC-4927-9153-7166C40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4A731-3F72-4641-97E5-D1ECB85F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6713B-38B3-443C-A777-A1FD72A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BCF71-7CCE-4184-8327-4C23CCD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5AF5-64C6-48CA-B0F3-B241756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43B32-D89C-4983-96EE-363FE156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E4C34-B1F1-4195-A5C8-51806CF5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67144-D42C-4191-AF42-A1DBF127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D8099-9335-41E0-AA7D-82B3493E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C33B0-ECFF-4CE6-862F-CD5B994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59441-E4E2-4A11-BA19-0B12A02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102AE-AA6B-4CAB-8CE8-2C1F437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78E08-4411-46D8-A37E-AA179966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1F713-DE0C-44AC-BE7E-6244BF2A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3F027-BFD8-40D7-88DE-C41787E4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43AE7-7F83-47F3-8685-75B62F9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7E00D-8B71-425F-95BF-58BF9D8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7E732-ED1A-4F06-AD8F-0D645885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61733-CD6B-4EA6-A0E7-37702E7A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BEED2-BA5D-4ED9-818B-8260F241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0E14E-2095-435F-8151-4E54DAED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76D57-229C-4F25-BC2D-73452900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E6DA2-8177-4CDC-AE5F-615A13D8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E8800-3B91-41C4-92E6-5FCBD8EF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A71FF-A84C-45AF-BB98-48F45A2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607A2-4C2A-4A11-9BA2-732E99BF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1E44F-B726-413D-A8CD-5379BDD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3C9FD-E6DC-4FDC-82FE-B247CCA5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653BD-086F-40FE-AB3C-174F284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F54C6-E4DA-479F-BD09-AEEC185E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0FF8D-86A0-4C92-BE15-57067ABA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E5258-F2DE-4CB1-8771-CE4BBF4B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F435B-BCDC-49A9-81F7-7D4B6266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26AC5-D3ED-4AB8-A668-FA1C22A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686EB-D4AD-4BD6-9BB8-E3868F5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6CC0-8538-4FCD-B3B8-32A2230E5C9B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BC2-4490-4BED-9FB1-5BD395B3490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570-F857-473B-99FA-716480099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F928-AD2B-472F-A6F8-6E58CDE61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84A-CC02-44C5-9167-B8AA87D17C9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8F28-3EE9-4C19-AE8C-3B36274237E8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A48-78E1-48DF-84C8-38B734038D3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347-8111-4F7F-8E11-B423C4986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A40C-8092-4E87-83A3-FC63D1D0E0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923A-3487-48B2-88E2-0E0B54A9B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4F95-57EE-4783-AF7C-1A804868D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FC1E-B102-4649-9EDC-2CBED4B14C9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1631880" y="2120760"/>
            <a:ext cx="587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ニボルマ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イピリムマブ併用療法によっ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肝障害を生じた一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16"/>
          <p:cNvSpPr/>
          <p:nvPr/>
        </p:nvSpPr>
        <p:spPr>
          <a:xfrm>
            <a:off x="6022800" y="3668760"/>
            <a:ext cx="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 78"/>
          <p:cNvSpPr/>
          <p:nvPr/>
        </p:nvSpPr>
        <p:spPr>
          <a:xfrm>
            <a:off x="438120" y="2305080"/>
            <a:ext cx="5357880" cy="38606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 81"/>
          <p:cNvSpPr/>
          <p:nvPr/>
        </p:nvSpPr>
        <p:spPr>
          <a:xfrm>
            <a:off x="6046920" y="3844800"/>
            <a:ext cx="2869920" cy="2320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肝機能悪化の原因と考えられる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Nivo+Ipi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中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25"/>
          <p:cNvSpPr/>
          <p:nvPr/>
        </p:nvSpPr>
        <p:spPr>
          <a:xfrm>
            <a:off x="4735440" y="213840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15"/>
          <p:cNvSpPr/>
          <p:nvPr/>
        </p:nvSpPr>
        <p:spPr>
          <a:xfrm>
            <a:off x="3884760" y="2138400"/>
            <a:ext cx="0" cy="227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55"/>
          <p:cNvSpPr/>
          <p:nvPr/>
        </p:nvSpPr>
        <p:spPr>
          <a:xfrm>
            <a:off x="6012000" y="2139840"/>
            <a:ext cx="0" cy="67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線コネクタ 61"/>
          <p:cNvSpPr/>
          <p:nvPr/>
        </p:nvSpPr>
        <p:spPr>
          <a:xfrm>
            <a:off x="7851600" y="2138400"/>
            <a:ext cx="0" cy="220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線コネクタ 48"/>
          <p:cNvSpPr/>
          <p:nvPr/>
        </p:nvSpPr>
        <p:spPr>
          <a:xfrm>
            <a:off x="3419640" y="2138400"/>
            <a:ext cx="0" cy="14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グループ化 37"/>
          <p:cNvGrpSpPr/>
          <p:nvPr/>
        </p:nvGrpSpPr>
        <p:grpSpPr>
          <a:xfrm>
            <a:off x="23760" y="1000080"/>
            <a:ext cx="8911080" cy="5021280"/>
            <a:chOff x="23760" y="1000080"/>
            <a:chExt cx="8911080" cy="5021280"/>
          </a:xfrm>
        </p:grpSpPr>
        <p:grpSp>
          <p:nvGrpSpPr>
            <p:cNvPr id="693" name="グループ化 29"/>
            <p:cNvGrpSpPr/>
            <p:nvPr/>
          </p:nvGrpSpPr>
          <p:grpSpPr>
            <a:xfrm>
              <a:off x="23760" y="1000080"/>
              <a:ext cx="8911080" cy="5021280"/>
              <a:chOff x="23760" y="1000080"/>
              <a:chExt cx="8911080" cy="5021280"/>
            </a:xfrm>
          </p:grpSpPr>
          <p:sp>
            <p:nvSpPr>
              <p:cNvPr id="694" name="角丸四角形 27"/>
              <p:cNvSpPr/>
              <p:nvPr/>
            </p:nvSpPr>
            <p:spPr>
              <a:xfrm>
                <a:off x="3255840" y="4424400"/>
                <a:ext cx="1633320" cy="722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2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6843960" y="4289400"/>
                <a:ext cx="201600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PSL 60mg/d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（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1.0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ｍｇ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/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ｋｇ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から治療開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角丸四角形 24"/>
              <p:cNvSpPr/>
              <p:nvPr/>
            </p:nvSpPr>
            <p:spPr>
              <a:xfrm>
                <a:off x="5189400" y="2811240"/>
                <a:ext cx="173664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S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722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L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526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Grade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肝機能悪化のた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消化器内科コンサル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692680" y="1839600"/>
                <a:ext cx="5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4/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3"/>
              <p:cNvSpPr/>
              <p:nvPr/>
            </p:nvSpPr>
            <p:spPr>
              <a:xfrm>
                <a:off x="3978360" y="5280120"/>
                <a:ext cx="1598400" cy="741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3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574720" y="3608280"/>
                <a:ext cx="1560240" cy="7347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1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23760" y="1000080"/>
                <a:ext cx="4711680" cy="5202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7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　右鼻腔悪性黒色腫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T3N0M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）に対し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手術＋術後放射線療法＋術後化学療法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Nivo 1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間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)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1238040" y="3009960"/>
                <a:ext cx="1436400" cy="598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右大腿部に対して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療法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５１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Gy/17Fr</a:t>
                </a: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4"/>
              <p:cNvSpPr/>
              <p:nvPr/>
            </p:nvSpPr>
            <p:spPr>
              <a:xfrm>
                <a:off x="1375920" y="1612800"/>
                <a:ext cx="77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+3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テキスト ボックス 15"/>
              <p:cNvSpPr/>
              <p:nvPr/>
            </p:nvSpPr>
            <p:spPr>
              <a:xfrm>
                <a:off x="1782720" y="1830240"/>
                <a:ext cx="99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6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~29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テキスト ボックス 16"/>
              <p:cNvSpPr/>
              <p:nvPr/>
            </p:nvSpPr>
            <p:spPr>
              <a:xfrm>
                <a:off x="3122640" y="18396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テキスト ボックス 18"/>
              <p:cNvSpPr/>
              <p:nvPr/>
            </p:nvSpPr>
            <p:spPr>
              <a:xfrm>
                <a:off x="3581280" y="1838160"/>
                <a:ext cx="60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テキスト ボックス 26"/>
              <p:cNvSpPr/>
              <p:nvPr/>
            </p:nvSpPr>
            <p:spPr>
              <a:xfrm>
                <a:off x="4549680" y="184752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4/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角丸四角形 9"/>
              <p:cNvSpPr/>
              <p:nvPr/>
            </p:nvSpPr>
            <p:spPr>
              <a:xfrm>
                <a:off x="176040" y="2357280"/>
                <a:ext cx="1812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右大腿部多発転移再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指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8" name="直線矢印コネクタ 4"/>
              <p:cNvCxnSpPr/>
              <p:nvPr/>
            </p:nvCxnSpPr>
            <p:spPr>
              <a:xfrm>
                <a:off x="437760" y="2118960"/>
                <a:ext cx="849744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709" name="曲折矢印 36"/>
            <p:cNvSpPr/>
            <p:nvPr/>
          </p:nvSpPr>
          <p:spPr>
            <a:xfrm flipH="1" rot="10800000">
              <a:off x="2246040" y="3689280"/>
              <a:ext cx="282240" cy="387360"/>
            </a:xfrm>
            <a:custGeom>
              <a:avLst/>
              <a:gdLst/>
              <a:ahLst/>
              <a:rect l="l" t="t" r="r" b="b"/>
              <a:pathLst>
                <a:path w="282603" h="387508">
                  <a:moveTo>
                    <a:pt x="0" y="387508"/>
                  </a:moveTo>
                  <a:lnTo>
                    <a:pt x="0" y="158964"/>
                  </a:lnTo>
                  <a:cubicBezTo>
                    <a:pt x="0" y="90680"/>
                    <a:pt x="55355" y="35325"/>
                    <a:pt x="123639" y="35325"/>
                  </a:cubicBezTo>
                  <a:lnTo>
                    <a:pt x="211952" y="35325"/>
                  </a:lnTo>
                  <a:lnTo>
                    <a:pt x="211952" y="0"/>
                  </a:lnTo>
                  <a:lnTo>
                    <a:pt x="282603" y="70651"/>
                  </a:lnTo>
                  <a:lnTo>
                    <a:pt x="211952" y="141302"/>
                  </a:lnTo>
                  <a:lnTo>
                    <a:pt x="211952" y="105976"/>
                  </a:lnTo>
                  <a:lnTo>
                    <a:pt x="123639" y="105976"/>
                  </a:lnTo>
                  <a:cubicBezTo>
                    <a:pt x="94375" y="105976"/>
                    <a:pt x="70651" y="129700"/>
                    <a:pt x="70651" y="158964"/>
                  </a:cubicBezTo>
                  <a:lnTo>
                    <a:pt x="70651" y="387508"/>
                  </a:lnTo>
                  <a:lnTo>
                    <a:pt x="0" y="387508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曲折矢印 38"/>
            <p:cNvSpPr/>
            <p:nvPr/>
          </p:nvSpPr>
          <p:spPr>
            <a:xfrm flipH="1" rot="10800000">
              <a:off x="2860560" y="4441320"/>
              <a:ext cx="318960" cy="371160"/>
            </a:xfrm>
            <a:custGeom>
              <a:avLst/>
              <a:gdLst/>
              <a:ahLst/>
              <a:rect l="l" t="t" r="r" b="b"/>
              <a:pathLst>
                <a:path w="319120" h="371627">
                  <a:moveTo>
                    <a:pt x="0" y="371627"/>
                  </a:moveTo>
                  <a:lnTo>
                    <a:pt x="0" y="183606"/>
                  </a:lnTo>
                  <a:cubicBezTo>
                    <a:pt x="0" y="106499"/>
                    <a:pt x="62508" y="43991"/>
                    <a:pt x="139615" y="43991"/>
                  </a:cubicBezTo>
                  <a:lnTo>
                    <a:pt x="239340" y="43991"/>
                  </a:lnTo>
                  <a:lnTo>
                    <a:pt x="239340" y="0"/>
                  </a:lnTo>
                  <a:lnTo>
                    <a:pt x="319120" y="79780"/>
                  </a:lnTo>
                  <a:lnTo>
                    <a:pt x="239340" y="159560"/>
                  </a:lnTo>
                  <a:lnTo>
                    <a:pt x="239340" y="115569"/>
                  </a:lnTo>
                  <a:lnTo>
                    <a:pt x="139615" y="115569"/>
                  </a:lnTo>
                  <a:cubicBezTo>
                    <a:pt x="102040" y="115569"/>
                    <a:pt x="71579" y="146030"/>
                    <a:pt x="71579" y="183605"/>
                  </a:cubicBezTo>
                  <a:lnTo>
                    <a:pt x="71579" y="371627"/>
                  </a:lnTo>
                  <a:lnTo>
                    <a:pt x="0" y="371627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曲折矢印 40"/>
            <p:cNvSpPr/>
            <p:nvPr/>
          </p:nvSpPr>
          <p:spPr>
            <a:xfrm flipH="1" rot="10800000">
              <a:off x="3558960" y="5311440"/>
              <a:ext cx="325440" cy="384120"/>
            </a:xfrm>
            <a:custGeom>
              <a:avLst/>
              <a:gdLst/>
              <a:ahLst/>
              <a:rect l="l" t="t" r="r" b="b"/>
              <a:pathLst>
                <a:path w="325471" h="384332">
                  <a:moveTo>
                    <a:pt x="0" y="384332"/>
                  </a:moveTo>
                  <a:lnTo>
                    <a:pt x="0" y="183077"/>
                  </a:lnTo>
                  <a:cubicBezTo>
                    <a:pt x="0" y="104435"/>
                    <a:pt x="63752" y="40683"/>
                    <a:pt x="142394" y="40683"/>
                  </a:cubicBezTo>
                  <a:lnTo>
                    <a:pt x="254460" y="40684"/>
                  </a:lnTo>
                  <a:lnTo>
                    <a:pt x="254460" y="0"/>
                  </a:lnTo>
                  <a:lnTo>
                    <a:pt x="325471" y="81368"/>
                  </a:lnTo>
                  <a:lnTo>
                    <a:pt x="254460" y="162736"/>
                  </a:lnTo>
                  <a:lnTo>
                    <a:pt x="254460" y="122052"/>
                  </a:lnTo>
                  <a:lnTo>
                    <a:pt x="142394" y="122052"/>
                  </a:lnTo>
                  <a:cubicBezTo>
                    <a:pt x="108690" y="122052"/>
                    <a:pt x="81368" y="149374"/>
                    <a:pt x="81368" y="183078"/>
                  </a:cubicBezTo>
                  <a:lnTo>
                    <a:pt x="81368" y="384332"/>
                  </a:lnTo>
                  <a:lnTo>
                    <a:pt x="0" y="384332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直線コネクタ 45"/>
          <p:cNvSpPr/>
          <p:nvPr/>
        </p:nvSpPr>
        <p:spPr>
          <a:xfrm>
            <a:off x="1116000" y="2146320"/>
            <a:ext cx="0" cy="2109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線コネクタ 46"/>
          <p:cNvSpPr/>
          <p:nvPr/>
        </p:nvSpPr>
        <p:spPr>
          <a:xfrm>
            <a:off x="2165400" y="2138400"/>
            <a:ext cx="6480" cy="871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73"/>
          <p:cNvSpPr/>
          <p:nvPr/>
        </p:nvSpPr>
        <p:spPr>
          <a:xfrm>
            <a:off x="7575480" y="182412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テキスト ボックス 3"/>
          <p:cNvSpPr/>
          <p:nvPr/>
        </p:nvSpPr>
        <p:spPr>
          <a:xfrm>
            <a:off x="5853600" y="992160"/>
            <a:ext cx="2253240" cy="5806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66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歳　女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悪性黒色腫の右大腿転移再発で加療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56"/>
          <p:cNvSpPr/>
          <p:nvPr/>
        </p:nvSpPr>
        <p:spPr>
          <a:xfrm>
            <a:off x="249120" y="162576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XX+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79"/>
          <p:cNvSpPr/>
          <p:nvPr/>
        </p:nvSpPr>
        <p:spPr>
          <a:xfrm>
            <a:off x="971640" y="44416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80"/>
          <p:cNvSpPr/>
          <p:nvPr/>
        </p:nvSpPr>
        <p:spPr>
          <a:xfrm>
            <a:off x="855720" y="4611600"/>
            <a:ext cx="20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耳鼻咽喉科に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転移再発に対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加療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右矢印 82"/>
          <p:cNvSpPr/>
          <p:nvPr/>
        </p:nvSpPr>
        <p:spPr>
          <a:xfrm>
            <a:off x="5730840" y="5338800"/>
            <a:ext cx="405000" cy="3906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テキスト ボックス 31"/>
          <p:cNvSpPr/>
          <p:nvPr/>
        </p:nvSpPr>
        <p:spPr>
          <a:xfrm>
            <a:off x="4108320" y="1838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4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線コネクタ 5"/>
          <p:cNvSpPr/>
          <p:nvPr/>
        </p:nvSpPr>
        <p:spPr>
          <a:xfrm>
            <a:off x="4338720" y="2146320"/>
            <a:ext cx="0" cy="7272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角丸四角形 6"/>
          <p:cNvSpPr/>
          <p:nvPr/>
        </p:nvSpPr>
        <p:spPr>
          <a:xfrm>
            <a:off x="3479760" y="2814480"/>
            <a:ext cx="1457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3</a:t>
            </a:r>
            <a:r>
              <a:rPr b="1" lang="ja-JP" sz="1200" spc="-1" strike="noStrike">
                <a:solidFill>
                  <a:srgbClr val="ffc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Grad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ＭＳ Ｐゴシック"/>
              </a:rPr>
              <a:t>肝障害出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矢印 10"/>
          <p:cNvSpPr/>
          <p:nvPr/>
        </p:nvSpPr>
        <p:spPr>
          <a:xfrm>
            <a:off x="4944960" y="3060720"/>
            <a:ext cx="330480" cy="230040"/>
          </a:xfrm>
          <a:prstGeom prst="rightArrow">
            <a:avLst>
              <a:gd name="adj1" fmla="val 50000"/>
              <a:gd name="adj2" fmla="val 50075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 18"/>
          <p:cNvSpPr/>
          <p:nvPr/>
        </p:nvSpPr>
        <p:spPr>
          <a:xfrm>
            <a:off x="5116680" y="400356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に対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ウルソデオキシコール酸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テキスト ボックス 16"/>
          <p:cNvSpPr/>
          <p:nvPr/>
        </p:nvSpPr>
        <p:spPr>
          <a:xfrm>
            <a:off x="830160" y="1838160"/>
            <a:ext cx="6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20920" y="1054080"/>
            <a:ext cx="2663640" cy="56736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テキスト ボックス 4"/>
          <p:cNvSpPr/>
          <p:nvPr/>
        </p:nvSpPr>
        <p:spPr>
          <a:xfrm>
            <a:off x="4900680" y="847800"/>
            <a:ext cx="4164120" cy="5611680"/>
          </a:xfrm>
          <a:custGeom>
            <a:avLst/>
            <a:gdLst>
              <a:gd name="textAreaLeft" fmla="*/ 203040 w 4164120"/>
              <a:gd name="textAreaRight" fmla="*/ 3961080 w 4164120"/>
              <a:gd name="textAreaTop" fmla="*/ 203040 h 5611680"/>
              <a:gd name="textAreaBottom" fmla="*/ 5408640 h 5611680"/>
            </a:gdLst>
            <a:ahLst/>
            <a:rect l="textAreaLeft" t="textAreaTop" r="textAreaRight" b="textAreaBottom"/>
            <a:pathLst>
              <a:path w="21600" h="29108">
                <a:moveTo>
                  <a:pt x="3600" y="0"/>
                </a:moveTo>
                <a:arcTo wR="3600" hR="3600" stAng="16200000" swAng="-5400000"/>
                <a:lnTo>
                  <a:pt x="0" y="25508"/>
                </a:lnTo>
                <a:arcTo wR="3600" hR="3600" stAng="10800000" swAng="-5400000"/>
                <a:lnTo>
                  <a:pt x="18000" y="291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162.4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55.8k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MI:2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T: 36.3 ℃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pO2: 98%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検査所見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2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722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5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LD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65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7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γ-GT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T-bil 0.4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-bil 0.1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T-% 94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PTT 29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秒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b 2.3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WBC 7600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lt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11.2</a:t>
            </a:r>
            <a:r>
              <a:rPr b="1" lang="ja-JP" sz="1200" spc="-1" strike="noStrike">
                <a:solidFill>
                  <a:srgbClr val="0070c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μ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RBC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0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 12.5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t 35.9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CR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3.28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771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4 27.4mg/dl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M 146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原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V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核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ミトコンドリア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、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脳動脈瘤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0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コイル塞栓）、脂質異常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食物：エビ、カニ、ピーナッツ、チョコレ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薬剤：造影剤で蕁麻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アセトアミノフェン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00mg 4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1~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m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5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 3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2~5/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レボチロキシンナトリウム水和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μ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0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フルチカゾンフランカルボン酸エステル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点鼻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day (2021/1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*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出現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1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以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以内で新規開始薬剤は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5"/>
          <p:cNvSpPr/>
          <p:nvPr/>
        </p:nvSpPr>
        <p:spPr>
          <a:xfrm>
            <a:off x="682560" y="885960"/>
            <a:ext cx="1727280" cy="93492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角丸四角形吹き出し 11"/>
          <p:cNvSpPr/>
          <p:nvPr/>
        </p:nvSpPr>
        <p:spPr>
          <a:xfrm>
            <a:off x="88920" y="2230560"/>
            <a:ext cx="2463840" cy="871560"/>
          </a:xfrm>
          <a:prstGeom prst="wedgeRoundRectCallout">
            <a:avLst>
              <a:gd name="adj1" fmla="val 61861"/>
              <a:gd name="adj2" fmla="val 1402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R: 56bpm, BP: 109/64mm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角丸四角形吹き出し 12"/>
          <p:cNvSpPr/>
          <p:nvPr/>
        </p:nvSpPr>
        <p:spPr>
          <a:xfrm>
            <a:off x="3218040" y="2290680"/>
            <a:ext cx="1655640" cy="1971720"/>
          </a:xfrm>
          <a:prstGeom prst="wedgeRoundRectCallout">
            <a:avLst>
              <a:gd name="adj1" fmla="val -75916"/>
              <a:gd name="adj2" fmla="val 2008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角丸四角形吹き出し 27"/>
          <p:cNvSpPr/>
          <p:nvPr/>
        </p:nvSpPr>
        <p:spPr>
          <a:xfrm>
            <a:off x="208080" y="5076720"/>
            <a:ext cx="1877760" cy="728640"/>
          </a:xfrm>
          <a:prstGeom prst="wedgeRoundRectCallout">
            <a:avLst>
              <a:gd name="adj1" fmla="val 72236"/>
              <a:gd name="adj2" fmla="val -691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右大腿部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再発腫瘤を触知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角丸四角形吹き出し 16"/>
          <p:cNvSpPr/>
          <p:nvPr/>
        </p:nvSpPr>
        <p:spPr>
          <a:xfrm>
            <a:off x="174600" y="3755880"/>
            <a:ext cx="1944720" cy="777960"/>
          </a:xfrm>
          <a:prstGeom prst="wedgeRoundRectCallout">
            <a:avLst>
              <a:gd name="adj1" fmla="val 70925"/>
              <a:gd name="adj2" fmla="val -6991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角丸四角形吹き出し 17"/>
          <p:cNvSpPr/>
          <p:nvPr/>
        </p:nvSpPr>
        <p:spPr>
          <a:xfrm>
            <a:off x="3303720" y="1274760"/>
            <a:ext cx="1584360" cy="620640"/>
          </a:xfrm>
          <a:prstGeom prst="wedgeRoundRectCallout">
            <a:avLst>
              <a:gd name="adj1" fmla="val -79013"/>
              <a:gd name="adj2" fmla="val 5509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腫大・圧痛な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可動性良好・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グラフ 7"/>
          <p:cNvGraphicFramePr/>
          <p:nvPr/>
        </p:nvGraphicFramePr>
        <p:xfrm>
          <a:off x="-52560" y="3894120"/>
          <a:ext cx="757728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グラフ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2560" y="3894120"/>
                    <a:ext cx="75772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角丸四角形 17"/>
          <p:cNvSpPr/>
          <p:nvPr/>
        </p:nvSpPr>
        <p:spPr>
          <a:xfrm>
            <a:off x="6732720" y="3813120"/>
            <a:ext cx="2298600" cy="248148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481480"/>
              <a:gd name="textAreaBottom" fmla="*/ 2369520 h 2481480"/>
            </a:gdLst>
            <a:ahLst/>
            <a:rect l="textAreaLeft" t="textAreaTop" r="textAreaRight" b="textAreaBottom"/>
            <a:pathLst>
              <a:path w="21600" h="23318">
                <a:moveTo>
                  <a:pt x="3600" y="0"/>
                </a:moveTo>
                <a:arcTo wR="3600" hR="3600" stAng="16200000" swAng="-5400000"/>
                <a:lnTo>
                  <a:pt x="0" y="19718"/>
                </a:lnTo>
                <a:arcTo wR="3600" hR="3600" stAng="10800000" swAng="-5400000"/>
                <a:lnTo>
                  <a:pt x="18000" y="23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eef4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コンサルト時点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)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ST72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LT526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T-bil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CTCAE Grade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⇒</a:t>
            </a: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ウルソデオキシコール酸投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週明けの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より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PSL60mg/day(1.0mg/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0mg/day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まで減量行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退院予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テキスト ボックス 10"/>
          <p:cNvSpPr/>
          <p:nvPr/>
        </p:nvSpPr>
        <p:spPr>
          <a:xfrm>
            <a:off x="0" y="6048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免疫関連肝障害の診断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テキスト ボックス 45"/>
          <p:cNvSpPr/>
          <p:nvPr/>
        </p:nvSpPr>
        <p:spPr>
          <a:xfrm>
            <a:off x="1941480" y="6068880"/>
            <a:ext cx="47833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SL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投与開始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S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及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速やかに低下し、正常値に戻っ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診断と治療方針　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19"/>
          <p:cNvSpPr/>
          <p:nvPr/>
        </p:nvSpPr>
        <p:spPr>
          <a:xfrm>
            <a:off x="112680" y="362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治療経過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 21"/>
          <p:cNvSpPr/>
          <p:nvPr/>
        </p:nvSpPr>
        <p:spPr>
          <a:xfrm>
            <a:off x="1679400" y="955800"/>
            <a:ext cx="2808360" cy="67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機能検査値異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炎関連症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（黄疸、倦怠感、浮腫、悪心な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円/楕円 22"/>
          <p:cNvSpPr/>
          <p:nvPr/>
        </p:nvSpPr>
        <p:spPr>
          <a:xfrm>
            <a:off x="103320" y="993600"/>
            <a:ext cx="1476360" cy="51444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一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円/楕円 26"/>
          <p:cNvSpPr/>
          <p:nvPr/>
        </p:nvSpPr>
        <p:spPr>
          <a:xfrm>
            <a:off x="104760" y="1766880"/>
            <a:ext cx="1474920" cy="50472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二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 28"/>
          <p:cNvSpPr/>
          <p:nvPr/>
        </p:nvSpPr>
        <p:spPr>
          <a:xfrm>
            <a:off x="1679400" y="172404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他の肝疾患との鑑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ウイルス性肝炎、肝転移、薬物性肝障害など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肝予備能の評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 29"/>
          <p:cNvSpPr/>
          <p:nvPr/>
        </p:nvSpPr>
        <p:spPr>
          <a:xfrm>
            <a:off x="1690560" y="2727360"/>
            <a:ext cx="27972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画像診断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腹部エコー、腹部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など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病理組織学的検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生検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下矢印 31"/>
          <p:cNvSpPr/>
          <p:nvPr/>
        </p:nvSpPr>
        <p:spPr>
          <a:xfrm>
            <a:off x="2990880" y="2516040"/>
            <a:ext cx="216000" cy="201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右矢印 1"/>
          <p:cNvSpPr/>
          <p:nvPr/>
        </p:nvSpPr>
        <p:spPr>
          <a:xfrm>
            <a:off x="4576680" y="113040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矢印 23"/>
          <p:cNvSpPr/>
          <p:nvPr/>
        </p:nvSpPr>
        <p:spPr>
          <a:xfrm>
            <a:off x="4572000" y="1981080"/>
            <a:ext cx="503280" cy="3114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右矢印 24"/>
          <p:cNvSpPr/>
          <p:nvPr/>
        </p:nvSpPr>
        <p:spPr>
          <a:xfrm>
            <a:off x="4572000" y="281628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角丸四角形 2"/>
          <p:cNvSpPr/>
          <p:nvPr/>
        </p:nvSpPr>
        <p:spPr>
          <a:xfrm>
            <a:off x="5292720" y="987480"/>
            <a:ext cx="31669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e4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障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ST,A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黄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倦怠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浮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悪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発熱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角丸四角形 25"/>
          <p:cNvSpPr/>
          <p:nvPr/>
        </p:nvSpPr>
        <p:spPr>
          <a:xfrm>
            <a:off x="5292720" y="1668600"/>
            <a:ext cx="31669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原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c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CV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RP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3.2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BC 7600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T% 94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 B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lb 3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、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核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抗ミトコンドリア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2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明らかな肝転移、被疑薬剤は指摘できなかっ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角丸四角形 27"/>
          <p:cNvSpPr/>
          <p:nvPr/>
        </p:nvSpPr>
        <p:spPr>
          <a:xfrm>
            <a:off x="5292720" y="2778120"/>
            <a:ext cx="3166920" cy="46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障害を来す明らかな器質的異常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生検は未施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テキスト ボックス 3"/>
          <p:cNvSpPr/>
          <p:nvPr/>
        </p:nvSpPr>
        <p:spPr>
          <a:xfrm>
            <a:off x="5527800" y="33638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診断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肝障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de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曲折矢印 5"/>
          <p:cNvSpPr/>
          <p:nvPr/>
        </p:nvSpPr>
        <p:spPr>
          <a:xfrm flipV="1">
            <a:off x="6094440" y="3790080"/>
            <a:ext cx="638280" cy="419400"/>
          </a:xfrm>
          <a:custGeom>
            <a:avLst/>
            <a:gdLst/>
            <a:ahLst/>
            <a:rect l="l" t="t" r="r" b="b"/>
            <a:pathLst>
              <a:path w="638175" h="419100">
                <a:moveTo>
                  <a:pt x="0" y="419100"/>
                </a:moveTo>
                <a:lnTo>
                  <a:pt x="0" y="240364"/>
                </a:lnTo>
                <a:cubicBezTo>
                  <a:pt x="0" y="139099"/>
                  <a:pt x="82091" y="57008"/>
                  <a:pt x="183356" y="57008"/>
                </a:cubicBezTo>
                <a:lnTo>
                  <a:pt x="533400" y="57008"/>
                </a:lnTo>
                <a:lnTo>
                  <a:pt x="533400" y="0"/>
                </a:lnTo>
                <a:lnTo>
                  <a:pt x="638175" y="118635"/>
                </a:lnTo>
                <a:lnTo>
                  <a:pt x="533400" y="237269"/>
                </a:lnTo>
                <a:lnTo>
                  <a:pt x="533400" y="180261"/>
                </a:lnTo>
                <a:lnTo>
                  <a:pt x="183356" y="180261"/>
                </a:lnTo>
                <a:cubicBezTo>
                  <a:pt x="150162" y="180261"/>
                  <a:pt x="123253" y="207170"/>
                  <a:pt x="123253" y="240364"/>
                </a:cubicBezTo>
                <a:lnTo>
                  <a:pt x="123253" y="419100"/>
                </a:lnTo>
                <a:lnTo>
                  <a:pt x="0" y="4191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b7de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図 8" descr=""/>
          <p:cNvPicPr/>
          <p:nvPr/>
        </p:nvPicPr>
        <p:blipFill>
          <a:blip r:embed="rId3"/>
          <a:srcRect l="31654" t="21645" r="32087" b="10235"/>
          <a:stretch/>
        </p:blipFill>
        <p:spPr>
          <a:xfrm>
            <a:off x="23760" y="2354400"/>
            <a:ext cx="1655640" cy="1230120"/>
          </a:xfrm>
          <a:prstGeom prst="rect">
            <a:avLst/>
          </a:prstGeom>
          <a:ln w="0">
            <a:noFill/>
          </a:ln>
        </p:spPr>
      </p:pic>
      <p:sp>
        <p:nvSpPr>
          <p:cNvPr id="758" name="直線コネクタ 30"/>
          <p:cNvSpPr/>
          <p:nvPr/>
        </p:nvSpPr>
        <p:spPr>
          <a:xfrm>
            <a:off x="2771640" y="4192560"/>
            <a:ext cx="0" cy="155592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線コネクタ 32"/>
          <p:cNvSpPr/>
          <p:nvPr/>
        </p:nvSpPr>
        <p:spPr>
          <a:xfrm>
            <a:off x="3635280" y="4192560"/>
            <a:ext cx="0" cy="151128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角丸四角形 13"/>
          <p:cNvSpPr/>
          <p:nvPr/>
        </p:nvSpPr>
        <p:spPr>
          <a:xfrm>
            <a:off x="2357280" y="5748480"/>
            <a:ext cx="82872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コンサル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角丸四角形 13"/>
          <p:cNvSpPr/>
          <p:nvPr/>
        </p:nvSpPr>
        <p:spPr>
          <a:xfrm>
            <a:off x="3295800" y="5748480"/>
            <a:ext cx="8283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PSL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導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05:23Z</dcterms:modified>
  <cp:revision>158</cp:revision>
  <dc:subject/>
  <dc:title>肝胆膵病態学総論</dc:title>
</cp:coreProperties>
</file>