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458A-3D2A-4B2C-A841-D81EE1E92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01800" y="739800"/>
            <a:ext cx="4932360" cy="3700440"/>
          </a:xfrm>
          <a:prstGeom prst="rect">
            <a:avLst/>
          </a:prstGeom>
          <a:ln w="0">
            <a:noFill/>
          </a:ln>
        </p:spPr>
      </p:sp>
      <p:sp>
        <p:nvSpPr>
          <p:cNvPr id="74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実習時、実際の学生作らせている</a:t>
            </a:r>
            <a:r>
              <a:rPr b="0" lang="en-US" sz="1200" spc="-1" strike="noStrike">
                <a:solidFill>
                  <a:srgbClr val="000000"/>
                </a:solidFill>
                <a:latin typeface="Arial"/>
              </a:rPr>
              <a:t>3</a:t>
            </a:r>
            <a:r>
              <a:rPr b="0" lang="ja-JP" sz="1200" spc="-1" strike="noStrike">
                <a:solidFill>
                  <a:srgbClr val="000000"/>
                </a:solidFill>
                <a:latin typeface="Arial"/>
              </a:rPr>
              <a:t>枚の絵のうち最初の臨床経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9E02-75C1-4E9E-9D85-D4B7E15343A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身体所見のまとめ、全身像で表現させ、また内服剤を使った上での現症を作成してもら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くの投薬がされて、今があれば大事な情報なのでそうしています。</a:t>
            </a: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BADB-A67E-4BA9-938D-73586DF38BF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肝障害度分類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項目以上の項目に該当した肝障害度が二か所に生じる場合には高い方の肝障害度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えば</a:t>
            </a: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２こなら肝障害度</a:t>
            </a:r>
            <a:r>
              <a:rPr b="0" lang="en-US" sz="1200" spc="-1" strike="noStrike">
                <a:solidFill>
                  <a:srgbClr val="000000"/>
                </a:solidFill>
                <a:latin typeface="Arial"/>
              </a:rPr>
              <a:t>B</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１こ、</a:t>
            </a:r>
            <a:r>
              <a:rPr b="0" lang="en-US" sz="1200" spc="-1" strike="noStrike">
                <a:solidFill>
                  <a:srgbClr val="000000"/>
                </a:solidFill>
                <a:latin typeface="Arial"/>
              </a:rPr>
              <a:t>C</a:t>
            </a:r>
            <a:r>
              <a:rPr b="0" lang="ja-JP" sz="1200" spc="-1" strike="noStrike">
                <a:solidFill>
                  <a:srgbClr val="000000"/>
                </a:solidFill>
                <a:latin typeface="Arial"/>
              </a:rPr>
              <a:t>が１こなら</a:t>
            </a:r>
            <a:r>
              <a:rPr b="0" lang="en-US" sz="1200" spc="-1" strike="noStrike">
                <a:solidFill>
                  <a:srgbClr val="000000"/>
                </a:solidFill>
                <a:latin typeface="Arial"/>
              </a:rPr>
              <a:t>B</a:t>
            </a:r>
            <a:r>
              <a:rPr b="0" lang="ja-JP" sz="1200" spc="-1" strike="noStrike">
                <a:solidFill>
                  <a:srgbClr val="000000"/>
                </a:solidFill>
                <a:latin typeface="Arial"/>
              </a:rPr>
              <a:t>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a:t>
            </a:r>
            <a:r>
              <a:rPr b="0" lang="en-US" sz="1200" spc="-1" strike="noStrike">
                <a:solidFill>
                  <a:srgbClr val="000000"/>
                </a:solidFill>
                <a:latin typeface="Arial"/>
              </a:rPr>
              <a:t>3</a:t>
            </a:r>
            <a:r>
              <a:rPr b="0" lang="ja-JP" sz="1200" spc="-1" strike="noStrike">
                <a:solidFill>
                  <a:srgbClr val="000000"/>
                </a:solidFill>
                <a:latin typeface="Arial"/>
              </a:rPr>
              <a:t>枚の図をつくることで、患者の全体像がわかり経過がわかります。この図</a:t>
            </a:r>
            <a:r>
              <a:rPr b="0" lang="en-US" sz="1200" spc="-1" strike="noStrike">
                <a:solidFill>
                  <a:srgbClr val="000000"/>
                </a:solidFill>
                <a:latin typeface="Arial"/>
              </a:rPr>
              <a:t>3</a:t>
            </a:r>
            <a:r>
              <a:rPr b="0" lang="ja-JP" sz="1200" spc="-1" strike="noStrike">
                <a:solidFill>
                  <a:srgbClr val="000000"/>
                </a:solidFill>
                <a:latin typeface="Arial"/>
              </a:rPr>
              <a:t>枚を使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判断の可否、今の状況、今後の問題点などを討議しています。</a:t>
            </a: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AFC2-2492-49D0-9714-0780ACA4297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4EDBCA-9CA3-48F5-9A71-CDF77BD1F3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AF2A8B-F2A7-43BD-BAEE-56556867B7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8B1691-C581-4F14-B6EF-72A7E72042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AA5856-0F1C-4DD2-8880-3F197895BA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E26C0A-CF4A-4961-994A-CE790845E5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112686-552F-45B5-9E6D-5C86DCB580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2BCBA0-EEAB-4FA9-B19E-0B460E5E9A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49705F5-990C-42CA-A505-F1BAA834F0B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714A3C1-4433-41E7-B2D5-A6045F23B6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C10423C-0D67-4215-B5A0-EE7FC7F33A5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38A43D2-3A3A-4C28-9A7F-63550F6CD4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6A1BD13-1848-4C78-9858-5F8E741CF8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33F7D71-82E5-405C-9905-3C9BCEA9E31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E4A050A-D17A-4851-B987-25A43FBF7F1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DB45265-A248-40E4-A7E7-C2EBA4163B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1C95179-5149-4959-A209-9E85B971F5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28A7C7D-7724-4D3F-9DC1-5A9DF21A16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F44F3DA-1BAB-48DE-9028-06146BFA6E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F75B498-1A5B-4A67-A224-7B2A190FBB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5624EB4-5E2D-46A1-BA54-B71E9C1DCA6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53750AB-AE29-4029-BAEA-2CE106E1C9C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DF8A889-729B-497B-998D-8014CBAF556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62BA2ED-76C1-4D62-8B89-A62C8F50EE6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6FB5129-A864-4191-8C4C-89C1A520427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E0947D4-48B2-46F8-AB04-86AA2AABCEB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69BDDD5-9A58-4732-9198-92EC1DAC4F0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31B6A046-CB8D-4966-B1AB-FC5046A2166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EBC3D31-D68D-4775-8F55-360A560659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DC466FB-4B1B-4178-81D2-E49F42979E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C8A0917-7278-46D2-B39A-ECAC7A9CE05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0D388FB0-F24D-4602-B422-590D4AE4D1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362DAB3-8626-4C33-8B46-23B5D487264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974EDED-F95F-4EFD-AE44-55C53AF5362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01429-9E9F-4A24-A147-855963692C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9A2521-4C6D-4FD9-8777-CADB1B838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9D3C6-6CE4-4056-AF53-959480999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538718-F1ED-40BF-AE4B-7B449C291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1185B-0B15-4269-A481-E8425A445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E207A-4ABC-4DF8-8A55-845D72BED6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29FD6-8251-4BBE-B3F6-225163E68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5FCE0-78EC-4338-91D4-5514C972E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A230B-4EBF-4B6E-A5A2-BD5E47D6D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E07C7-3ED8-4828-B186-9A9494BC4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8D2E6F-EC69-46E7-87A9-5EC51B645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91FA3C-D2BF-4BCF-98C0-EE7F532DA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977FAC-6C6F-446C-9053-BCE5D402AC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C543A-B8C8-471E-BD20-DD4ECA0653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D1A8F-28AD-4A07-B3D2-EE140F7090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5E3C49-D269-4166-A5AA-B0CF3D109F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C81AD-0E26-4070-B77A-CAB2988DE4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A58922-6BE7-45CC-B863-7BD16DB10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20C76-3390-4E57-8D9E-4C563C3B9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35EB1-1EDF-43E9-AA5B-E743A9A06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8CAC9-84E2-43A6-B3A9-F48274D49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E3625-2B8F-4928-A6D4-69CD00723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38AEA9-E992-4DD0-9982-9C8378F34D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F7ACAF-7542-4471-81A3-BBF9A30717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FBBA76D-174A-442E-9BBE-76969AF856F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9A8DCBC-0ACC-4B19-8D0B-94C329E7E1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77B3F7F-664C-49E2-8A91-CBFF7F789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6ABAE3E-4087-425E-9851-9626A4756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CB0B430-A92F-45E8-A6EF-2E39F5D52A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E16E766-1E04-4F28-82CC-951D16202A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103D301-CF4E-4E13-BF7F-6003506AF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101326C-A717-4B76-B059-7014226B7D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EB2A3B0-4EF1-4CE3-A36D-892C13D3B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DA13C81-2EF4-4BA7-B2AC-B4EC738684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F22100E-A825-4256-B22A-FC55166F11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4BB47D8-56FD-4E30-9E99-591E00541C6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AFBC1E-693D-4DAA-97FE-C738AE228F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C829B3-6292-40F0-BD4F-E4ACA877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116F24-0B82-4484-8F36-D7088438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E69BFF-E034-4407-A901-6F069FF2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25DA2AD-33BC-40DF-8246-9CEE6FFF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FE86516-E187-49A0-9468-419EA49F1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83B6BB-C93C-484A-8A6D-9B6B10526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5440EC-2EC3-4673-9536-AC5534984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8B1611-E1B6-4AFF-9693-989DA81D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B6E033D-B005-46CA-9F95-A88F19A3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C7BB4D9-4C2B-47C3-A3AC-D2254700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C60BEDA-D000-47FB-843A-3E6A89B322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F443E7-C684-4BE1-AE91-E11A28D99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A96AB-FAC4-44AF-B019-44935E4F4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FD557-BFB4-4AC0-8E88-18EC87B28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B64C8-AE4C-4A62-AC8D-5AFA3A034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D57AC-C2E6-46EA-A96A-3947D1FB3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55D14-CACF-47FA-A6A0-45AA391C7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7C2A0-C3EE-4A80-96F3-C5CD13FC2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92FD2-E4E4-412F-A3B9-FC3AA53CB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B013B-5E82-4CA3-A9E7-FE60A247E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7E6E2-345B-441F-AAB2-8AD389B2D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256426-BCA2-4B36-A2C7-41E5E0D18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D8D83-FD48-4863-BFB0-6A01734CD6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AC9B0C-8A8E-468E-8580-EC9DE24FE6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EB788C-4A78-45AF-BDEF-577DC9D31F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30A4E2-1219-407C-89B1-D24CB18113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EBE8DB-0E3D-4514-9E21-1A3511A1AD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CF6E63-1CF9-47C9-AD50-654EC6CA58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6BA203-B1D6-4F18-968A-787E788F9E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132D67-9B1E-4A81-A499-E7B86C736C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31CB18-FEEA-4E2A-BAED-2F190D9066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0F2EFB-CDEC-43D4-B59A-BD56F69CD4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9B072E-BAFB-4891-825F-4FD4E3D080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121EEB-A6D7-4949-B445-97D84056A9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3FB053-795D-44BD-9956-C2237B3F35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B890F5-99B0-4CE6-A5EA-66B66A677C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109434-DB72-4F7A-A500-843A372C72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A78F89-8D07-4BAD-9EBE-D5E33DE4C6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7BCBDC-C054-4AE9-8C03-9D42079676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D919F5-2F9F-448B-9EA8-E77617405C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619AD4-094C-4947-903C-7FD08DA8F0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DAE3CC-A2B8-4F53-824A-198B3288AD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47E61B-3A1C-4D01-A8BE-203DE3C6FF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9C90E1-8211-4B7A-8D33-F6E7A6B35E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681E65-80C9-4936-9911-D7669C5F0B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030E61-BCA6-4BA6-8585-B088B50F87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9738C1-2C8E-4908-9EDC-AF05970A97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A4C299-87FA-464A-A4FE-0DEC1CEBD5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43E2E6-4621-4FC2-B52C-7F0E05F1C60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91A2AD-28CB-4EEE-B0AB-DF5C11D89E9F}"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FEEC-2345-4F2D-9E53-B9269885FB97}"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8063-3BC3-495B-86A6-8B3153B84AC9}"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8198-6FEA-4897-820E-43F503D642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80D0-3307-4C01-9ACE-D0D391851E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5803-1840-4812-9651-58625EFE7EE7}"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672B-C79C-437F-B0B7-7D3626314C22}"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E5F2-5009-4F0B-937C-4B204DE43074}"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0A45-C29D-44D4-B28F-F5A77F2DCB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FF73-E272-42D8-BCC4-FBD6499CD2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18A6-8B28-4191-ABAD-6A7F556502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FCB-0842-468A-9B37-AD2EC815CF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5842-7DD3-4092-9A3E-D5AED7DFDB9B}"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1476360" y="907920"/>
            <a:ext cx="7351560" cy="442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無症状で発見された</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胆管癌の一例</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83"/>
          <p:cNvSpPr/>
          <p:nvPr/>
        </p:nvSpPr>
        <p:spPr>
          <a:xfrm>
            <a:off x="7812000" y="1989000"/>
            <a:ext cx="0" cy="21607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3776760" y="2008080"/>
            <a:ext cx="0" cy="851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7"/>
          <p:cNvSpPr/>
          <p:nvPr/>
        </p:nvSpPr>
        <p:spPr>
          <a:xfrm>
            <a:off x="8317080" y="1996920"/>
            <a:ext cx="0" cy="33512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ＭＳ Ｐゴシック"/>
              </a:rPr>
              <a:t>現病歴 既往歴 治療介入</a:t>
            </a:r>
            <a:endParaRPr b="0" lang="en-US" sz="3200" spc="-1" strike="noStrike">
              <a:solidFill>
                <a:srgbClr val="000000"/>
              </a:solidFill>
              <a:latin typeface="Calibri"/>
            </a:endParaRPr>
          </a:p>
        </p:txBody>
      </p:sp>
      <p:grpSp>
        <p:nvGrpSpPr>
          <p:cNvPr id="687" name="グループ化 29"/>
          <p:cNvGrpSpPr/>
          <p:nvPr/>
        </p:nvGrpSpPr>
        <p:grpSpPr>
          <a:xfrm>
            <a:off x="34920" y="1698480"/>
            <a:ext cx="8749800" cy="4008960"/>
            <a:chOff x="34920" y="1698480"/>
            <a:chExt cx="8749800" cy="4008960"/>
          </a:xfrm>
        </p:grpSpPr>
        <p:sp>
          <p:nvSpPr>
            <p:cNvPr id="688" name="テキスト ボックス 39"/>
            <p:cNvSpPr/>
            <p:nvPr/>
          </p:nvSpPr>
          <p:spPr>
            <a:xfrm>
              <a:off x="5325840" y="2452320"/>
              <a:ext cx="1901520" cy="912600"/>
            </a:xfrm>
            <a:prstGeom prst="roundRect">
              <a:avLst>
                <a:gd name="adj" fmla="val 16667"/>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右胆管合流部、腫瘍部に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テキスト ボックス 21"/>
            <p:cNvSpPr/>
            <p:nvPr/>
          </p:nvSpPr>
          <p:spPr>
            <a:xfrm>
              <a:off x="3024000" y="3189240"/>
              <a:ext cx="1963440" cy="2295720"/>
            </a:xfrm>
            <a:custGeom>
              <a:avLst/>
              <a:gdLst>
                <a:gd name="textAreaLeft" fmla="*/ 95760 w 1963440"/>
                <a:gd name="textAreaRight" fmla="*/ 1867680 w 1963440"/>
                <a:gd name="textAreaTop" fmla="*/ 95760 h 2295720"/>
                <a:gd name="textAreaBottom" fmla="*/ 2199960 h 2295720"/>
              </a:gdLst>
              <a:ahLst/>
              <a:rect l="textAreaLeft" t="textAreaTop" r="textAreaRight" b="textAreaBottom"/>
              <a:pathLst>
                <a:path w="21600" h="25255">
                  <a:moveTo>
                    <a:pt x="3600" y="0"/>
                  </a:moveTo>
                  <a:arcTo wR="3600" hR="3600" stAng="16200000" swAng="-5400000"/>
                  <a:lnTo>
                    <a:pt x="0" y="21655"/>
                  </a:lnTo>
                  <a:arcTo wR="3600" hR="3600" stAng="10800000" swAng="-5400000"/>
                  <a:lnTo>
                    <a:pt x="18000" y="25255"/>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ERCP</a:t>
              </a:r>
              <a:r>
                <a:rPr b="1" lang="ja-JP" sz="1200" spc="-1" strike="noStrike">
                  <a:solidFill>
                    <a:srgbClr val="000000"/>
                  </a:solidFill>
                  <a:latin typeface="ＭＳ Ｐゴシック"/>
                </a:rPr>
                <a:t>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胆管狭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胆管拡張あ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内視鏡的経鼻ドレナージ</a:t>
              </a:r>
              <a:r>
                <a:rPr b="1" lang="en-US" sz="1200" spc="-1" strike="noStrike">
                  <a:solidFill>
                    <a:srgbClr val="000000"/>
                  </a:solidFill>
                  <a:latin typeface="ＭＳ Ｐゴシック"/>
                </a:rPr>
                <a:t>(ENBD)</a:t>
              </a:r>
              <a:r>
                <a:rPr b="1" lang="ja-JP" sz="1200" spc="-1" strike="noStrike">
                  <a:solidFill>
                    <a:srgbClr val="000000"/>
                  </a:solidFill>
                  <a:latin typeface="ＭＳ Ｐゴシック"/>
                </a:rPr>
                <a:t>を</a:t>
              </a:r>
              <a:r>
                <a:rPr b="1" lang="en-US" sz="1200" spc="-1" strike="noStrike">
                  <a:solidFill>
                    <a:srgbClr val="000000"/>
                  </a:solidFill>
                  <a:latin typeface="ＭＳ Ｐゴシック"/>
                </a:rPr>
                <a:t>B3</a:t>
              </a:r>
              <a:r>
                <a:rPr b="1" lang="ja-JP" sz="1200" spc="-1" strike="noStrike">
                  <a:solidFill>
                    <a:srgbClr val="000000"/>
                  </a:solidFill>
                  <a:latin typeface="ＭＳ Ｐゴシック"/>
                </a:rPr>
                <a:t>に留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肝内胆管分岐部</a:t>
              </a:r>
              <a:r>
                <a:rPr b="1" lang="en-US" sz="1200" spc="-1" strike="noStrike">
                  <a:solidFill>
                    <a:srgbClr val="000000"/>
                  </a:solidFill>
                  <a:latin typeface="ＭＳ Ｐゴシック"/>
                </a:rPr>
                <a:t>5/8</a:t>
              </a:r>
              <a:r>
                <a:rPr b="1" lang="ja-JP" sz="1200" spc="-1" strike="noStrike">
                  <a:solidFill>
                    <a:srgbClr val="000000"/>
                  </a:solidFill>
                  <a:latin typeface="ＭＳ Ｐゴシック"/>
                </a:rPr>
                <a:t>、膵内胆管、腫瘍部に対して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テキスト ボックス 25"/>
            <p:cNvSpPr/>
            <p:nvPr/>
          </p:nvSpPr>
          <p:spPr>
            <a:xfrm>
              <a:off x="4341240" y="1699920"/>
              <a:ext cx="55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23</a:t>
              </a:r>
              <a:endParaRPr b="0" lang="en-US" sz="1400" spc="-1" strike="noStrike">
                <a:solidFill>
                  <a:srgbClr val="000000"/>
                </a:solidFill>
                <a:latin typeface="Arial"/>
              </a:endParaRPr>
            </a:p>
          </p:txBody>
        </p:sp>
        <p:sp>
          <p:nvSpPr>
            <p:cNvPr id="691" name="テキスト ボックス 30"/>
            <p:cNvSpPr/>
            <p:nvPr/>
          </p:nvSpPr>
          <p:spPr>
            <a:xfrm>
              <a:off x="5689440" y="16984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30</a:t>
              </a:r>
              <a:endParaRPr b="0" lang="en-US" sz="1400" spc="-1" strike="noStrike">
                <a:solidFill>
                  <a:srgbClr val="000000"/>
                </a:solidFill>
                <a:latin typeface="Arial"/>
              </a:endParaRPr>
            </a:p>
          </p:txBody>
        </p:sp>
        <p:sp>
          <p:nvSpPr>
            <p:cNvPr id="692" name="テキスト ボックス 6"/>
            <p:cNvSpPr/>
            <p:nvPr/>
          </p:nvSpPr>
          <p:spPr>
            <a:xfrm>
              <a:off x="34920" y="4761000"/>
              <a:ext cx="25542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 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 右乳癌に対し乳房全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腋窩リンパ節郭清</a:t>
              </a:r>
              <a:endParaRPr b="0" lang="en-US" sz="1400" spc="-1" strike="noStrike">
                <a:solidFill>
                  <a:srgbClr val="000000"/>
                </a:solidFill>
                <a:latin typeface="Arial"/>
              </a:endParaRPr>
            </a:p>
          </p:txBody>
        </p:sp>
        <p:sp>
          <p:nvSpPr>
            <p:cNvPr id="693" name="角丸四角形 13"/>
            <p:cNvSpPr/>
            <p:nvPr/>
          </p:nvSpPr>
          <p:spPr>
            <a:xfrm>
              <a:off x="2703240" y="2717640"/>
              <a:ext cx="1123920" cy="412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当院当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4" name="テキスト ボックス 15"/>
            <p:cNvSpPr/>
            <p:nvPr/>
          </p:nvSpPr>
          <p:spPr>
            <a:xfrm>
              <a:off x="1944720" y="16984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 </a:t>
              </a:r>
              <a:endParaRPr b="0" lang="en-US" sz="1400" spc="-1" strike="noStrike">
                <a:solidFill>
                  <a:srgbClr val="000000"/>
                </a:solidFill>
                <a:latin typeface="Arial"/>
              </a:endParaRPr>
            </a:p>
          </p:txBody>
        </p:sp>
        <p:cxnSp>
          <p:nvCxnSpPr>
            <p:cNvPr id="695" name="直線矢印コネクタ 4"/>
            <p:cNvCxnSpPr/>
            <p:nvPr/>
          </p:nvCxnSpPr>
          <p:spPr>
            <a:xfrm>
              <a:off x="288360" y="1986840"/>
              <a:ext cx="8496720" cy="1080"/>
            </a:xfrm>
            <a:prstGeom prst="straightConnector1">
              <a:avLst/>
            </a:prstGeom>
            <a:ln w="76320">
              <a:solidFill>
                <a:srgbClr val="4a7ebb"/>
              </a:solidFill>
              <a:miter/>
              <a:tailEnd len="med" type="arrow" w="med"/>
            </a:ln>
          </p:spPr>
        </p:cxnSp>
        <p:sp>
          <p:nvSpPr>
            <p:cNvPr id="696" name="角丸四角形 9"/>
            <p:cNvSpPr/>
            <p:nvPr/>
          </p:nvSpPr>
          <p:spPr>
            <a:xfrm>
              <a:off x="1109520" y="2198520"/>
              <a:ext cx="1771560" cy="4064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RCP</a:t>
              </a:r>
              <a:r>
                <a:rPr b="0" lang="ja-JP" sz="1100" spc="-1" strike="noStrike">
                  <a:solidFill>
                    <a:srgbClr val="000000"/>
                  </a:solidFill>
                  <a:latin typeface="ＭＳ Ｐゴシック"/>
                </a:rPr>
                <a:t>施行</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門部胆管癌疑い</a:t>
              </a:r>
              <a:endParaRPr b="0" lang="en-US" sz="1100" spc="-1" strike="noStrike">
                <a:solidFill>
                  <a:srgbClr val="000000"/>
                </a:solidFill>
                <a:latin typeface="Arial"/>
              </a:endParaRPr>
            </a:p>
          </p:txBody>
        </p:sp>
      </p:grpSp>
      <p:sp>
        <p:nvSpPr>
          <p:cNvPr id="697" name="直線コネクタ 45"/>
          <p:cNvSpPr/>
          <p:nvPr/>
        </p:nvSpPr>
        <p:spPr>
          <a:xfrm>
            <a:off x="2411280" y="2008080"/>
            <a:ext cx="0" cy="160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テキスト ボックス 3"/>
          <p:cNvSpPr/>
          <p:nvPr/>
        </p:nvSpPr>
        <p:spPr>
          <a:xfrm>
            <a:off x="3743280" y="977760"/>
            <a:ext cx="197136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74</a:t>
            </a:r>
            <a:r>
              <a:rPr b="1" lang="ja-JP" sz="2000" spc="-1" strike="noStrike">
                <a:solidFill>
                  <a:srgbClr val="000000"/>
                </a:solidFill>
                <a:latin typeface="ＭＳ Ｐゴシック"/>
              </a:rPr>
              <a:t>歳女性 胆管癌の疑い</a:t>
            </a:r>
            <a:endParaRPr b="0" lang="en-US" sz="2000" spc="-1" strike="noStrike">
              <a:solidFill>
                <a:srgbClr val="000000"/>
              </a:solidFill>
              <a:latin typeface="Arial"/>
            </a:endParaRPr>
          </a:p>
        </p:txBody>
      </p:sp>
      <p:sp>
        <p:nvSpPr>
          <p:cNvPr id="699" name="テキスト ボックス 56"/>
          <p:cNvSpPr/>
          <p:nvPr/>
        </p:nvSpPr>
        <p:spPr>
          <a:xfrm>
            <a:off x="2004120" y="14763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1</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0" name="テキスト ボックス 56"/>
          <p:cNvSpPr/>
          <p:nvPr/>
        </p:nvSpPr>
        <p:spPr>
          <a:xfrm>
            <a:off x="108000" y="1482840"/>
            <a:ext cx="127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0</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1" name="直線コネクタ 54"/>
          <p:cNvSpPr/>
          <p:nvPr/>
        </p:nvSpPr>
        <p:spPr>
          <a:xfrm flipV="1">
            <a:off x="554040" y="2007720"/>
            <a:ext cx="0" cy="792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角丸四角形 58"/>
          <p:cNvSpPr/>
          <p:nvPr/>
        </p:nvSpPr>
        <p:spPr>
          <a:xfrm>
            <a:off x="34920" y="2800440"/>
            <a:ext cx="1784520" cy="114768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腎機能低下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精査目的に前医受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Cr:2.2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eGFR17.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エコーにて胆嚢腺筋腫症疑い</a:t>
            </a:r>
            <a:endParaRPr b="0" lang="en-US" sz="1000" spc="-1" strike="noStrike">
              <a:solidFill>
                <a:srgbClr val="000000"/>
              </a:solidFill>
              <a:latin typeface="Arial"/>
            </a:endParaRPr>
          </a:p>
        </p:txBody>
      </p:sp>
      <p:sp>
        <p:nvSpPr>
          <p:cNvPr id="703" name="テキスト ボックス 56"/>
          <p:cNvSpPr/>
          <p:nvPr/>
        </p:nvSpPr>
        <p:spPr>
          <a:xfrm>
            <a:off x="3512520" y="1689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18</a:t>
            </a:r>
            <a:endParaRPr b="0" lang="en-US" sz="1400" spc="-1" strike="noStrike">
              <a:solidFill>
                <a:srgbClr val="000000"/>
              </a:solidFill>
              <a:latin typeface="Arial"/>
            </a:endParaRPr>
          </a:p>
        </p:txBody>
      </p:sp>
      <p:sp>
        <p:nvSpPr>
          <p:cNvPr id="704" name="直線コネクタ 74"/>
          <p:cNvSpPr/>
          <p:nvPr/>
        </p:nvSpPr>
        <p:spPr>
          <a:xfrm>
            <a:off x="6084720" y="1989000"/>
            <a:ext cx="0" cy="463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テキスト ボックス 32"/>
          <p:cNvSpPr/>
          <p:nvPr/>
        </p:nvSpPr>
        <p:spPr>
          <a:xfrm>
            <a:off x="7523280" y="16970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7</a:t>
            </a:r>
            <a:endParaRPr b="0" lang="en-US" sz="1400" spc="-1" strike="noStrike">
              <a:solidFill>
                <a:srgbClr val="000000"/>
              </a:solidFill>
              <a:latin typeface="Arial"/>
            </a:endParaRPr>
          </a:p>
        </p:txBody>
      </p:sp>
      <p:sp>
        <p:nvSpPr>
          <p:cNvPr id="706" name="テキスト ボックス 2"/>
          <p:cNvSpPr/>
          <p:nvPr/>
        </p:nvSpPr>
        <p:spPr>
          <a:xfrm>
            <a:off x="351000" y="171288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９月</a:t>
            </a:r>
            <a:endParaRPr b="0" lang="en-US" sz="1200" spc="-1" strike="noStrike">
              <a:solidFill>
                <a:srgbClr val="000000"/>
              </a:solidFill>
              <a:latin typeface="Arial"/>
            </a:endParaRPr>
          </a:p>
        </p:txBody>
      </p:sp>
      <p:sp>
        <p:nvSpPr>
          <p:cNvPr id="707" name="テキスト ボックス 5"/>
          <p:cNvSpPr/>
          <p:nvPr/>
        </p:nvSpPr>
        <p:spPr>
          <a:xfrm>
            <a:off x="2192400" y="1714680"/>
            <a:ext cx="56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月</a:t>
            </a:r>
            <a:endParaRPr b="0" lang="en-US" sz="1200" spc="-1" strike="noStrike">
              <a:solidFill>
                <a:srgbClr val="000000"/>
              </a:solidFill>
              <a:latin typeface="Arial"/>
            </a:endParaRPr>
          </a:p>
        </p:txBody>
      </p:sp>
      <p:sp>
        <p:nvSpPr>
          <p:cNvPr id="708" name="角丸四角形 13"/>
          <p:cNvSpPr/>
          <p:nvPr/>
        </p:nvSpPr>
        <p:spPr>
          <a:xfrm>
            <a:off x="5011560" y="5573880"/>
            <a:ext cx="1124280" cy="6188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悪性細胞認められなかった</a:t>
            </a:r>
            <a:endParaRPr b="0" lang="en-US" sz="1100" spc="-1" strike="noStrike">
              <a:solidFill>
                <a:srgbClr val="000000"/>
              </a:solidFill>
              <a:latin typeface="Arial"/>
            </a:endParaRPr>
          </a:p>
        </p:txBody>
      </p:sp>
      <p:sp>
        <p:nvSpPr>
          <p:cNvPr id="709" name="角丸四角形 13"/>
          <p:cNvSpPr/>
          <p:nvPr/>
        </p:nvSpPr>
        <p:spPr>
          <a:xfrm>
            <a:off x="7405560" y="4138560"/>
            <a:ext cx="1346400" cy="1022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加療目的に当院消化器外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CG(R15): 4.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hild-Pugh: A(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FIB-4 index: 1.42</a:t>
            </a:r>
            <a:endParaRPr b="0" lang="en-US" sz="1100" spc="-1" strike="noStrike">
              <a:solidFill>
                <a:srgbClr val="000000"/>
              </a:solidFill>
              <a:latin typeface="Arial"/>
            </a:endParaRPr>
          </a:p>
        </p:txBody>
      </p:sp>
      <p:sp>
        <p:nvSpPr>
          <p:cNvPr id="710" name="曲折矢印 36"/>
          <p:cNvSpPr/>
          <p:nvPr/>
        </p:nvSpPr>
        <p:spPr>
          <a:xfrm flipH="1" rot="10800000">
            <a:off x="2430360" y="2576160"/>
            <a:ext cx="287280" cy="360360"/>
          </a:xfrm>
          <a:custGeom>
            <a:avLst/>
            <a:gdLst/>
            <a:ahLst/>
            <a:rect l="l" t="t" r="r" b="b"/>
            <a:pathLst>
              <a:path w="287337" h="360362">
                <a:moveTo>
                  <a:pt x="0" y="360362"/>
                </a:moveTo>
                <a:lnTo>
                  <a:pt x="0" y="161627"/>
                </a:lnTo>
                <a:cubicBezTo>
                  <a:pt x="0" y="92199"/>
                  <a:pt x="56282" y="35917"/>
                  <a:pt x="125710" y="35917"/>
                </a:cubicBezTo>
                <a:lnTo>
                  <a:pt x="215503" y="35917"/>
                </a:lnTo>
                <a:lnTo>
                  <a:pt x="215503" y="0"/>
                </a:lnTo>
                <a:lnTo>
                  <a:pt x="287337" y="71834"/>
                </a:lnTo>
                <a:lnTo>
                  <a:pt x="215503" y="143669"/>
                </a:lnTo>
                <a:lnTo>
                  <a:pt x="215503" y="107751"/>
                </a:lnTo>
                <a:lnTo>
                  <a:pt x="125710" y="107751"/>
                </a:lnTo>
                <a:cubicBezTo>
                  <a:pt x="95955" y="107751"/>
                  <a:pt x="71834" y="131872"/>
                  <a:pt x="71834" y="161627"/>
                </a:cubicBezTo>
                <a:lnTo>
                  <a:pt x="71834" y="360362"/>
                </a:lnTo>
                <a:lnTo>
                  <a:pt x="0" y="36036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曲折矢印 36"/>
          <p:cNvSpPr/>
          <p:nvPr/>
        </p:nvSpPr>
        <p:spPr>
          <a:xfrm flipH="1" rot="10800000">
            <a:off x="4721400" y="5635440"/>
            <a:ext cx="380880" cy="425160"/>
          </a:xfrm>
          <a:custGeom>
            <a:avLst/>
            <a:gdLst/>
            <a:ahLst/>
            <a:rect l="l" t="t" r="r" b="b"/>
            <a:pathLst>
              <a:path w="381000" h="425450">
                <a:moveTo>
                  <a:pt x="0" y="425450"/>
                </a:moveTo>
                <a:lnTo>
                  <a:pt x="0" y="214313"/>
                </a:lnTo>
                <a:cubicBezTo>
                  <a:pt x="0" y="122254"/>
                  <a:pt x="74629" y="47625"/>
                  <a:pt x="166688" y="47625"/>
                </a:cubicBezTo>
                <a:lnTo>
                  <a:pt x="285750" y="47625"/>
                </a:lnTo>
                <a:lnTo>
                  <a:pt x="285750" y="0"/>
                </a:lnTo>
                <a:lnTo>
                  <a:pt x="381000" y="95250"/>
                </a:lnTo>
                <a:lnTo>
                  <a:pt x="285750" y="190500"/>
                </a:lnTo>
                <a:lnTo>
                  <a:pt x="285750" y="142875"/>
                </a:lnTo>
                <a:lnTo>
                  <a:pt x="166688" y="142875"/>
                </a:lnTo>
                <a:cubicBezTo>
                  <a:pt x="127234" y="142875"/>
                  <a:pt x="95250" y="174859"/>
                  <a:pt x="95250" y="214313"/>
                </a:cubicBezTo>
                <a:lnTo>
                  <a:pt x="95250" y="425450"/>
                </a:lnTo>
                <a:lnTo>
                  <a:pt x="0" y="4254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曲折矢印 36"/>
          <p:cNvSpPr/>
          <p:nvPr/>
        </p:nvSpPr>
        <p:spPr>
          <a:xfrm flipV="1">
            <a:off x="5572080" y="3459240"/>
            <a:ext cx="407880" cy="558720"/>
          </a:xfrm>
          <a:custGeom>
            <a:avLst/>
            <a:gdLst/>
            <a:ahLst/>
            <a:rect l="l" t="t" r="r" b="b"/>
            <a:pathLst>
              <a:path w="407988" h="558800">
                <a:moveTo>
                  <a:pt x="0" y="558800"/>
                </a:moveTo>
                <a:lnTo>
                  <a:pt x="0" y="229493"/>
                </a:lnTo>
                <a:cubicBezTo>
                  <a:pt x="0" y="130913"/>
                  <a:pt x="79915" y="50998"/>
                  <a:pt x="178495" y="50998"/>
                </a:cubicBezTo>
                <a:lnTo>
                  <a:pt x="305991" y="50999"/>
                </a:lnTo>
                <a:lnTo>
                  <a:pt x="305991" y="0"/>
                </a:lnTo>
                <a:lnTo>
                  <a:pt x="407988" y="101997"/>
                </a:lnTo>
                <a:lnTo>
                  <a:pt x="305991" y="203994"/>
                </a:lnTo>
                <a:lnTo>
                  <a:pt x="305991" y="152996"/>
                </a:lnTo>
                <a:lnTo>
                  <a:pt x="178495" y="152996"/>
                </a:lnTo>
                <a:cubicBezTo>
                  <a:pt x="136246" y="152996"/>
                  <a:pt x="101997" y="187245"/>
                  <a:pt x="101997" y="229494"/>
                </a:cubicBezTo>
                <a:lnTo>
                  <a:pt x="101997"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曲折矢印 36"/>
          <p:cNvSpPr/>
          <p:nvPr/>
        </p:nvSpPr>
        <p:spPr>
          <a:xfrm flipH="1" flipV="1" rot="16200000">
            <a:off x="7304760" y="3685680"/>
            <a:ext cx="366840" cy="558720"/>
          </a:xfrm>
          <a:custGeom>
            <a:avLst/>
            <a:gdLst/>
            <a:ahLst/>
            <a:rect l="l" t="t" r="r" b="b"/>
            <a:pathLst>
              <a:path w="366712" h="558800">
                <a:moveTo>
                  <a:pt x="0" y="558800"/>
                </a:moveTo>
                <a:lnTo>
                  <a:pt x="0" y="206276"/>
                </a:lnTo>
                <a:cubicBezTo>
                  <a:pt x="0" y="117669"/>
                  <a:pt x="71830" y="45839"/>
                  <a:pt x="160437" y="45839"/>
                </a:cubicBezTo>
                <a:lnTo>
                  <a:pt x="275034" y="45839"/>
                </a:lnTo>
                <a:lnTo>
                  <a:pt x="275034" y="0"/>
                </a:lnTo>
                <a:lnTo>
                  <a:pt x="366712" y="91678"/>
                </a:lnTo>
                <a:lnTo>
                  <a:pt x="275034" y="183356"/>
                </a:lnTo>
                <a:lnTo>
                  <a:pt x="275034" y="137517"/>
                </a:lnTo>
                <a:lnTo>
                  <a:pt x="160437" y="137517"/>
                </a:lnTo>
                <a:cubicBezTo>
                  <a:pt x="122462" y="137517"/>
                  <a:pt x="91678" y="168301"/>
                  <a:pt x="91678" y="206276"/>
                </a:cubicBezTo>
                <a:lnTo>
                  <a:pt x="91678"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角丸四角形 13"/>
          <p:cNvSpPr/>
          <p:nvPr/>
        </p:nvSpPr>
        <p:spPr>
          <a:xfrm>
            <a:off x="3905280" y="2859120"/>
            <a:ext cx="1270080" cy="4125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EA: 7.6ng/m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A19-9: 65U/mL</a:t>
            </a:r>
            <a:endParaRPr b="0" lang="en-US" sz="1100" spc="-1" strike="noStrike">
              <a:solidFill>
                <a:srgbClr val="000000"/>
              </a:solidFill>
              <a:latin typeface="Arial"/>
            </a:endParaRPr>
          </a:p>
        </p:txBody>
      </p:sp>
      <p:sp>
        <p:nvSpPr>
          <p:cNvPr id="715" name="曲折矢印 36"/>
          <p:cNvSpPr/>
          <p:nvPr/>
        </p:nvSpPr>
        <p:spPr>
          <a:xfrm flipH="1" rot="10800000">
            <a:off x="7669080" y="5168520"/>
            <a:ext cx="285840" cy="360360"/>
          </a:xfrm>
          <a:custGeom>
            <a:avLst/>
            <a:gdLst/>
            <a:ahLst/>
            <a:rect l="l" t="t" r="r" b="b"/>
            <a:pathLst>
              <a:path w="285750" h="360363">
                <a:moveTo>
                  <a:pt x="0" y="360363"/>
                </a:moveTo>
                <a:lnTo>
                  <a:pt x="0" y="160734"/>
                </a:lnTo>
                <a:cubicBezTo>
                  <a:pt x="0" y="91690"/>
                  <a:pt x="55972" y="35718"/>
                  <a:pt x="125016" y="35718"/>
                </a:cubicBezTo>
                <a:lnTo>
                  <a:pt x="214313" y="35719"/>
                </a:lnTo>
                <a:lnTo>
                  <a:pt x="214313" y="0"/>
                </a:lnTo>
                <a:lnTo>
                  <a:pt x="285750" y="71438"/>
                </a:lnTo>
                <a:lnTo>
                  <a:pt x="214313" y="142875"/>
                </a:lnTo>
                <a:lnTo>
                  <a:pt x="214313" y="107156"/>
                </a:lnTo>
                <a:lnTo>
                  <a:pt x="125016" y="107156"/>
                </a:lnTo>
                <a:cubicBezTo>
                  <a:pt x="95426" y="107156"/>
                  <a:pt x="71438" y="131144"/>
                  <a:pt x="71438" y="160734"/>
                </a:cubicBezTo>
                <a:lnTo>
                  <a:pt x="71438" y="360363"/>
                </a:lnTo>
                <a:lnTo>
                  <a:pt x="0" y="360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角丸四角形 13"/>
          <p:cNvSpPr/>
          <p:nvPr/>
        </p:nvSpPr>
        <p:spPr>
          <a:xfrm>
            <a:off x="7932600" y="5321160"/>
            <a:ext cx="1123920" cy="628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拡大左葉切除術施行予定</a:t>
            </a:r>
            <a:endParaRPr b="0" lang="en-US" sz="1100" spc="-1" strike="noStrike">
              <a:solidFill>
                <a:srgbClr val="000000"/>
              </a:solidFill>
              <a:latin typeface="Arial"/>
            </a:endParaRPr>
          </a:p>
        </p:txBody>
      </p:sp>
      <p:sp>
        <p:nvSpPr>
          <p:cNvPr id="717" name="テキスト ボックス 32"/>
          <p:cNvSpPr/>
          <p:nvPr/>
        </p:nvSpPr>
        <p:spPr>
          <a:xfrm>
            <a:off x="8013600" y="171288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直線コネクタ 43"/>
          <p:cNvSpPr/>
          <p:nvPr/>
        </p:nvSpPr>
        <p:spPr>
          <a:xfrm>
            <a:off x="4618080" y="1987560"/>
            <a:ext cx="0" cy="871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角丸四角形 13"/>
          <p:cNvSpPr/>
          <p:nvPr/>
        </p:nvSpPr>
        <p:spPr>
          <a:xfrm>
            <a:off x="6013440" y="3562200"/>
            <a:ext cx="1266840" cy="8067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両部位ともに</a:t>
            </a:r>
            <a:r>
              <a:rPr b="0" lang="en-US" sz="1100" spc="-1" strike="noStrike">
                <a:solidFill>
                  <a:srgbClr val="000000"/>
                </a:solidFill>
                <a:latin typeface="ＭＳ Ｐゴシック"/>
              </a:rPr>
              <a:t>Adenocarcinoma</a:t>
            </a:r>
            <a:r>
              <a:rPr b="0" lang="ja-JP" sz="1100" spc="-1" strike="noStrike">
                <a:solidFill>
                  <a:srgbClr val="000000"/>
                </a:solidFill>
                <a:latin typeface="ＭＳ Ｐゴシック"/>
              </a:rPr>
              <a:t>と診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3" descr="C:\Users\p039eb\Desktop\ポリクリ\全身図：前.png"/>
          <p:cNvPicPr/>
          <p:nvPr/>
        </p:nvPicPr>
        <p:blipFill>
          <a:blip r:embed="rId1"/>
          <a:stretch/>
        </p:blipFill>
        <p:spPr>
          <a:xfrm>
            <a:off x="1355760" y="1152360"/>
            <a:ext cx="2663640" cy="5183280"/>
          </a:xfrm>
          <a:prstGeom prst="rect">
            <a:avLst/>
          </a:prstGeom>
          <a:ln w="0">
            <a:noFill/>
          </a:ln>
        </p:spPr>
      </p:pic>
      <p:sp>
        <p:nvSpPr>
          <p:cNvPr id="721" name="PlaceHolder 1"/>
          <p:cNvSpPr>
            <a:spLocks noGrp="1"/>
          </p:cNvSpPr>
          <p:nvPr>
            <p:ph type="title"/>
          </p:nvPr>
        </p:nvSpPr>
        <p:spPr>
          <a:xfrm>
            <a:off x="23760" y="3816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身体所見のまとめ</a:t>
            </a:r>
            <a:endParaRPr b="0" lang="en-US" sz="3200" spc="-1" strike="noStrike">
              <a:solidFill>
                <a:srgbClr val="000000"/>
              </a:solidFill>
              <a:latin typeface="Calibri"/>
            </a:endParaRPr>
          </a:p>
        </p:txBody>
      </p:sp>
      <p:sp>
        <p:nvSpPr>
          <p:cNvPr id="722" name="テキスト ボックス 4"/>
          <p:cNvSpPr/>
          <p:nvPr/>
        </p:nvSpPr>
        <p:spPr>
          <a:xfrm>
            <a:off x="4965840" y="1090440"/>
            <a:ext cx="4116240" cy="388260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体温</a:t>
            </a:r>
            <a:r>
              <a:rPr b="1" lang="en-US" sz="1400" spc="-1" strike="noStrike">
                <a:solidFill>
                  <a:srgbClr val="000000"/>
                </a:solidFill>
                <a:latin typeface="ＭＳ Ｐゴシック"/>
              </a:rPr>
              <a:t>: 36.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脈拍</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03</a:t>
            </a:r>
            <a:r>
              <a:rPr b="1" lang="ja-JP" sz="1400" spc="-1" strike="noStrike">
                <a:solidFill>
                  <a:srgbClr val="000000"/>
                </a:solidFill>
                <a:latin typeface="ＭＳ Ｐゴシック"/>
              </a:rPr>
              <a:t>回</a:t>
            </a:r>
            <a:r>
              <a:rPr b="1" lang="en-US" sz="1400" spc="-1" strike="noStrike">
                <a:solidFill>
                  <a:srgbClr val="000000"/>
                </a:solidFill>
                <a:latin typeface="ＭＳ Ｐゴシック"/>
              </a:rPr>
              <a:t>/min,</a:t>
            </a:r>
            <a:r>
              <a:rPr b="1" lang="ja-JP" sz="1400" spc="-1" strike="noStrike">
                <a:solidFill>
                  <a:srgbClr val="000000"/>
                </a:solidFill>
                <a:latin typeface="ＭＳ Ｐゴシック"/>
              </a:rPr>
              <a:t> </a:t>
            </a:r>
            <a:r>
              <a:rPr b="1" lang="ja-JP" sz="1400" spc="-1" strike="noStrike">
                <a:solidFill>
                  <a:srgbClr val="000000"/>
                </a:solidFill>
                <a:latin typeface="ＭＳ Ｐゴシック"/>
              </a:rPr>
              <a:t>血圧</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57/92mmH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飲酒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喫煙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右乳癌（乳房全摘、腋窩リンパ節郭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ニフェジピン </a:t>
            </a:r>
            <a:r>
              <a:rPr b="1" lang="en-US" sz="1400" spc="-1" strike="noStrike">
                <a:solidFill>
                  <a:srgbClr val="000000"/>
                </a:solidFill>
                <a:latin typeface="ＭＳ Ｐゴシック"/>
              </a:rPr>
              <a:t>2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テルミサルタン </a:t>
            </a:r>
            <a:r>
              <a:rPr b="1" lang="en-US" sz="1400" spc="-1" strike="noStrike">
                <a:solidFill>
                  <a:srgbClr val="000000"/>
                </a:solidFill>
                <a:latin typeface="ＭＳ Ｐゴシック"/>
              </a:rPr>
              <a:t>40mg</a:t>
            </a:r>
            <a:endParaRPr b="0" lang="en-US" sz="1400" spc="-1" strike="noStrike">
              <a:solidFill>
                <a:srgbClr val="000000"/>
              </a:solidFill>
              <a:latin typeface="Arial"/>
            </a:endParaRPr>
          </a:p>
        </p:txBody>
      </p:sp>
      <p:sp>
        <p:nvSpPr>
          <p:cNvPr id="723" name="角丸四角形吹き出し 5"/>
          <p:cNvSpPr/>
          <p:nvPr/>
        </p:nvSpPr>
        <p:spPr>
          <a:xfrm>
            <a:off x="795240" y="900000"/>
            <a:ext cx="1727280" cy="935280"/>
          </a:xfrm>
          <a:prstGeom prst="wedgeRoundRectCallout">
            <a:avLst>
              <a:gd name="adj1" fmla="val 41222"/>
              <a:gd name="adj2" fmla="val 6423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リンパ節腫脹</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瞼結膜：貧血</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球結膜：黄染</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4" name="角丸四角形吹き出し 11"/>
          <p:cNvSpPr/>
          <p:nvPr/>
        </p:nvSpPr>
        <p:spPr>
          <a:xfrm>
            <a:off x="19080" y="2057400"/>
            <a:ext cx="2413080" cy="792000"/>
          </a:xfrm>
          <a:prstGeom prst="wedgeRoundRectCallout">
            <a:avLst>
              <a:gd name="adj1" fmla="val 60726"/>
              <a:gd name="adj2" fmla="val 3249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5" name="角丸四角形吹き出し 12"/>
          <p:cNvSpPr/>
          <p:nvPr/>
        </p:nvSpPr>
        <p:spPr>
          <a:xfrm>
            <a:off x="3308400" y="1820880"/>
            <a:ext cx="1655640" cy="1657440"/>
          </a:xfrm>
          <a:prstGeom prst="wedgeRoundRectCallout">
            <a:avLst>
              <a:gd name="adj1" fmla="val -59972"/>
              <a:gd name="adj2" fmla="val 33949"/>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p:txBody>
      </p:sp>
      <p:sp>
        <p:nvSpPr>
          <p:cNvPr id="726" name="角丸四角形吹き出し 27"/>
          <p:cNvSpPr/>
          <p:nvPr/>
        </p:nvSpPr>
        <p:spPr>
          <a:xfrm>
            <a:off x="1246320" y="5068800"/>
            <a:ext cx="115236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腿浮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7" name="角丸四角形吹き出し 16"/>
          <p:cNvSpPr/>
          <p:nvPr/>
        </p:nvSpPr>
        <p:spPr>
          <a:xfrm>
            <a:off x="755640" y="3227400"/>
            <a:ext cx="1515960" cy="103356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直線コネクタ 3"/>
          <p:cNvSpPr/>
          <p:nvPr/>
        </p:nvSpPr>
        <p:spPr>
          <a:xfrm>
            <a:off x="2771640" y="3341520"/>
            <a:ext cx="0" cy="28764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4080" y="46080"/>
            <a:ext cx="914400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経過</a:t>
            </a:r>
            <a:endParaRPr b="0" lang="en-US" sz="3200" spc="-1" strike="noStrike">
              <a:solidFill>
                <a:srgbClr val="000000"/>
              </a:solidFill>
              <a:latin typeface="Calibri"/>
            </a:endParaRPr>
          </a:p>
        </p:txBody>
      </p:sp>
      <p:sp>
        <p:nvSpPr>
          <p:cNvPr id="730" name="角丸四角形 7"/>
          <p:cNvSpPr/>
          <p:nvPr/>
        </p:nvSpPr>
        <p:spPr>
          <a:xfrm>
            <a:off x="108000" y="933480"/>
            <a:ext cx="4392720" cy="1127160"/>
          </a:xfrm>
          <a:prstGeom prst="roundRect">
            <a:avLst>
              <a:gd name="adj" fmla="val 16667"/>
            </a:avLst>
          </a:prstGeom>
          <a:solidFill>
            <a:srgbClr val="f2dcd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検査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に示す</a:t>
            </a:r>
            <a:r>
              <a:rPr b="0" lang="en-US" sz="1400" spc="-1" strike="noStrike">
                <a:solidFill>
                  <a:srgbClr val="000000"/>
                </a:solidFill>
                <a:latin typeface="ＭＳ Ｐゴシック"/>
              </a:rPr>
              <a:t>ERCP</a:t>
            </a:r>
            <a:r>
              <a:rPr b="0" lang="ja-JP" sz="1400" spc="-1" strike="noStrike">
                <a:solidFill>
                  <a:srgbClr val="000000"/>
                </a:solidFill>
                <a:latin typeface="ＭＳ Ｐゴシック"/>
              </a:rPr>
              <a:t>で、矢印に示した位置に狭窄を認め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角丸四角形 12"/>
          <p:cNvSpPr/>
          <p:nvPr/>
        </p:nvSpPr>
        <p:spPr>
          <a:xfrm>
            <a:off x="4572000" y="790560"/>
            <a:ext cx="4471920" cy="2998800"/>
          </a:xfrm>
          <a:prstGeom prst="roundRect">
            <a:avLst>
              <a:gd name="adj" fmla="val 16667"/>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診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a:t>
            </a:r>
            <a:r>
              <a:rPr b="1" lang="ja-JP" sz="1400" spc="-1" strike="noStrike">
                <a:solidFill>
                  <a:srgbClr val="000000"/>
                </a:solidFill>
                <a:latin typeface="ＭＳ Ｐゴシック"/>
              </a:rPr>
              <a:t>肝門部胆管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a:t>
            </a:r>
            <a:r>
              <a:rPr b="1" lang="ja-JP" sz="1400" spc="-1" strike="noStrike">
                <a:solidFill>
                  <a:srgbClr val="000000"/>
                </a:solidFill>
                <a:latin typeface="ＭＳ Ｐゴシック"/>
              </a:rPr>
              <a:t>慢性腎不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a:t>
            </a:r>
            <a:r>
              <a:rPr b="1" lang="ja-JP" sz="1400" spc="-1" strike="noStrike">
                <a:solidFill>
                  <a:srgbClr val="000000"/>
                </a:solidFill>
                <a:latin typeface="ＭＳ Ｐゴシック"/>
              </a:rPr>
              <a:t>高血圧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今後の治療方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胆管生検で</a:t>
            </a:r>
            <a:r>
              <a:rPr b="0" lang="en-US" sz="1400" spc="-1" strike="noStrike">
                <a:solidFill>
                  <a:srgbClr val="000000"/>
                </a:solidFill>
                <a:latin typeface="ＭＳ Ｐゴシック"/>
              </a:rPr>
              <a:t>Adenocarcinoma</a:t>
            </a:r>
            <a:r>
              <a:rPr b="0" lang="ja-JP" sz="1400" spc="-1" strike="noStrike">
                <a:solidFill>
                  <a:srgbClr val="000000"/>
                </a:solidFill>
                <a:latin typeface="ＭＳ Ｐゴシック"/>
              </a:rPr>
              <a:t>と診断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ICG(15</a:t>
            </a:r>
            <a:r>
              <a:rPr b="0" lang="ja-JP" sz="1400" spc="-1" strike="noStrike">
                <a:solidFill>
                  <a:srgbClr val="000000"/>
                </a:solidFill>
                <a:latin typeface="ＭＳ Ｐゴシック"/>
              </a:rPr>
              <a:t>分値</a:t>
            </a:r>
            <a:r>
              <a:rPr b="0" lang="en-US" sz="1400" spc="-1" strike="noStrike">
                <a:solidFill>
                  <a:srgbClr val="000000"/>
                </a:solidFill>
                <a:latin typeface="ＭＳ Ｐゴシック"/>
              </a:rPr>
              <a:t>)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Child-Pugh A(5) </a:t>
            </a:r>
            <a:r>
              <a:rPr b="0" lang="ja-JP" sz="1400" spc="-1" strike="noStrike">
                <a:solidFill>
                  <a:srgbClr val="000000"/>
                </a:solidFill>
                <a:latin typeface="ＭＳ Ｐゴシック"/>
              </a:rPr>
              <a:t>→</a:t>
            </a:r>
            <a:r>
              <a:rPr b="0" lang="ja-JP" sz="1400" spc="-1" strike="noStrike">
                <a:solidFill>
                  <a:srgbClr val="000000"/>
                </a:solidFill>
                <a:latin typeface="ＭＳ Ｐゴシック"/>
              </a:rPr>
              <a:t>各項目で１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より下記の表における肝障害度</a:t>
            </a:r>
            <a:r>
              <a:rPr b="0" lang="en-US" sz="1400" spc="-1" strike="noStrike">
                <a:solidFill>
                  <a:srgbClr val="000000"/>
                </a:solidFill>
                <a:latin typeface="ＭＳ Ｐゴシック"/>
              </a:rPr>
              <a:t>A</a:t>
            </a:r>
            <a:r>
              <a:rPr b="0" lang="ja-JP" sz="1400" spc="-1" strike="noStrike">
                <a:solidFill>
                  <a:srgbClr val="000000"/>
                </a:solidFill>
                <a:latin typeface="ＭＳ Ｐゴシック"/>
              </a:rPr>
              <a:t>に分類さ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肝予備能が肝切除術に耐えうるものと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拡大左葉切除術が選択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r>
              <a:rPr b="0" lang="ja-JP" sz="1400" spc="-1" strike="noStrike">
                <a:solidFill>
                  <a:srgbClr val="000000"/>
                </a:solidFill>
                <a:latin typeface="ＭＳ Ｐゴシック"/>
              </a:rPr>
              <a:t>に手術予定である。</a:t>
            </a:r>
            <a:endParaRPr b="0" lang="en-US" sz="1400" spc="-1" strike="noStrike">
              <a:solidFill>
                <a:srgbClr val="000000"/>
              </a:solidFill>
              <a:latin typeface="Arial"/>
            </a:endParaRPr>
          </a:p>
        </p:txBody>
      </p:sp>
      <p:pic>
        <p:nvPicPr>
          <p:cNvPr id="732" name="図 2" descr=""/>
          <p:cNvPicPr/>
          <p:nvPr/>
        </p:nvPicPr>
        <p:blipFill>
          <a:blip r:embed="rId1"/>
          <a:srcRect l="64176" t="27601" r="5113" b="22002"/>
          <a:stretch/>
        </p:blipFill>
        <p:spPr>
          <a:xfrm>
            <a:off x="4572000" y="3789360"/>
            <a:ext cx="4471920" cy="2449440"/>
          </a:xfrm>
          <a:prstGeom prst="rect">
            <a:avLst/>
          </a:prstGeom>
          <a:ln w="0">
            <a:noFill/>
          </a:ln>
        </p:spPr>
      </p:pic>
      <p:sp>
        <p:nvSpPr>
          <p:cNvPr id="733" name="直線コネクタ 4"/>
          <p:cNvSpPr/>
          <p:nvPr/>
        </p:nvSpPr>
        <p:spPr>
          <a:xfrm>
            <a:off x="4716360" y="6021360"/>
            <a:ext cx="2305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Picture 7" descr=""/>
          <p:cNvPicPr/>
          <p:nvPr/>
        </p:nvPicPr>
        <p:blipFill>
          <a:blip r:embed="rId2"/>
          <a:stretch/>
        </p:blipFill>
        <p:spPr>
          <a:xfrm>
            <a:off x="284040" y="2343240"/>
            <a:ext cx="3676680" cy="3678120"/>
          </a:xfrm>
          <a:prstGeom prst="rect">
            <a:avLst/>
          </a:prstGeom>
          <a:ln w="0">
            <a:noFill/>
          </a:ln>
        </p:spPr>
      </p:pic>
      <p:cxnSp>
        <p:nvCxnSpPr>
          <p:cNvPr id="735" name="直線矢印コネクタ 2"/>
          <p:cNvCxnSpPr/>
          <p:nvPr/>
        </p:nvCxnSpPr>
        <p:spPr>
          <a:xfrm flipH="1">
            <a:off x="2075040" y="3428640"/>
            <a:ext cx="576360" cy="144720"/>
          </a:xfrm>
          <a:prstGeom prst="straightConnector1">
            <a:avLst/>
          </a:prstGeom>
          <a:ln w="28440">
            <a:solidFill>
              <a:srgbClr val="ffff00"/>
            </a:solidFill>
            <a:miter/>
            <a:tailEnd len="med" type="triangle" w="med"/>
          </a:ln>
        </p:spPr>
      </p:cxnSp>
      <p:sp>
        <p:nvSpPr>
          <p:cNvPr id="736" name="楕円 1"/>
          <p:cNvSpPr/>
          <p:nvPr/>
        </p:nvSpPr>
        <p:spPr>
          <a:xfrm>
            <a:off x="6156360" y="4581360"/>
            <a:ext cx="36036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楕円 9"/>
          <p:cNvSpPr/>
          <p:nvPr/>
        </p:nvSpPr>
        <p:spPr>
          <a:xfrm>
            <a:off x="6181560" y="4797360"/>
            <a:ext cx="4780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楕円 10"/>
          <p:cNvSpPr/>
          <p:nvPr/>
        </p:nvSpPr>
        <p:spPr>
          <a:xfrm>
            <a:off x="6156360" y="5041800"/>
            <a:ext cx="47952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楕円 11"/>
          <p:cNvSpPr/>
          <p:nvPr/>
        </p:nvSpPr>
        <p:spPr>
          <a:xfrm>
            <a:off x="6167520" y="5327640"/>
            <a:ext cx="4795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楕円 13"/>
          <p:cNvSpPr/>
          <p:nvPr/>
        </p:nvSpPr>
        <p:spPr>
          <a:xfrm>
            <a:off x="6167520" y="5603760"/>
            <a:ext cx="468360" cy="241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06:36Z</dcterms:modified>
  <cp:revision>141</cp:revision>
  <dc:subject/>
  <dc:title>肝胆膵病態学総論</dc:title>
</cp:coreProperties>
</file>