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dt" idx="27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 type="ftr" idx="28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6"/>
          <p:cNvSpPr>
            <a:spLocks noGrp="1"/>
          </p:cNvSpPr>
          <p:nvPr>
            <p:ph type="sldNum" idx="29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0B1D3-B774-44CE-AD27-187D1B7A9E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スライド番号プレースホルダー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3C82E-CDC4-4EA7-BD4C-D68D7CB48C0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ボノプラザン（タケキャブ）→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トリメブチン　→　胃腸薬（慢性胃炎、過敏性腸症候群：腸の動きを正常化す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メコバラミン（メチコバール）→　ビタミン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製剤（末梢神経障害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モサプリド　→　副交感神経刺激薬（消化管運動亢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酪酸塩（ビオスリー）→　整腸剤（下痢、便秘、腹部膨満：乳酸菌を補う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プレカバリン（リリカ）→　鎮痛（中枢神経系において神経細胞を興奮させ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イオンの流入を抑え、興奮性神経伝達物質の過剰な放出を抑え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酸化マグネシウム　→　排便を促す（塩類下剤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ジメモルファリン（アストミン錠）→　鎮咳薬（咳中枢の抑制、気道拡張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エピナスチン　→　抗ヒスタミン薬（咳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スライド番号プレースホルダー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17626-3278-4AF8-A5E9-27DF4A1CFB8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PH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シスプラチン製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スライド番号プレースホルダー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2DB96-AA9D-44E3-8292-F4B68FE8A3E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67DD7B-868E-4F42-BD9E-360AAB430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EEFB22-1808-426E-B7BC-D5EB88544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63F640-A108-4668-B4CD-ACDCF4C85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B2903A-2993-4AE5-9888-82FE9FD27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EBE442-ECDA-4A76-B1C0-0EA74C7C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46E54F-AA34-40A0-94A0-69CED5D6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5E21C2-D454-4CA4-95B5-D89A9EEC1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118735-C1C0-4F1A-A9C4-2BA36CCCB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840D53-650F-4EDC-A9E8-E32E27F83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90D0127-1358-42CC-ADFF-D5F8CF1BB5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F1763DF-2ADC-4F82-B7C7-E0EABF4F8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30493A4-4C74-41D6-AD0F-5EFE23496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8A284E2-B737-4122-93A7-016C0BE84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B7BB8F8-21A6-4A51-8F97-A496927D7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CBEB546-301D-46E8-B275-F421FCED0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18D1D2C-5374-4477-A23F-CAAF6E00F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FFED62C-4E1E-4AB5-8D1F-C9E319761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A7E3B51-377C-4D3F-8B04-CCAD13E74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DE39EA6-E10E-4867-B9C5-EB832AE07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919280D-673A-4326-B82D-8E112234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9079740-1EE6-47B3-835D-F121632A032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F98575-F188-4909-BBF2-367AF87F967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8A27E4-79B1-48B2-B762-7D4668812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574109-BF26-4808-9B05-EDD472088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3AE620-25B5-462F-8367-523EDA437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89653E-43CD-44ED-8A34-7371EF6ED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BC4EA4-A486-4030-9827-2783F4435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A6899A-8EFF-49F6-B03F-F7A857E49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6901CE-276D-4269-B0AD-9CE9DD91F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810D30-919B-4F52-BED7-FB6DB86EA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3442EA-1DE5-4526-8AFC-17AEC5186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9B1105-000A-4A98-8E42-75294D5A0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F70CD0-9F6B-4969-8132-326FE7B70A3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688653-7D96-4253-94F7-0EE7751FC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05241-0963-4895-8298-9E777689E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7D4ADC-66DB-4E24-AC2C-C52BA339D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F48355-84FD-4C35-B388-4665E7883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9DB826-0022-46ED-BE29-BB40C48DE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D4DF40-4E6C-4116-A59C-D8EC0AB19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F097FD-CF38-45E7-9B43-64ECA589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261B23-8C8F-4F2D-ACBC-9400B38C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2AB817-72AC-4CC3-80BE-91700B6D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D62ACB-0B97-488E-BA5E-F67FAA7B3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A00F42-F0CB-4FE4-9D00-459069117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A93EA8-6F29-4BEB-8D21-E1F37D127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26C1ED-85D3-4182-B0F8-E349A545E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A3115E-BC99-4F2A-B8F5-0B89782C1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BCF553-AC27-4ECC-A6BD-7A51CC846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A9F142-8746-4668-B75E-11E4774DF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10F82A-D0CF-4D91-AAC9-2CC3C0111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430A23-DFC9-4680-8FD8-D4B1B9275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BDF68D-FA4F-4211-87E2-56989C7AE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030826-45B3-4D9B-A63B-DFC146178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AC7799-E1D0-4077-A6CC-F88CDF28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97EBD3-C8CE-41D0-91E4-790D0054E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2B163F-98FE-478A-92E0-98D6CE53E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8ECAA0-EA17-4D8A-BA02-B57E0332F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68B5557-7956-4FC5-8AD2-BF58BA6E77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8FB5F42-F260-482F-B2D1-585B7D1E5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6077D27-7A99-43D7-A8CF-EFFAB3F36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73B86FE-1E24-471E-A481-CD1D80985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FC886B-E0ED-4731-9C06-27282DFE7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B475F08-A596-4CE9-97A4-4114F371C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C46A04F-088A-4A41-BE43-71A640308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D1C36B6-51A8-40C6-B7B9-9B5ADA89F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9BD2C6B-1155-4087-8652-7C08B984F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38898E9-3569-4F63-A277-6D2D9916D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E960894-2237-4A7F-BF9D-4464836D6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51B4A47-9BED-4791-8275-F6E7E029F7E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FAF7E-7E79-4455-9712-9747299B5F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B655E-5BA0-4E10-A053-5B5794D43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FB10B-8AC1-4D55-91F6-ED5AFFEA7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7EF07-8A5C-4C50-AAEF-C88E24D19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24B4A-F717-4E6C-BF58-11ACB25B0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AC6E8-895B-4CB0-BF8A-0A7911674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19ACD-F858-4C2C-AA09-9D4B85F74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EEB93-A3A6-4FF2-8046-AF38F396D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952DE-E2A3-41C9-AC0B-33A03A9D2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AD470-B780-4392-A6AF-146EA649E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E808E-0E86-4D59-AF76-4CA81DE8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7EE9B-9636-4F81-BEBA-8D51E61FCD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6509B5-336A-4C0A-8435-B488CF5F8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521D39-3F1A-4D45-85EF-63CBDE727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1BB577-96C1-4905-8086-B7CD90D38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73260B-4292-47E0-8E57-D2D32D233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5504CE-D746-492F-8E11-4C68DD1E0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4F297D-C928-4FEC-8BB8-88460BD20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A69836-9E7C-402C-A7C5-87D82BB17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AABE71-B4F3-4FEA-B312-E3A472582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20336A-7158-4696-AC88-8AFDBC9A3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B4219D-0FA9-47D6-AD55-C8C675B67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5EFCA4-3831-4FC0-A1E4-C26573B82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F10887-0E63-46A5-A45C-94BFF3408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46312C-3F61-4C96-A3EA-6115F34BE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24C202-36D7-4618-B48D-10F83B116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0A97F9-E777-4104-9CBE-93B3A3155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364805-B945-4916-BB3D-038C22C54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D93BD4-DECD-4810-A1EC-787E3CDD5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999871-CF10-4496-8808-A197FA563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C95190-77E1-4F48-B2E8-AF2E43A9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D748F6-F781-44BD-B3CA-4452CA923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DC261C-75BF-40AA-9282-B6AC6335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84594D-3F4B-4817-A417-FF99711DD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DF9F13-A166-4057-A794-672B198C3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510FBB-694C-4BE1-8737-63652842D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31720D-F1D6-4FD8-A019-3A24F36CA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90AE94-16BF-4E59-8E23-C0BE03644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157680-A07C-4F6E-9328-FF7299400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D9B694-2201-4C8D-ACA1-6276D331A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D13EE0-1242-4207-8D66-F215B54E8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EC3A57-3180-43BF-AC93-518F2792B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831A6A-C2C0-4298-B7EF-135C39A6B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E2E69A-94C7-4AA7-BDFC-F74EDC79B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96FF0F-D67F-475F-9DF8-D0A214FD5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78FA4C-8347-4625-8EA3-0CD07CA11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DCDB68-B1EB-4C6E-90C9-F47FEF1CE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1C571C-7AD6-4F0B-87E8-18163352E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1ABD54-5D80-435C-B277-0B56FEF3C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BE22CA-A426-4632-B8D0-E8847A0AB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BE6B07-C5DF-411A-AD64-4F0F8E11F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09.xml"/><Relationship Id="rId10" Type="http://schemas.openxmlformats.org/officeDocument/2006/relationships/slideLayout" Target="../slideLayouts/slideLayout110.xml"/><Relationship Id="rId11" Type="http://schemas.openxmlformats.org/officeDocument/2006/relationships/slideLayout" Target="../slideLayouts/slideLayout111.xml"/><Relationship Id="rId12" Type="http://schemas.openxmlformats.org/officeDocument/2006/relationships/slideLayout" Target="../slideLayouts/slideLayout112.xml"/><Relationship Id="rId13" Type="http://schemas.openxmlformats.org/officeDocument/2006/relationships/slideLayout" Target="../slideLayouts/slideLayout113.xml"/><Relationship Id="rId14" Type="http://schemas.openxmlformats.org/officeDocument/2006/relationships/slideLayout" Target="../slideLayouts/slideLayout114.xml"/><Relationship Id="rId15" Type="http://schemas.openxmlformats.org/officeDocument/2006/relationships/slideLayout" Target="../slideLayouts/slideLayout115.xml"/><Relationship Id="rId16" Type="http://schemas.openxmlformats.org/officeDocument/2006/relationships/slideLayout" Target="../slideLayouts/slideLayout116.xml"/><Relationship Id="rId17" Type="http://schemas.openxmlformats.org/officeDocument/2006/relationships/slideLayout" Target="../slideLayouts/slideLayout117.xml"/><Relationship Id="rId18" Type="http://schemas.openxmlformats.org/officeDocument/2006/relationships/slideLayout" Target="../slideLayouts/slideLayout118.xml"/><Relationship Id="rId19" Type="http://schemas.openxmlformats.org/officeDocument/2006/relationships/slideLayout" Target="../slideLayouts/slideLayout119.xml"/><Relationship Id="rId20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21.xml"/><Relationship Id="rId10" Type="http://schemas.openxmlformats.org/officeDocument/2006/relationships/slideLayout" Target="../slideLayouts/slideLayout122.xml"/><Relationship Id="rId11" Type="http://schemas.openxmlformats.org/officeDocument/2006/relationships/slideLayout" Target="../slideLayouts/slideLayout123.xml"/><Relationship Id="rId12" Type="http://schemas.openxmlformats.org/officeDocument/2006/relationships/slideLayout" Target="../slideLayouts/slideLayout124.xml"/><Relationship Id="rId13" Type="http://schemas.openxmlformats.org/officeDocument/2006/relationships/slideLayout" Target="../slideLayouts/slideLayout125.xml"/><Relationship Id="rId14" Type="http://schemas.openxmlformats.org/officeDocument/2006/relationships/slideLayout" Target="../slideLayouts/slideLayout126.xml"/><Relationship Id="rId15" Type="http://schemas.openxmlformats.org/officeDocument/2006/relationships/slideLayout" Target="../slideLayouts/slideLayout127.xml"/><Relationship Id="rId16" Type="http://schemas.openxmlformats.org/officeDocument/2006/relationships/slideLayout" Target="../slideLayouts/slideLayout128.xml"/><Relationship Id="rId17" Type="http://schemas.openxmlformats.org/officeDocument/2006/relationships/slideLayout" Target="../slideLayouts/slideLayout129.xml"/><Relationship Id="rId18" Type="http://schemas.openxmlformats.org/officeDocument/2006/relationships/slideLayout" Target="../slideLayouts/slideLayout130.xml"/><Relationship Id="rId19" Type="http://schemas.openxmlformats.org/officeDocument/2006/relationships/slideLayout" Target="../slideLayouts/slideLayout131.xml"/><Relationship Id="rId20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33.xml"/><Relationship Id="rId10" Type="http://schemas.openxmlformats.org/officeDocument/2006/relationships/slideLayout" Target="../slideLayouts/slideLayout134.xml"/><Relationship Id="rId11" Type="http://schemas.openxmlformats.org/officeDocument/2006/relationships/slideLayout" Target="../slideLayouts/slideLayout135.xml"/><Relationship Id="rId12" Type="http://schemas.openxmlformats.org/officeDocument/2006/relationships/slideLayout" Target="../slideLayouts/slideLayout136.xml"/><Relationship Id="rId13" Type="http://schemas.openxmlformats.org/officeDocument/2006/relationships/slideLayout" Target="../slideLayouts/slideLayout137.xml"/><Relationship Id="rId14" Type="http://schemas.openxmlformats.org/officeDocument/2006/relationships/slideLayout" Target="../slideLayouts/slideLayout138.xml"/><Relationship Id="rId15" Type="http://schemas.openxmlformats.org/officeDocument/2006/relationships/slideLayout" Target="../slideLayouts/slideLayout139.xml"/><Relationship Id="rId16" Type="http://schemas.openxmlformats.org/officeDocument/2006/relationships/slideLayout" Target="../slideLayouts/slideLayout140.xml"/><Relationship Id="rId17" Type="http://schemas.openxmlformats.org/officeDocument/2006/relationships/slideLayout" Target="../slideLayouts/slideLayout141.xml"/><Relationship Id="rId18" Type="http://schemas.openxmlformats.org/officeDocument/2006/relationships/slideLayout" Target="../slideLayouts/slideLayout142.xml"/><Relationship Id="rId19" Type="http://schemas.openxmlformats.org/officeDocument/2006/relationships/slideLayout" Target="../slideLayouts/slideLayout143.xml"/><Relationship Id="rId20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45.xml"/><Relationship Id="rId10" Type="http://schemas.openxmlformats.org/officeDocument/2006/relationships/slideLayout" Target="../slideLayouts/slideLayout146.xml"/><Relationship Id="rId11" Type="http://schemas.openxmlformats.org/officeDocument/2006/relationships/slideLayout" Target="../slideLayouts/slideLayout147.xml"/><Relationship Id="rId12" Type="http://schemas.openxmlformats.org/officeDocument/2006/relationships/slideLayout" Target="../slideLayouts/slideLayout148.xml"/><Relationship Id="rId13" Type="http://schemas.openxmlformats.org/officeDocument/2006/relationships/slideLayout" Target="../slideLayouts/slideLayout149.xml"/><Relationship Id="rId14" Type="http://schemas.openxmlformats.org/officeDocument/2006/relationships/slideLayout" Target="../slideLayouts/slideLayout150.xml"/><Relationship Id="rId15" Type="http://schemas.openxmlformats.org/officeDocument/2006/relationships/slideLayout" Target="../slideLayouts/slideLayout151.xml"/><Relationship Id="rId16" Type="http://schemas.openxmlformats.org/officeDocument/2006/relationships/slideLayout" Target="../slideLayouts/slideLayout152.xml"/><Relationship Id="rId17" Type="http://schemas.openxmlformats.org/officeDocument/2006/relationships/slideLayout" Target="../slideLayouts/slideLayout153.xml"/><Relationship Id="rId18" Type="http://schemas.openxmlformats.org/officeDocument/2006/relationships/slideLayout" Target="../slideLayouts/slideLayout154.xml"/><Relationship Id="rId19" Type="http://schemas.openxmlformats.org/officeDocument/2006/relationships/slideLayout" Target="../slideLayouts/slideLayout155.xml"/><Relationship Id="rId20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57.xml"/><Relationship Id="rId10" Type="http://schemas.openxmlformats.org/officeDocument/2006/relationships/slideLayout" Target="../slideLayouts/slideLayout158.xml"/><Relationship Id="rId11" Type="http://schemas.openxmlformats.org/officeDocument/2006/relationships/slideLayout" Target="../slideLayouts/slideLayout159.xml"/><Relationship Id="rId12" Type="http://schemas.openxmlformats.org/officeDocument/2006/relationships/slideLayout" Target="../slideLayouts/slideLayout160.xml"/><Relationship Id="rId13" Type="http://schemas.openxmlformats.org/officeDocument/2006/relationships/slideLayout" Target="../slideLayouts/slideLayout161.xml"/><Relationship Id="rId14" Type="http://schemas.openxmlformats.org/officeDocument/2006/relationships/slideLayout" Target="../slideLayouts/slideLayout162.xml"/><Relationship Id="rId15" Type="http://schemas.openxmlformats.org/officeDocument/2006/relationships/slideLayout" Target="../slideLayouts/slideLayout163.xml"/><Relationship Id="rId16" Type="http://schemas.openxmlformats.org/officeDocument/2006/relationships/slideLayout" Target="../slideLayouts/slideLayout164.xml"/><Relationship Id="rId17" Type="http://schemas.openxmlformats.org/officeDocument/2006/relationships/slideLayout" Target="../slideLayouts/slideLayout165.xml"/><Relationship Id="rId18" Type="http://schemas.openxmlformats.org/officeDocument/2006/relationships/slideLayout" Target="../slideLayouts/slideLayout166.xml"/><Relationship Id="rId19" Type="http://schemas.openxmlformats.org/officeDocument/2006/relationships/slideLayout" Target="../slideLayouts/slideLayout167.xml"/><Relationship Id="rId20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61.xml"/><Relationship Id="rId10" Type="http://schemas.openxmlformats.org/officeDocument/2006/relationships/slideLayout" Target="../slideLayouts/slideLayout62.xml"/><Relationship Id="rId11" Type="http://schemas.openxmlformats.org/officeDocument/2006/relationships/slideLayout" Target="../slideLayouts/slideLayout63.xml"/><Relationship Id="rId12" Type="http://schemas.openxmlformats.org/officeDocument/2006/relationships/slideLayout" Target="../slideLayouts/slideLayout64.xml"/><Relationship Id="rId13" Type="http://schemas.openxmlformats.org/officeDocument/2006/relationships/slideLayout" Target="../slideLayouts/slideLayout65.xml"/><Relationship Id="rId14" Type="http://schemas.openxmlformats.org/officeDocument/2006/relationships/slideLayout" Target="../slideLayouts/slideLayout66.xml"/><Relationship Id="rId15" Type="http://schemas.openxmlformats.org/officeDocument/2006/relationships/slideLayout" Target="../slideLayouts/slideLayout67.xml"/><Relationship Id="rId16" Type="http://schemas.openxmlformats.org/officeDocument/2006/relationships/slideLayout" Target="../slideLayouts/slideLayout68.xml"/><Relationship Id="rId17" Type="http://schemas.openxmlformats.org/officeDocument/2006/relationships/slideLayout" Target="../slideLayouts/slideLayout69.xml"/><Relationship Id="rId18" Type="http://schemas.openxmlformats.org/officeDocument/2006/relationships/slideLayout" Target="../slideLayouts/slideLayout70.xml"/><Relationship Id="rId19" Type="http://schemas.openxmlformats.org/officeDocument/2006/relationships/slideLayout" Target="../slideLayouts/slideLayout71.xml"/><Relationship Id="rId20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85.xml"/><Relationship Id="rId10" Type="http://schemas.openxmlformats.org/officeDocument/2006/relationships/slideLayout" Target="../slideLayouts/slideLayout86.xml"/><Relationship Id="rId11" Type="http://schemas.openxmlformats.org/officeDocument/2006/relationships/slideLayout" Target="../slideLayouts/slideLayout87.xml"/><Relationship Id="rId12" Type="http://schemas.openxmlformats.org/officeDocument/2006/relationships/slideLayout" Target="../slideLayouts/slideLayout88.xml"/><Relationship Id="rId13" Type="http://schemas.openxmlformats.org/officeDocument/2006/relationships/slideLayout" Target="../slideLayouts/slideLayout89.xml"/><Relationship Id="rId14" Type="http://schemas.openxmlformats.org/officeDocument/2006/relationships/slideLayout" Target="../slideLayouts/slideLayout90.xml"/><Relationship Id="rId15" Type="http://schemas.openxmlformats.org/officeDocument/2006/relationships/slideLayout" Target="../slideLayouts/slideLayout91.xml"/><Relationship Id="rId16" Type="http://schemas.openxmlformats.org/officeDocument/2006/relationships/slideLayout" Target="../slideLayouts/slideLayout92.xml"/><Relationship Id="rId17" Type="http://schemas.openxmlformats.org/officeDocument/2006/relationships/slideLayout" Target="../slideLayouts/slideLayout93.xml"/><Relationship Id="rId18" Type="http://schemas.openxmlformats.org/officeDocument/2006/relationships/slideLayout" Target="../slideLayouts/slideLayout94.xml"/><Relationship Id="rId19" Type="http://schemas.openxmlformats.org/officeDocument/2006/relationships/slideLayout" Target="../slideLayouts/slideLayout95.xml"/><Relationship Id="rId20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97.xml"/><Relationship Id="rId10" Type="http://schemas.openxmlformats.org/officeDocument/2006/relationships/slideLayout" Target="../slideLayouts/slideLayout98.xml"/><Relationship Id="rId11" Type="http://schemas.openxmlformats.org/officeDocument/2006/relationships/slideLayout" Target="../slideLayouts/slideLayout99.xml"/><Relationship Id="rId12" Type="http://schemas.openxmlformats.org/officeDocument/2006/relationships/slideLayout" Target="../slideLayouts/slideLayout100.xml"/><Relationship Id="rId13" Type="http://schemas.openxmlformats.org/officeDocument/2006/relationships/slideLayout" Target="../slideLayouts/slideLayout101.xml"/><Relationship Id="rId14" Type="http://schemas.openxmlformats.org/officeDocument/2006/relationships/slideLayout" Target="../slideLayouts/slideLayout102.xml"/><Relationship Id="rId15" Type="http://schemas.openxmlformats.org/officeDocument/2006/relationships/slideLayout" Target="../slideLayouts/slideLayout103.xml"/><Relationship Id="rId16" Type="http://schemas.openxmlformats.org/officeDocument/2006/relationships/slideLayout" Target="../slideLayouts/slideLayout104.xml"/><Relationship Id="rId17" Type="http://schemas.openxmlformats.org/officeDocument/2006/relationships/slideLayout" Target="../slideLayouts/slideLayout105.xml"/><Relationship Id="rId18" Type="http://schemas.openxmlformats.org/officeDocument/2006/relationships/slideLayout" Target="../slideLayouts/slideLayout106.xml"/><Relationship Id="rId19" Type="http://schemas.openxmlformats.org/officeDocument/2006/relationships/slideLayout" Target="../slideLayouts/slideLayout107.xml"/><Relationship Id="rId20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2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3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4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5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7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9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3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3" descr="C:\Users\ppw126\Desktop\rogo_IMG\rogo_IMG\25%_rogo.png"/>
          <p:cNvPicPr/>
          <p:nvPr/>
        </p:nvPicPr>
        <p:blipFill>
          <a:blip r:embed="rId3"/>
          <a:stretch/>
        </p:blipFill>
        <p:spPr>
          <a:xfrm>
            <a:off x="395280" y="115920"/>
            <a:ext cx="576360" cy="582480"/>
          </a:xfrm>
          <a:prstGeom prst="rect">
            <a:avLst/>
          </a:prstGeom>
          <a:ln w="0">
            <a:noFill/>
          </a:ln>
        </p:spPr>
      </p:pic>
      <p:grpSp>
        <p:nvGrpSpPr>
          <p:cNvPr id="428" name="グループ化 2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429" name="グループ化 23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430" name="グループ化 2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431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2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433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34" name="グループ化 24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435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6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37" name="PlaceHolder 1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9587A-A8CD-42BF-AAB0-1A1EF678F7D9}" type="datetime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26/07/30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F542A-1B35-46C9-8E5F-269AC9CA6BD6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9"/>
    <p:sldLayoutId id="2147483767" r:id="rId10"/>
    <p:sldLayoutId id="2147483768" r:id="rId11"/>
    <p:sldLayoutId id="2147483769" r:id="rId12"/>
    <p:sldLayoutId id="2147483770" r:id="rId13"/>
    <p:sldLayoutId id="2147483771" r:id="rId14"/>
    <p:sldLayoutId id="2147483772" r:id="rId15"/>
    <p:sldLayoutId id="2147483773" r:id="rId16"/>
    <p:sldLayoutId id="2147483774" r:id="rId17"/>
    <p:sldLayoutId id="2147483775" r:id="rId18"/>
    <p:sldLayoutId id="2147483776" r:id="rId19"/>
    <p:sldLayoutId id="2147483777" r:id="rId20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Picture 3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3" descr="C:\Users\ppw126\Desktop\rogo_IMG\rogo_IMG\25%_rogo.png"/>
          <p:cNvPicPr/>
          <p:nvPr/>
        </p:nvPicPr>
        <p:blipFill>
          <a:blip r:embed="rId3"/>
          <a:stretch/>
        </p:blipFill>
        <p:spPr>
          <a:xfrm>
            <a:off x="395280" y="115920"/>
            <a:ext cx="576360" cy="582480"/>
          </a:xfrm>
          <a:prstGeom prst="rect">
            <a:avLst/>
          </a:prstGeom>
          <a:ln w="0">
            <a:noFill/>
          </a:ln>
        </p:spPr>
      </p:pic>
      <p:grpSp>
        <p:nvGrpSpPr>
          <p:cNvPr id="477" name="グループ化 2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478" name="グループ化 23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479" name="グループ化 2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480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1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482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83" name="グループ化 24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484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5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86" name="PlaceHolder 1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4B95A-7BEE-49C2-A0BE-2216A466919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9"/>
    <p:sldLayoutId id="2147483780" r:id="rId10"/>
    <p:sldLayoutId id="2147483781" r:id="rId11"/>
    <p:sldLayoutId id="2147483782" r:id="rId12"/>
    <p:sldLayoutId id="2147483783" r:id="rId13"/>
    <p:sldLayoutId id="2147483784" r:id="rId14"/>
    <p:sldLayoutId id="2147483785" r:id="rId15"/>
    <p:sldLayoutId id="2147483786" r:id="rId16"/>
    <p:sldLayoutId id="2147483787" r:id="rId17"/>
    <p:sldLayoutId id="2147483788" r:id="rId18"/>
    <p:sldLayoutId id="2147483789" r:id="rId19"/>
    <p:sldLayoutId id="2147483790" r:id="rId20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3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3" descr="C:\Users\ppw126\Desktop\rogo_IMG\rogo_IMG\25%_rogo.png"/>
          <p:cNvPicPr/>
          <p:nvPr/>
        </p:nvPicPr>
        <p:blipFill>
          <a:blip r:embed="rId3"/>
          <a:stretch/>
        </p:blipFill>
        <p:spPr>
          <a:xfrm>
            <a:off x="395280" y="115920"/>
            <a:ext cx="576360" cy="582480"/>
          </a:xfrm>
          <a:prstGeom prst="rect">
            <a:avLst/>
          </a:prstGeom>
          <a:ln w="0">
            <a:noFill/>
          </a:ln>
        </p:spPr>
      </p:pic>
      <p:grpSp>
        <p:nvGrpSpPr>
          <p:cNvPr id="526" name="グループ化 2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527" name="グループ化 23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528" name="グループ化 2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529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0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31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2" name="グループ化 24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533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4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35" name="PlaceHolder 1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0CA4F-B522-471D-8BFF-E389CCC6EF7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9"/>
    <p:sldLayoutId id="2147483793" r:id="rId10"/>
    <p:sldLayoutId id="2147483794" r:id="rId11"/>
    <p:sldLayoutId id="2147483795" r:id="rId12"/>
    <p:sldLayoutId id="2147483796" r:id="rId13"/>
    <p:sldLayoutId id="2147483797" r:id="rId14"/>
    <p:sldLayoutId id="2147483798" r:id="rId15"/>
    <p:sldLayoutId id="2147483799" r:id="rId16"/>
    <p:sldLayoutId id="2147483800" r:id="rId17"/>
    <p:sldLayoutId id="2147483801" r:id="rId18"/>
    <p:sldLayoutId id="2147483802" r:id="rId19"/>
    <p:sldLayoutId id="2147483803" r:id="rId20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Picture 3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3" descr="C:\Users\ppw126\Desktop\rogo_IMG\rogo_IMG\25%_rogo.png"/>
          <p:cNvPicPr/>
          <p:nvPr/>
        </p:nvPicPr>
        <p:blipFill>
          <a:blip r:embed="rId3"/>
          <a:stretch/>
        </p:blipFill>
        <p:spPr>
          <a:xfrm>
            <a:off x="395280" y="115920"/>
            <a:ext cx="576360" cy="582480"/>
          </a:xfrm>
          <a:prstGeom prst="rect">
            <a:avLst/>
          </a:prstGeom>
          <a:ln w="0">
            <a:noFill/>
          </a:ln>
        </p:spPr>
      </p:pic>
      <p:grpSp>
        <p:nvGrpSpPr>
          <p:cNvPr id="576" name="グループ化 2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577" name="グループ化 23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578" name="グループ化 2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579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0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81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2" name="グループ化 24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583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4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85" name="PlaceHolder 1"/>
          <p:cNvSpPr>
            <a:spLocks noGrp="1"/>
          </p:cNvSpPr>
          <p:nvPr>
            <p:ph type="dt" idx="2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ftr" idx="2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sldNum" idx="2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C2F09-000D-4873-97A6-5233A3BB1C11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9"/>
    <p:sldLayoutId id="2147483806" r:id="rId10"/>
    <p:sldLayoutId id="2147483807" r:id="rId11"/>
    <p:sldLayoutId id="2147483808" r:id="rId12"/>
    <p:sldLayoutId id="2147483809" r:id="rId13"/>
    <p:sldLayoutId id="2147483810" r:id="rId14"/>
    <p:sldLayoutId id="2147483811" r:id="rId15"/>
    <p:sldLayoutId id="2147483812" r:id="rId16"/>
    <p:sldLayoutId id="2147483813" r:id="rId17"/>
    <p:sldLayoutId id="2147483814" r:id="rId18"/>
    <p:sldLayoutId id="2147483815" r:id="rId19"/>
    <p:sldLayoutId id="2147483816" r:id="rId20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628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629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630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631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2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633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4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635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6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37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3045C-8289-41FC-B435-52E1EC9A3CCC}" type="datetime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26/07/30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A5D7F-09EA-46D2-9BD3-C181BAC71E44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9"/>
    <p:sldLayoutId id="2147483819" r:id="rId10"/>
    <p:sldLayoutId id="2147483820" r:id="rId11"/>
    <p:sldLayoutId id="2147483821" r:id="rId12"/>
    <p:sldLayoutId id="2147483822" r:id="rId13"/>
    <p:sldLayoutId id="2147483823" r:id="rId14"/>
    <p:sldLayoutId id="2147483824" r:id="rId15"/>
    <p:sldLayoutId id="2147483825" r:id="rId16"/>
    <p:sldLayoutId id="2147483826" r:id="rId17"/>
    <p:sldLayoutId id="2147483827" r:id="rId18"/>
    <p:sldLayoutId id="2147483828" r:id="rId19"/>
    <p:sldLayoutId id="2147483829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C:\Users\ppw126\Desktop\rogo_IMG\rogo_IMG\25%_rogo.png"/>
          <p:cNvPicPr/>
          <p:nvPr/>
        </p:nvPicPr>
        <p:blipFill>
          <a:blip r:embed="rId3"/>
          <a:stretch/>
        </p:blipFill>
        <p:spPr>
          <a:xfrm>
            <a:off x="395280" y="115920"/>
            <a:ext cx="576360" cy="582480"/>
          </a:xfrm>
          <a:prstGeom prst="rect">
            <a:avLst/>
          </a:prstGeom>
          <a:ln w="0">
            <a:noFill/>
          </a:ln>
        </p:spPr>
      </p:pic>
      <p:grpSp>
        <p:nvGrpSpPr>
          <p:cNvPr id="49" name="グループ化 2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50" name="グループ化 23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51" name="グループ化 2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52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4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5" name="グループ化 24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56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C:\Users\ppw126\Desktop\rogo_IMG\rogo_IMG\25%_rogo.png"/>
          <p:cNvPicPr/>
          <p:nvPr/>
        </p:nvPicPr>
        <p:blipFill>
          <a:blip r:embed="rId3"/>
          <a:stretch/>
        </p:blipFill>
        <p:spPr>
          <a:xfrm>
            <a:off x="395280" y="115920"/>
            <a:ext cx="576360" cy="582480"/>
          </a:xfrm>
          <a:prstGeom prst="rect">
            <a:avLst/>
          </a:prstGeom>
          <a:ln w="0">
            <a:noFill/>
          </a:ln>
        </p:spPr>
      </p:pic>
      <p:grpSp>
        <p:nvGrpSpPr>
          <p:cNvPr id="96" name="グループ化 2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97" name="グループ化 23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98" name="グループ化 2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99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0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01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2" name="グループ化 24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103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143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144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145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146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7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48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9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150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1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190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191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192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193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4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95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96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197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8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99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A86E6-B711-4B0B-BCFC-39D49A931BC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239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240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241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242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3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244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5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246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7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48" name="PlaceHolder 1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979BA-A844-4829-89B7-DE84BB93E07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9"/>
    <p:sldLayoutId id="2147483715" r:id="rId10"/>
    <p:sldLayoutId id="2147483716" r:id="rId11"/>
    <p:sldLayoutId id="2147483717" r:id="rId12"/>
    <p:sldLayoutId id="2147483718" r:id="rId13"/>
    <p:sldLayoutId id="2147483719" r:id="rId14"/>
    <p:sldLayoutId id="2147483720" r:id="rId15"/>
    <p:sldLayoutId id="2147483721" r:id="rId16"/>
    <p:sldLayoutId id="2147483722" r:id="rId17"/>
    <p:sldLayoutId id="2147483723" r:id="rId18"/>
    <p:sldLayoutId id="2147483724" r:id="rId19"/>
    <p:sldLayoutId id="2147483725" r:id="rId20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C8F0B-B69C-4E11-B926-8A1DD419891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328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329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330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331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2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333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34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335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6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37" name="PlaceHolder 1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8E065-957E-4573-BCC0-9466F090BF6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9"/>
    <p:sldLayoutId id="2147483741" r:id="rId10"/>
    <p:sldLayoutId id="2147483742" r:id="rId11"/>
    <p:sldLayoutId id="2147483743" r:id="rId12"/>
    <p:sldLayoutId id="2147483744" r:id="rId13"/>
    <p:sldLayoutId id="2147483745" r:id="rId14"/>
    <p:sldLayoutId id="2147483746" r:id="rId15"/>
    <p:sldLayoutId id="2147483747" r:id="rId16"/>
    <p:sldLayoutId id="2147483748" r:id="rId17"/>
    <p:sldLayoutId id="2147483749" r:id="rId18"/>
    <p:sldLayoutId id="2147483750" r:id="rId19"/>
    <p:sldLayoutId id="2147483751" r:id="rId20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378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379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380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381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2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383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84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385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6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87" name="PlaceHolder 1"/>
          <p:cNvSpPr>
            <a:spLocks noGrp="1"/>
          </p:cNvSpPr>
          <p:nvPr>
            <p:ph type="dt" idx="1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ftr" idx="1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sldNum" idx="1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84A2F-5AC5-4B1D-BD28-E1D2D121BF68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9"/>
    <p:sldLayoutId id="2147483754" r:id="rId10"/>
    <p:sldLayoutId id="2147483755" r:id="rId11"/>
    <p:sldLayoutId id="2147483756" r:id="rId12"/>
    <p:sldLayoutId id="2147483757" r:id="rId13"/>
    <p:sldLayoutId id="2147483758" r:id="rId14"/>
    <p:sldLayoutId id="2147483759" r:id="rId15"/>
    <p:sldLayoutId id="2147483760" r:id="rId16"/>
    <p:sldLayoutId id="2147483761" r:id="rId17"/>
    <p:sldLayoutId id="2147483762" r:id="rId18"/>
    <p:sldLayoutId id="2147483763" r:id="rId19"/>
    <p:sldLayoutId id="2147483764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テキスト ボックス 1"/>
          <p:cNvSpPr/>
          <p:nvPr/>
        </p:nvSpPr>
        <p:spPr>
          <a:xfrm>
            <a:off x="2629800" y="1444680"/>
            <a:ext cx="3884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5400" spc="-1" strike="noStrike">
                <a:solidFill>
                  <a:srgbClr val="006600"/>
                </a:solidFill>
                <a:latin typeface="Arial"/>
              </a:rPr>
              <a:t>多発肝細胞癌に対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00"/>
                </a:solidFill>
                <a:latin typeface="Arial"/>
              </a:rPr>
              <a:t>TACE</a:t>
            </a:r>
            <a:r>
              <a:rPr b="1" lang="ja-JP" sz="5400" spc="-1" strike="noStrike">
                <a:solidFill>
                  <a:srgbClr val="006600"/>
                </a:solidFill>
                <a:latin typeface="Arial"/>
              </a:rPr>
              <a:t>を施行した一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0" y="82080"/>
            <a:ext cx="9144000" cy="7002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6600"/>
                </a:solidFill>
                <a:latin typeface="Calibri"/>
              </a:rPr>
              <a:t>現病歴　既往歴　治療介入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テキスト ボックス 3"/>
          <p:cNvSpPr/>
          <p:nvPr/>
        </p:nvSpPr>
        <p:spPr>
          <a:xfrm>
            <a:off x="6300720" y="871560"/>
            <a:ext cx="2151000" cy="398880"/>
          </a:xfrm>
          <a:prstGeom prst="rect">
            <a:avLst/>
          </a:prstGeom>
          <a:solidFill>
            <a:srgbClr val="e6e0e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5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歳　再発する肝細胞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テキスト ボックス 56"/>
          <p:cNvSpPr/>
          <p:nvPr/>
        </p:nvSpPr>
        <p:spPr>
          <a:xfrm>
            <a:off x="586080" y="1320840"/>
            <a:ext cx="8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019</a:t>
            </a:r>
            <a:r>
              <a:rPr b="0" lang="ja-JP" sz="1600" spc="-1" strike="noStrike">
                <a:solidFill>
                  <a:srgbClr val="ff0000"/>
                </a:solidFill>
                <a:latin typeface="Arial"/>
              </a:rPr>
              <a:t>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6" name="グループ化 7"/>
          <p:cNvGrpSpPr/>
          <p:nvPr/>
        </p:nvGrpSpPr>
        <p:grpSpPr>
          <a:xfrm>
            <a:off x="95400" y="1657440"/>
            <a:ext cx="8622720" cy="3332160"/>
            <a:chOff x="95400" y="1657440"/>
            <a:chExt cx="8622720" cy="3332160"/>
          </a:xfrm>
        </p:grpSpPr>
        <p:sp>
          <p:nvSpPr>
            <p:cNvPr id="687" name="角丸四角形 9"/>
            <p:cNvSpPr/>
            <p:nvPr/>
          </p:nvSpPr>
          <p:spPr>
            <a:xfrm>
              <a:off x="468360" y="2882880"/>
              <a:ext cx="1211040" cy="406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ＭＳ Ｐゴシック"/>
                </a:rPr>
                <a:t>TAE</a:t>
              </a:r>
              <a:r>
                <a:rPr b="0" lang="ja-JP" sz="1100" spc="-1" strike="noStrike">
                  <a:solidFill>
                    <a:srgbClr val="000000"/>
                  </a:solidFill>
                  <a:latin typeface="ＭＳ Ｐゴシック"/>
                </a:rPr>
                <a:t>施行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ＭＳ Ｐゴシック"/>
                </a:rPr>
                <a:t>（当院放射線科）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8" name="グループ化 5"/>
            <p:cNvGrpSpPr/>
            <p:nvPr/>
          </p:nvGrpSpPr>
          <p:grpSpPr>
            <a:xfrm>
              <a:off x="95400" y="1657440"/>
              <a:ext cx="8622720" cy="3332160"/>
              <a:chOff x="95400" y="1657440"/>
              <a:chExt cx="8622720" cy="3332160"/>
            </a:xfrm>
          </p:grpSpPr>
          <p:sp>
            <p:nvSpPr>
              <p:cNvPr id="689" name="直線コネクタ 77"/>
              <p:cNvSpPr/>
              <p:nvPr/>
            </p:nvSpPr>
            <p:spPr>
              <a:xfrm>
                <a:off x="7667640" y="2000160"/>
                <a:ext cx="0" cy="1139760"/>
              </a:xfrm>
              <a:prstGeom prst="line">
                <a:avLst/>
              </a:prstGeom>
              <a:ln w="381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直線コネクタ 51"/>
              <p:cNvSpPr/>
              <p:nvPr/>
            </p:nvSpPr>
            <p:spPr>
              <a:xfrm>
                <a:off x="2882880" y="2860560"/>
                <a:ext cx="7920" cy="1216080"/>
              </a:xfrm>
              <a:prstGeom prst="line">
                <a:avLst/>
              </a:prstGeom>
              <a:ln w="381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直線コネクタ 53"/>
              <p:cNvSpPr/>
              <p:nvPr/>
            </p:nvSpPr>
            <p:spPr>
              <a:xfrm>
                <a:off x="3967200" y="1993680"/>
                <a:ext cx="0" cy="2562480"/>
              </a:xfrm>
              <a:prstGeom prst="line">
                <a:avLst/>
              </a:prstGeom>
              <a:ln w="381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直線コネクタ 55"/>
              <p:cNvSpPr/>
              <p:nvPr/>
            </p:nvSpPr>
            <p:spPr>
              <a:xfrm>
                <a:off x="5867640" y="1987560"/>
                <a:ext cx="0" cy="1265040"/>
              </a:xfrm>
              <a:prstGeom prst="line">
                <a:avLst/>
              </a:prstGeom>
              <a:ln w="381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直線コネクタ 57"/>
              <p:cNvSpPr/>
              <p:nvPr/>
            </p:nvSpPr>
            <p:spPr>
              <a:xfrm>
                <a:off x="4788000" y="1987560"/>
                <a:ext cx="0" cy="556920"/>
              </a:xfrm>
              <a:prstGeom prst="line">
                <a:avLst/>
              </a:prstGeom>
              <a:ln w="381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直線コネクタ 59"/>
              <p:cNvSpPr/>
              <p:nvPr/>
            </p:nvSpPr>
            <p:spPr>
              <a:xfrm>
                <a:off x="6443640" y="1989000"/>
                <a:ext cx="0" cy="1739880"/>
              </a:xfrm>
              <a:prstGeom prst="line">
                <a:avLst/>
              </a:prstGeom>
              <a:ln w="381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直線コネクタ 61"/>
              <p:cNvSpPr/>
              <p:nvPr/>
            </p:nvSpPr>
            <p:spPr>
              <a:xfrm>
                <a:off x="7093080" y="1989000"/>
                <a:ext cx="0" cy="703080"/>
              </a:xfrm>
              <a:prstGeom prst="line">
                <a:avLst/>
              </a:prstGeom>
              <a:ln w="381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直線コネクタ 48"/>
              <p:cNvSpPr/>
              <p:nvPr/>
            </p:nvSpPr>
            <p:spPr>
              <a:xfrm>
                <a:off x="2881440" y="1989000"/>
                <a:ext cx="0" cy="555480"/>
              </a:xfrm>
              <a:prstGeom prst="line">
                <a:avLst/>
              </a:prstGeom>
              <a:ln w="381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角丸四角形 33"/>
              <p:cNvSpPr/>
              <p:nvPr/>
            </p:nvSpPr>
            <p:spPr>
              <a:xfrm>
                <a:off x="7812360" y="3589560"/>
                <a:ext cx="865080" cy="41580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ＭＳ Ｐゴシック"/>
                  </a:rPr>
                  <a:t>TACE</a:t>
                </a:r>
                <a:r>
                  <a:rPr b="1" lang="ja-JP" sz="1100" spc="-1" strike="noStrike">
                    <a:solidFill>
                      <a:srgbClr val="ffffff"/>
                    </a:solidFill>
                    <a:latin typeface="ＭＳ Ｐゴシック"/>
                  </a:rPr>
                  <a:t>④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100" spc="-1" strike="noStrike">
                    <a:solidFill>
                      <a:srgbClr val="ffffff"/>
                    </a:solidFill>
                    <a:latin typeface="ＭＳ Ｐゴシック"/>
                  </a:rPr>
                  <a:t>（</a:t>
                </a:r>
                <a:r>
                  <a:rPr b="1" lang="en-US" sz="1100" spc="-1" strike="noStrike">
                    <a:solidFill>
                      <a:srgbClr val="ffffff"/>
                    </a:solidFill>
                    <a:latin typeface="ＭＳ Ｐゴシック"/>
                  </a:rPr>
                  <a:t>S7,S8</a:t>
                </a:r>
                <a:r>
                  <a:rPr b="1" lang="ja-JP" sz="1100" spc="-1" strike="noStrike">
                    <a:solidFill>
                      <a:srgbClr val="ffffff"/>
                    </a:solidFill>
                    <a:latin typeface="ＭＳ Ｐゴシック"/>
                  </a:rPr>
                  <a:t>）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角丸四角形 27"/>
              <p:cNvSpPr/>
              <p:nvPr/>
            </p:nvSpPr>
            <p:spPr>
              <a:xfrm>
                <a:off x="2368440" y="4077000"/>
                <a:ext cx="1152360" cy="4330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消化器内科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紹介受診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角丸四角形 23"/>
              <p:cNvSpPr/>
              <p:nvPr/>
            </p:nvSpPr>
            <p:spPr>
              <a:xfrm>
                <a:off x="1135080" y="3414960"/>
                <a:ext cx="1276200" cy="647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腹腔鏡下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肝部分切除（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ＭＳ Ｐゴシック"/>
                  </a:rPr>
                  <a:t>S6</a:t>
                </a: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）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（当院外科）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角丸四角形 13"/>
              <p:cNvSpPr/>
              <p:nvPr/>
            </p:nvSpPr>
            <p:spPr>
              <a:xfrm>
                <a:off x="4156200" y="2347920"/>
                <a:ext cx="1357200" cy="5871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558e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ＭＳ Ｐゴシック"/>
                  </a:rPr>
                  <a:t>CT</a:t>
                </a: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にて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ＭＳ Ｐゴシック"/>
                  </a:rPr>
                  <a:t>S5/6</a:t>
                </a: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に多発再発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ＭＳ Ｐゴシック"/>
                  </a:rPr>
                  <a:t>S</a:t>
                </a: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８単発を指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01" name="直線矢印コネクタ 4"/>
              <p:cNvCxnSpPr/>
              <p:nvPr/>
            </p:nvCxnSpPr>
            <p:spPr>
              <a:xfrm>
                <a:off x="221760" y="1960200"/>
                <a:ext cx="8496720" cy="1080"/>
              </a:xfrm>
              <a:prstGeom prst="straightConnector1">
                <a:avLst/>
              </a:prstGeom>
              <a:ln w="7632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702" name="角丸四角形 28"/>
              <p:cNvSpPr/>
              <p:nvPr/>
            </p:nvSpPr>
            <p:spPr>
              <a:xfrm>
                <a:off x="6524640" y="2357280"/>
                <a:ext cx="1606320" cy="5047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558e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ＭＳ Ｐゴシック"/>
                  </a:rPr>
                  <a:t>CT</a:t>
                </a: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にて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ＭＳ Ｐゴシック"/>
                  </a:rPr>
                  <a:t>S7</a:t>
                </a: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、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ＭＳ Ｐゴシック"/>
                  </a:rPr>
                  <a:t>S8</a:t>
                </a: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に多発再発出現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曲折矢印 40"/>
              <p:cNvSpPr/>
              <p:nvPr/>
            </p:nvSpPr>
            <p:spPr>
              <a:xfrm flipH="1" rot="10800000">
                <a:off x="3206880" y="4516560"/>
                <a:ext cx="288720" cy="287280"/>
              </a:xfrm>
              <a:custGeom>
                <a:avLst/>
                <a:gdLst/>
                <a:ahLst/>
                <a:rect l="l" t="t" r="r" b="b"/>
                <a:pathLst>
                  <a:path w="288925" h="287337">
                    <a:moveTo>
                      <a:pt x="0" y="287337"/>
                    </a:moveTo>
                    <a:lnTo>
                      <a:pt x="0" y="161627"/>
                    </a:lnTo>
                    <a:cubicBezTo>
                      <a:pt x="0" y="92199"/>
                      <a:pt x="56282" y="35917"/>
                      <a:pt x="125710" y="35917"/>
                    </a:cubicBezTo>
                    <a:lnTo>
                      <a:pt x="217091" y="35917"/>
                    </a:lnTo>
                    <a:lnTo>
                      <a:pt x="217091" y="0"/>
                    </a:lnTo>
                    <a:lnTo>
                      <a:pt x="288925" y="71834"/>
                    </a:lnTo>
                    <a:lnTo>
                      <a:pt x="217091" y="143669"/>
                    </a:lnTo>
                    <a:lnTo>
                      <a:pt x="217091" y="107751"/>
                    </a:lnTo>
                    <a:lnTo>
                      <a:pt x="125710" y="107751"/>
                    </a:lnTo>
                    <a:cubicBezTo>
                      <a:pt x="95955" y="107751"/>
                      <a:pt x="71834" y="131872"/>
                      <a:pt x="71834" y="161627"/>
                    </a:cubicBezTo>
                    <a:lnTo>
                      <a:pt x="71834" y="287337"/>
                    </a:lnTo>
                    <a:lnTo>
                      <a:pt x="0" y="287337"/>
                    </a:lnTo>
                    <a:close/>
                  </a:path>
                </a:pathLst>
              </a:custGeom>
              <a:solidFill>
                <a:srgbClr val="4f62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曲折矢印 41"/>
              <p:cNvSpPr/>
              <p:nvPr/>
            </p:nvSpPr>
            <p:spPr>
              <a:xfrm flipH="1" rot="10800000">
                <a:off x="5147280" y="2924280"/>
                <a:ext cx="276120" cy="379440"/>
              </a:xfrm>
              <a:custGeom>
                <a:avLst/>
                <a:gdLst/>
                <a:ahLst/>
                <a:rect l="l" t="t" r="r" b="b"/>
                <a:pathLst>
                  <a:path w="276225" h="379413">
                    <a:moveTo>
                      <a:pt x="0" y="379413"/>
                    </a:moveTo>
                    <a:lnTo>
                      <a:pt x="0" y="155377"/>
                    </a:lnTo>
                    <a:cubicBezTo>
                      <a:pt x="0" y="88634"/>
                      <a:pt x="54105" y="34529"/>
                      <a:pt x="120848" y="34529"/>
                    </a:cubicBezTo>
                    <a:lnTo>
                      <a:pt x="207169" y="34528"/>
                    </a:lnTo>
                    <a:lnTo>
                      <a:pt x="207169" y="0"/>
                    </a:lnTo>
                    <a:lnTo>
                      <a:pt x="276225" y="69056"/>
                    </a:lnTo>
                    <a:lnTo>
                      <a:pt x="207169" y="138113"/>
                    </a:lnTo>
                    <a:lnTo>
                      <a:pt x="207169" y="103584"/>
                    </a:lnTo>
                    <a:lnTo>
                      <a:pt x="120848" y="103584"/>
                    </a:lnTo>
                    <a:cubicBezTo>
                      <a:pt x="92244" y="103584"/>
                      <a:pt x="69056" y="126772"/>
                      <a:pt x="69056" y="155376"/>
                    </a:cubicBezTo>
                    <a:lnTo>
                      <a:pt x="69056" y="379413"/>
                    </a:lnTo>
                    <a:lnTo>
                      <a:pt x="0" y="379413"/>
                    </a:lnTo>
                    <a:close/>
                  </a:path>
                </a:pathLst>
              </a:custGeom>
              <a:solidFill>
                <a:srgbClr val="4f62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曲折矢印 42"/>
              <p:cNvSpPr/>
              <p:nvPr/>
            </p:nvSpPr>
            <p:spPr>
              <a:xfrm flipH="1" rot="10800000">
                <a:off x="5724720" y="3428640"/>
                <a:ext cx="288720" cy="360360"/>
              </a:xfrm>
              <a:custGeom>
                <a:avLst/>
                <a:gdLst/>
                <a:ahLst/>
                <a:rect l="l" t="t" r="r" b="b"/>
                <a:pathLst>
                  <a:path w="288925" h="360363">
                    <a:moveTo>
                      <a:pt x="0" y="360363"/>
                    </a:moveTo>
                    <a:lnTo>
                      <a:pt x="0" y="162520"/>
                    </a:lnTo>
                    <a:cubicBezTo>
                      <a:pt x="0" y="92708"/>
                      <a:pt x="56593" y="36115"/>
                      <a:pt x="126405" y="36115"/>
                    </a:cubicBezTo>
                    <a:lnTo>
                      <a:pt x="216694" y="36116"/>
                    </a:lnTo>
                    <a:lnTo>
                      <a:pt x="216694" y="0"/>
                    </a:lnTo>
                    <a:lnTo>
                      <a:pt x="288925" y="72231"/>
                    </a:lnTo>
                    <a:lnTo>
                      <a:pt x="216694" y="144463"/>
                    </a:lnTo>
                    <a:lnTo>
                      <a:pt x="216694" y="108347"/>
                    </a:lnTo>
                    <a:lnTo>
                      <a:pt x="126405" y="108347"/>
                    </a:lnTo>
                    <a:cubicBezTo>
                      <a:pt x="96486" y="108347"/>
                      <a:pt x="72232" y="132601"/>
                      <a:pt x="72232" y="162520"/>
                    </a:cubicBezTo>
                    <a:cubicBezTo>
                      <a:pt x="72232" y="228468"/>
                      <a:pt x="72231" y="294415"/>
                      <a:pt x="72231" y="360363"/>
                    </a:cubicBezTo>
                    <a:lnTo>
                      <a:pt x="0" y="360363"/>
                    </a:lnTo>
                    <a:close/>
                  </a:path>
                </a:pathLst>
              </a:custGeom>
              <a:solidFill>
                <a:srgbClr val="4f62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曲折矢印 43"/>
              <p:cNvSpPr/>
              <p:nvPr/>
            </p:nvSpPr>
            <p:spPr>
              <a:xfrm flipH="1" rot="10800000">
                <a:off x="6948720" y="2852640"/>
                <a:ext cx="287280" cy="358560"/>
              </a:xfrm>
              <a:custGeom>
                <a:avLst/>
                <a:gdLst/>
                <a:ahLst/>
                <a:rect l="l" t="t" r="r" b="b"/>
                <a:pathLst>
                  <a:path w="287337" h="358775">
                    <a:moveTo>
                      <a:pt x="0" y="358775"/>
                    </a:moveTo>
                    <a:lnTo>
                      <a:pt x="0" y="161627"/>
                    </a:lnTo>
                    <a:cubicBezTo>
                      <a:pt x="0" y="92199"/>
                      <a:pt x="56282" y="35917"/>
                      <a:pt x="125710" y="35917"/>
                    </a:cubicBezTo>
                    <a:lnTo>
                      <a:pt x="215503" y="35917"/>
                    </a:lnTo>
                    <a:lnTo>
                      <a:pt x="215503" y="0"/>
                    </a:lnTo>
                    <a:lnTo>
                      <a:pt x="287337" y="71834"/>
                    </a:lnTo>
                    <a:lnTo>
                      <a:pt x="215503" y="143669"/>
                    </a:lnTo>
                    <a:lnTo>
                      <a:pt x="215503" y="107751"/>
                    </a:lnTo>
                    <a:lnTo>
                      <a:pt x="125710" y="107751"/>
                    </a:lnTo>
                    <a:cubicBezTo>
                      <a:pt x="95955" y="107751"/>
                      <a:pt x="71834" y="131872"/>
                      <a:pt x="71834" y="161627"/>
                    </a:cubicBezTo>
                    <a:lnTo>
                      <a:pt x="71834" y="358775"/>
                    </a:lnTo>
                    <a:lnTo>
                      <a:pt x="0" y="358775"/>
                    </a:lnTo>
                    <a:close/>
                  </a:path>
                </a:pathLst>
              </a:custGeom>
              <a:solidFill>
                <a:srgbClr val="4f62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直線コネクタ 46"/>
              <p:cNvSpPr/>
              <p:nvPr/>
            </p:nvSpPr>
            <p:spPr>
              <a:xfrm>
                <a:off x="1763640" y="1987560"/>
                <a:ext cx="7920" cy="1407960"/>
              </a:xfrm>
              <a:prstGeom prst="line">
                <a:avLst/>
              </a:prstGeom>
              <a:ln w="381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直線コネクタ 50"/>
              <p:cNvSpPr/>
              <p:nvPr/>
            </p:nvSpPr>
            <p:spPr>
              <a:xfrm>
                <a:off x="851040" y="1989000"/>
                <a:ext cx="0" cy="309240"/>
              </a:xfrm>
              <a:prstGeom prst="line">
                <a:avLst/>
              </a:prstGeom>
              <a:ln w="381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9" name="グループ化 2"/>
              <p:cNvGrpSpPr/>
              <p:nvPr/>
            </p:nvGrpSpPr>
            <p:grpSpPr>
              <a:xfrm>
                <a:off x="95400" y="2306520"/>
                <a:ext cx="1530360" cy="850320"/>
                <a:chOff x="95400" y="2306520"/>
                <a:chExt cx="1530360" cy="850320"/>
              </a:xfrm>
            </p:grpSpPr>
            <p:sp>
              <p:nvSpPr>
                <p:cNvPr id="710" name="角丸四角形 13"/>
                <p:cNvSpPr/>
                <p:nvPr/>
              </p:nvSpPr>
              <p:spPr>
                <a:xfrm>
                  <a:off x="95400" y="2306520"/>
                  <a:ext cx="1530360" cy="476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25560">
                  <a:solidFill>
                    <a:srgbClr val="558ed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ja-JP" sz="1100" spc="-1" strike="noStrike">
                      <a:solidFill>
                        <a:srgbClr val="000000"/>
                      </a:solidFill>
                      <a:latin typeface="ＭＳ Ｐゴシック"/>
                    </a:rPr>
                    <a:t>肝細胞癌破裂による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ja-JP" sz="1100" spc="-1" strike="noStrike">
                      <a:solidFill>
                        <a:srgbClr val="000000"/>
                      </a:solidFill>
                      <a:latin typeface="ＭＳ Ｐゴシック"/>
                    </a:rPr>
                    <a:t>腹腔内出血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曲折矢印 36"/>
                <p:cNvSpPr/>
                <p:nvPr/>
              </p:nvSpPr>
              <p:spPr>
                <a:xfrm flipH="1" rot="10800000">
                  <a:off x="177840" y="2796480"/>
                  <a:ext cx="277560" cy="360360"/>
                </a:xfrm>
                <a:custGeom>
                  <a:avLst/>
                  <a:gdLst/>
                  <a:ahLst/>
                  <a:rect l="l" t="t" r="r" b="b"/>
                  <a:pathLst>
                    <a:path w="287009" h="360419">
                      <a:moveTo>
                        <a:pt x="0" y="360419"/>
                      </a:moveTo>
                      <a:lnTo>
                        <a:pt x="0" y="161443"/>
                      </a:lnTo>
                      <a:cubicBezTo>
                        <a:pt x="0" y="92095"/>
                        <a:pt x="56218" y="35877"/>
                        <a:pt x="125566" y="35877"/>
                      </a:cubicBezTo>
                      <a:lnTo>
                        <a:pt x="215257" y="35876"/>
                      </a:lnTo>
                      <a:lnTo>
                        <a:pt x="215257" y="0"/>
                      </a:lnTo>
                      <a:lnTo>
                        <a:pt x="287009" y="71752"/>
                      </a:lnTo>
                      <a:lnTo>
                        <a:pt x="215257" y="143505"/>
                      </a:lnTo>
                      <a:lnTo>
                        <a:pt x="215257" y="107628"/>
                      </a:lnTo>
                      <a:lnTo>
                        <a:pt x="125566" y="107628"/>
                      </a:lnTo>
                      <a:cubicBezTo>
                        <a:pt x="95845" y="107628"/>
                        <a:pt x="71752" y="131721"/>
                        <a:pt x="71752" y="161442"/>
                      </a:cubicBezTo>
                      <a:lnTo>
                        <a:pt x="71752" y="360419"/>
                      </a:lnTo>
                      <a:lnTo>
                        <a:pt x="0" y="360419"/>
                      </a:lnTo>
                      <a:close/>
                    </a:path>
                  </a:pathLst>
                </a:custGeom>
                <a:solidFill>
                  <a:srgbClr val="4f62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2" name="曲折矢印 36"/>
              <p:cNvSpPr/>
              <p:nvPr/>
            </p:nvSpPr>
            <p:spPr>
              <a:xfrm flipH="1" rot="10800000">
                <a:off x="826920" y="3295440"/>
                <a:ext cx="279360" cy="360360"/>
              </a:xfrm>
              <a:custGeom>
                <a:avLst/>
                <a:gdLst/>
                <a:ahLst/>
                <a:rect l="l" t="t" r="r" b="b"/>
                <a:pathLst>
                  <a:path w="279400" h="360363">
                    <a:moveTo>
                      <a:pt x="0" y="360363"/>
                    </a:moveTo>
                    <a:lnTo>
                      <a:pt x="0" y="157163"/>
                    </a:lnTo>
                    <a:cubicBezTo>
                      <a:pt x="0" y="89653"/>
                      <a:pt x="54728" y="34925"/>
                      <a:pt x="122238" y="34925"/>
                    </a:cubicBezTo>
                    <a:lnTo>
                      <a:pt x="209550" y="34925"/>
                    </a:lnTo>
                    <a:lnTo>
                      <a:pt x="209550" y="0"/>
                    </a:lnTo>
                    <a:lnTo>
                      <a:pt x="279400" y="69850"/>
                    </a:lnTo>
                    <a:lnTo>
                      <a:pt x="209550" y="139700"/>
                    </a:lnTo>
                    <a:lnTo>
                      <a:pt x="209550" y="104775"/>
                    </a:lnTo>
                    <a:lnTo>
                      <a:pt x="122238" y="104775"/>
                    </a:lnTo>
                    <a:cubicBezTo>
                      <a:pt x="93305" y="104775"/>
                      <a:pt x="69850" y="128230"/>
                      <a:pt x="69850" y="157163"/>
                    </a:cubicBezTo>
                    <a:lnTo>
                      <a:pt x="69850" y="360363"/>
                    </a:lnTo>
                    <a:lnTo>
                      <a:pt x="0" y="360363"/>
                    </a:lnTo>
                    <a:close/>
                  </a:path>
                </a:pathLst>
              </a:custGeom>
              <a:solidFill>
                <a:srgbClr val="4f62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角丸四角形 13"/>
              <p:cNvSpPr/>
              <p:nvPr/>
            </p:nvSpPr>
            <p:spPr>
              <a:xfrm>
                <a:off x="1987560" y="2324160"/>
                <a:ext cx="1828800" cy="6159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558e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術後腫瘍マーカー高値が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遷延し、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ＭＳ Ｐゴシック"/>
                  </a:rPr>
                  <a:t>CT</a:t>
                </a: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施行したところ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ＭＳ Ｐゴシック"/>
                  </a:rPr>
                  <a:t>S5/6</a:t>
                </a: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に多発再発出現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角丸四角形 9"/>
              <p:cNvSpPr/>
              <p:nvPr/>
            </p:nvSpPr>
            <p:spPr>
              <a:xfrm>
                <a:off x="3521160" y="4556520"/>
                <a:ext cx="888840" cy="4330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ＭＳ Ｐゴシック"/>
                  </a:rPr>
                  <a:t>TACE</a:t>
                </a: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（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ＭＳ Ｐゴシック"/>
                  </a:rPr>
                  <a:t>S5/6)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角丸四角形 9"/>
              <p:cNvSpPr/>
              <p:nvPr/>
            </p:nvSpPr>
            <p:spPr>
              <a:xfrm>
                <a:off x="5435640" y="3068640"/>
                <a:ext cx="928440" cy="350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放射線治療（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ＭＳ Ｐゴシック"/>
                  </a:rPr>
                  <a:t>S5/6</a:t>
                </a: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）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角丸四角形 9"/>
              <p:cNvSpPr/>
              <p:nvPr/>
            </p:nvSpPr>
            <p:spPr>
              <a:xfrm>
                <a:off x="7236000" y="2997360"/>
                <a:ext cx="888840" cy="4330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ＭＳ Ｐゴシック"/>
                  </a:rPr>
                  <a:t>TACE</a:t>
                </a: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③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（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ＭＳ Ｐゴシック"/>
                  </a:rPr>
                  <a:t>S</a:t>
                </a: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７、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ＭＳ Ｐゴシック"/>
                  </a:rPr>
                  <a:t>S8</a:t>
                </a: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）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角丸四角形 9"/>
              <p:cNvSpPr/>
              <p:nvPr/>
            </p:nvSpPr>
            <p:spPr>
              <a:xfrm>
                <a:off x="6012000" y="3573720"/>
                <a:ext cx="888840" cy="431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ＭＳ Ｐゴシック"/>
                  </a:rPr>
                  <a:t>TACE</a:t>
                </a: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②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（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ＭＳ Ｐゴシック"/>
                  </a:rPr>
                  <a:t>S8</a:t>
                </a: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）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直線コネクタ 78"/>
              <p:cNvSpPr/>
              <p:nvPr/>
            </p:nvSpPr>
            <p:spPr>
              <a:xfrm>
                <a:off x="8210520" y="2000160"/>
                <a:ext cx="0" cy="1573200"/>
              </a:xfrm>
              <a:prstGeom prst="line">
                <a:avLst/>
              </a:prstGeom>
              <a:ln w="381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19" name="グループ化 2"/>
              <p:cNvGrpSpPr/>
              <p:nvPr/>
            </p:nvGrpSpPr>
            <p:grpSpPr>
              <a:xfrm>
                <a:off x="587520" y="1657440"/>
                <a:ext cx="7945560" cy="307080"/>
                <a:chOff x="587520" y="1657440"/>
                <a:chExt cx="7945560" cy="307080"/>
              </a:xfrm>
            </p:grpSpPr>
            <p:sp>
              <p:nvSpPr>
                <p:cNvPr id="720" name="テキスト ボックス 30"/>
                <p:cNvSpPr/>
                <p:nvPr/>
              </p:nvSpPr>
              <p:spPr>
                <a:xfrm>
                  <a:off x="4500720" y="1657440"/>
                  <a:ext cx="57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ＭＳ Ｐゴシック"/>
                    </a:rPr>
                    <a:t>10</a:t>
                  </a:r>
                  <a:r>
                    <a:rPr b="1" lang="ja-JP" sz="1400" spc="-1" strike="noStrike">
                      <a:solidFill>
                        <a:srgbClr val="000000"/>
                      </a:solidFill>
                      <a:latin typeface="ＭＳ Ｐゴシック"/>
                    </a:rPr>
                    <a:t>月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テキスト ボックス 31"/>
                <p:cNvSpPr/>
                <p:nvPr/>
              </p:nvSpPr>
              <p:spPr>
                <a:xfrm>
                  <a:off x="5580360" y="1657440"/>
                  <a:ext cx="576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ＭＳ Ｐゴシック"/>
                    </a:rPr>
                    <a:t>11</a:t>
                  </a:r>
                  <a:r>
                    <a:rPr b="1" lang="ja-JP" sz="1400" spc="-1" strike="noStrike">
                      <a:solidFill>
                        <a:srgbClr val="000000"/>
                      </a:solidFill>
                      <a:latin typeface="ＭＳ Ｐゴシック"/>
                    </a:rPr>
                    <a:t>月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テキスト ボックス 32"/>
                <p:cNvSpPr/>
                <p:nvPr/>
              </p:nvSpPr>
              <p:spPr>
                <a:xfrm>
                  <a:off x="6870960" y="1657440"/>
                  <a:ext cx="576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ＭＳ Ｐゴシック"/>
                    </a:rPr>
                    <a:t>5</a:t>
                  </a:r>
                  <a:r>
                    <a:rPr b="1" lang="ja-JP" sz="1400" spc="-1" strike="noStrike">
                      <a:solidFill>
                        <a:srgbClr val="000000"/>
                      </a:solidFill>
                      <a:latin typeface="ＭＳ Ｐゴシック"/>
                    </a:rPr>
                    <a:t>月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テキスト ボックス 34"/>
                <p:cNvSpPr/>
                <p:nvPr/>
              </p:nvSpPr>
              <p:spPr>
                <a:xfrm>
                  <a:off x="6228000" y="1657440"/>
                  <a:ext cx="504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ＭＳ Ｐゴシック"/>
                    </a:rPr>
                    <a:t>2</a:t>
                  </a:r>
                  <a:r>
                    <a:rPr b="1" lang="ja-JP" sz="1400" spc="-1" strike="noStrike">
                      <a:solidFill>
                        <a:srgbClr val="000000"/>
                      </a:solidFill>
                      <a:latin typeface="ＭＳ Ｐゴシック"/>
                    </a:rPr>
                    <a:t>月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テキスト ボックス 15"/>
                <p:cNvSpPr/>
                <p:nvPr/>
              </p:nvSpPr>
              <p:spPr>
                <a:xfrm>
                  <a:off x="1548000" y="1657440"/>
                  <a:ext cx="576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ja-JP" sz="1400" spc="-1" strike="noStrike">
                      <a:solidFill>
                        <a:srgbClr val="ff0000"/>
                      </a:solidFill>
                      <a:latin typeface="Arial"/>
                    </a:rPr>
                    <a:t>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ＭＳ Ｐゴシック"/>
                    </a:rPr>
                    <a:t>3</a:t>
                  </a:r>
                  <a:r>
                    <a:rPr b="1" lang="ja-JP" sz="1400" spc="-1" strike="noStrike">
                      <a:solidFill>
                        <a:srgbClr val="000000"/>
                      </a:solidFill>
                      <a:latin typeface="ＭＳ Ｐゴシック"/>
                    </a:rPr>
                    <a:t>月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5" name="テキスト ボックス 16"/>
                <p:cNvSpPr/>
                <p:nvPr/>
              </p:nvSpPr>
              <p:spPr>
                <a:xfrm>
                  <a:off x="2603520" y="1657440"/>
                  <a:ext cx="6602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ja-JP" sz="1400" spc="-1" strike="noStrike">
                      <a:solidFill>
                        <a:srgbClr val="ff0000"/>
                      </a:solidFill>
                      <a:latin typeface="Arial"/>
                    </a:rPr>
                    <a:t>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ＭＳ Ｐゴシック"/>
                    </a:rPr>
                    <a:t>4</a:t>
                  </a:r>
                  <a:r>
                    <a:rPr b="1" lang="ja-JP" sz="1400" spc="-1" strike="noStrike">
                      <a:solidFill>
                        <a:srgbClr val="000000"/>
                      </a:solidFill>
                      <a:latin typeface="ＭＳ Ｐゴシック"/>
                    </a:rPr>
                    <a:t>月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テキスト ボックス 73"/>
                <p:cNvSpPr/>
                <p:nvPr/>
              </p:nvSpPr>
              <p:spPr>
                <a:xfrm>
                  <a:off x="3683160" y="1657440"/>
                  <a:ext cx="9493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ja-JP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ＭＳ Ｐゴシック"/>
                    </a:rPr>
                    <a:t>6</a:t>
                  </a:r>
                  <a:r>
                    <a:rPr b="1" lang="ja-JP" sz="1400" spc="-1" strike="noStrike">
                      <a:solidFill>
                        <a:srgbClr val="000000"/>
                      </a:solidFill>
                      <a:latin typeface="ＭＳ Ｐゴシック"/>
                    </a:rPr>
                    <a:t>月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テキスト ボックス 15"/>
                <p:cNvSpPr/>
                <p:nvPr/>
              </p:nvSpPr>
              <p:spPr>
                <a:xfrm>
                  <a:off x="587520" y="1657440"/>
                  <a:ext cx="576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ＭＳ Ｐゴシック"/>
                    </a:rPr>
                    <a:t>1</a:t>
                  </a:r>
                  <a:r>
                    <a:rPr b="1" lang="ja-JP" sz="1400" spc="-1" strike="noStrike">
                      <a:solidFill>
                        <a:srgbClr val="000000"/>
                      </a:solidFill>
                      <a:latin typeface="ＭＳ Ｐゴシック"/>
                    </a:rPr>
                    <a:t>月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8" name="テキスト ボックス 32"/>
                <p:cNvSpPr/>
                <p:nvPr/>
              </p:nvSpPr>
              <p:spPr>
                <a:xfrm>
                  <a:off x="7432920" y="1657440"/>
                  <a:ext cx="576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ＭＳ Ｐゴシック"/>
                    </a:rPr>
                    <a:t>７月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テキスト ボックス 32"/>
                <p:cNvSpPr/>
                <p:nvPr/>
              </p:nvSpPr>
              <p:spPr>
                <a:xfrm>
                  <a:off x="7957080" y="1657440"/>
                  <a:ext cx="576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ＭＳ Ｐゴシック"/>
                    </a:rPr>
                    <a:t>1</a:t>
                  </a:r>
                  <a:r>
                    <a:rPr b="1" lang="ja-JP" sz="1400" spc="-1" strike="noStrike">
                      <a:solidFill>
                        <a:srgbClr val="000000"/>
                      </a:solidFill>
                      <a:latin typeface="ＭＳ Ｐゴシック"/>
                    </a:rPr>
                    <a:t>月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0" name="曲折矢印 43"/>
              <p:cNvSpPr/>
              <p:nvPr/>
            </p:nvSpPr>
            <p:spPr>
              <a:xfrm flipH="1" rot="10800000">
                <a:off x="7524720" y="3438720"/>
                <a:ext cx="287280" cy="358560"/>
              </a:xfrm>
              <a:custGeom>
                <a:avLst/>
                <a:gdLst/>
                <a:ahLst/>
                <a:rect l="l" t="t" r="r" b="b"/>
                <a:pathLst>
                  <a:path w="287338" h="358775">
                    <a:moveTo>
                      <a:pt x="0" y="358775"/>
                    </a:moveTo>
                    <a:lnTo>
                      <a:pt x="0" y="161628"/>
                    </a:lnTo>
                    <a:cubicBezTo>
                      <a:pt x="0" y="92200"/>
                      <a:pt x="56282" y="35918"/>
                      <a:pt x="125710" y="35918"/>
                    </a:cubicBezTo>
                    <a:lnTo>
                      <a:pt x="215504" y="35917"/>
                    </a:lnTo>
                    <a:lnTo>
                      <a:pt x="215504" y="0"/>
                    </a:lnTo>
                    <a:lnTo>
                      <a:pt x="287338" y="71835"/>
                    </a:lnTo>
                    <a:lnTo>
                      <a:pt x="215504" y="143669"/>
                    </a:lnTo>
                    <a:lnTo>
                      <a:pt x="215504" y="107752"/>
                    </a:lnTo>
                    <a:lnTo>
                      <a:pt x="125710" y="107752"/>
                    </a:lnTo>
                    <a:cubicBezTo>
                      <a:pt x="95955" y="107752"/>
                      <a:pt x="71834" y="131873"/>
                      <a:pt x="71834" y="161628"/>
                    </a:cubicBezTo>
                    <a:cubicBezTo>
                      <a:pt x="71834" y="227344"/>
                      <a:pt x="71835" y="293059"/>
                      <a:pt x="71835" y="358775"/>
                    </a:cubicBezTo>
                    <a:lnTo>
                      <a:pt x="0" y="358775"/>
                    </a:lnTo>
                    <a:close/>
                  </a:path>
                </a:pathLst>
              </a:custGeom>
              <a:solidFill>
                <a:srgbClr val="4f62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31" name="テキスト ボックス 56"/>
          <p:cNvSpPr/>
          <p:nvPr/>
        </p:nvSpPr>
        <p:spPr>
          <a:xfrm>
            <a:off x="7755120" y="1314360"/>
            <a:ext cx="8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021</a:t>
            </a:r>
            <a:r>
              <a:rPr b="0" lang="ja-JP" sz="1600" spc="-1" strike="noStrike">
                <a:solidFill>
                  <a:srgbClr val="ff0000"/>
                </a:solidFill>
                <a:latin typeface="Arial"/>
              </a:rPr>
              <a:t>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テキスト ボックス 56"/>
          <p:cNvSpPr/>
          <p:nvPr/>
        </p:nvSpPr>
        <p:spPr>
          <a:xfrm>
            <a:off x="6108840" y="1320840"/>
            <a:ext cx="8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020</a:t>
            </a:r>
            <a:r>
              <a:rPr b="0" lang="ja-JP" sz="1600" spc="-1" strike="noStrike">
                <a:solidFill>
                  <a:srgbClr val="ff0000"/>
                </a:solidFill>
                <a:latin typeface="Arial"/>
              </a:rPr>
              <a:t>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3" name="グループ化 8"/>
          <p:cNvGrpSpPr/>
          <p:nvPr/>
        </p:nvGrpSpPr>
        <p:grpSpPr>
          <a:xfrm>
            <a:off x="415800" y="4287960"/>
            <a:ext cx="2919600" cy="1919160"/>
            <a:chOff x="415800" y="4287960"/>
            <a:chExt cx="2919600" cy="1919160"/>
          </a:xfrm>
        </p:grpSpPr>
        <p:pic>
          <p:nvPicPr>
            <p:cNvPr id="734" name="図 2" descr=""/>
            <p:cNvPicPr/>
            <p:nvPr/>
          </p:nvPicPr>
          <p:blipFill>
            <a:blip r:embed="rId1"/>
            <a:srcRect l="13723" t="11470" r="13496" b="14124"/>
            <a:stretch/>
          </p:blipFill>
          <p:spPr>
            <a:xfrm>
              <a:off x="415800" y="4287960"/>
              <a:ext cx="1878120" cy="191916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735" name="直線矢印コネクタ 6"/>
            <p:cNvCxnSpPr/>
            <p:nvPr/>
          </p:nvCxnSpPr>
          <p:spPr>
            <a:xfrm flipH="1">
              <a:off x="1582200" y="5732640"/>
              <a:ext cx="829440" cy="173520"/>
            </a:xfrm>
            <a:prstGeom prst="straightConnector1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736" name="テキスト ボックス 10"/>
            <p:cNvSpPr/>
            <p:nvPr/>
          </p:nvSpPr>
          <p:spPr>
            <a:xfrm>
              <a:off x="2446560" y="5594400"/>
              <a:ext cx="88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出血部位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7" name="図 2" descr=""/>
          <p:cNvPicPr/>
          <p:nvPr/>
        </p:nvPicPr>
        <p:blipFill>
          <a:blip r:embed="rId2"/>
          <a:stretch/>
        </p:blipFill>
        <p:spPr>
          <a:xfrm>
            <a:off x="6480000" y="4295880"/>
            <a:ext cx="225612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グループ化 15"/>
          <p:cNvGrpSpPr/>
          <p:nvPr/>
        </p:nvGrpSpPr>
        <p:grpSpPr>
          <a:xfrm>
            <a:off x="1403280" y="1068480"/>
            <a:ext cx="2664000" cy="5673600"/>
            <a:chOff x="1403280" y="1068480"/>
            <a:chExt cx="2664000" cy="5673600"/>
          </a:xfrm>
        </p:grpSpPr>
        <p:pic>
          <p:nvPicPr>
            <p:cNvPr id="739" name="Picture 3" descr="C:\Users\p039eb\Desktop\ポリクリ\全身図：前.png"/>
            <p:cNvPicPr/>
            <p:nvPr/>
          </p:nvPicPr>
          <p:blipFill>
            <a:blip r:embed="rId1"/>
            <a:stretch/>
          </p:blipFill>
          <p:spPr>
            <a:xfrm>
              <a:off x="1403280" y="1068480"/>
              <a:ext cx="2664000" cy="567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0" name="直線コネクタ 14"/>
            <p:cNvSpPr/>
            <p:nvPr/>
          </p:nvSpPr>
          <p:spPr>
            <a:xfrm>
              <a:off x="2776680" y="3141720"/>
              <a:ext cx="0" cy="2570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23760" y="38160"/>
            <a:ext cx="9144000" cy="6206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6600"/>
                </a:solidFill>
                <a:latin typeface="Calibri"/>
              </a:rPr>
              <a:t>身体所見のまと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テキスト ボックス 4"/>
          <p:cNvSpPr/>
          <p:nvPr/>
        </p:nvSpPr>
        <p:spPr>
          <a:xfrm>
            <a:off x="5014800" y="1197000"/>
            <a:ext cx="4116600" cy="4512960"/>
          </a:xfrm>
          <a:custGeom>
            <a:avLst/>
            <a:gdLst>
              <a:gd name="textAreaLeft" fmla="*/ 200880 w 4116600"/>
              <a:gd name="textAreaRight" fmla="*/ 3915720 w 4116600"/>
              <a:gd name="textAreaTop" fmla="*/ 200880 h 4512960"/>
              <a:gd name="textAreaBottom" fmla="*/ 4312080 h 4512960"/>
            </a:gdLst>
            <a:ahLst/>
            <a:rect l="textAreaLeft" t="textAreaTop" r="textAreaRight" b="textAreaBottom"/>
            <a:pathLst>
              <a:path w="21600" h="23680">
                <a:moveTo>
                  <a:pt x="3600" y="0"/>
                </a:moveTo>
                <a:arcTo wR="3600" hR="3600" stAng="16200000" swAng="-5400000"/>
                <a:lnTo>
                  <a:pt x="0" y="20080"/>
                </a:lnTo>
                <a:arcTo wR="3600" hR="3600" stAng="10800000" swAng="-5400000"/>
                <a:lnTo>
                  <a:pt x="18000" y="2368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【入院時所見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KT: 37.0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℃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, SpO2: 96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％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(room ai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下腿浮腫な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【生活歴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飲酒歴：な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喫煙歴：な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【家族歴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特記すべきことな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【既往歴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糖尿病、胃潰瘍、脂質異常症、過活動性膀胱、内痔核、左緑内障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ope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2019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年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HCC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にて肝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S6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切除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【アレルギー】な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内服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ボノプラザンフマル酸塩錠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(20mg)1T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　分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朝食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トリメブチンマレイン酸塩錠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(100mg)3T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　分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3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毎食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メコバラミン錠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(500ug)3T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　分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3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毎食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モサプリドクエン酸塩水和物錠（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5mg)3T 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　分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3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毎食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酪酸塩配合剤散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3T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　分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3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毎食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プレカバリン口腔内崩壊錠（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25mg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1cap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　分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就寝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酸化マグネシウム錠（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300mg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3T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　分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3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毎食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ジメモルファンリン酸塩錠（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10mg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3T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　分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3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毎食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エピナスチン塩酸塩錠（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10mg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2T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　分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2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朝食後、夕食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角丸四角形吹き出し 5"/>
          <p:cNvSpPr/>
          <p:nvPr/>
        </p:nvSpPr>
        <p:spPr>
          <a:xfrm>
            <a:off x="611280" y="981000"/>
            <a:ext cx="1728720" cy="854280"/>
          </a:xfrm>
          <a:prstGeom prst="wedgeRoundRectCallout">
            <a:avLst>
              <a:gd name="adj1" fmla="val 41222"/>
              <a:gd name="adj2" fmla="val 64236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alibri"/>
              </a:rPr>
              <a:t>意識清明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alibri"/>
              </a:rPr>
              <a:t>リンパ節腫脹</a:t>
            </a: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－</a:t>
            </a: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alibri"/>
              </a:rPr>
              <a:t>眼瞼結膜：貧血</a:t>
            </a: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－</a:t>
            </a: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alibri"/>
              </a:rPr>
              <a:t>眼球結膜：黄染</a:t>
            </a: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－</a:t>
            </a: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角丸四角形吹き出し 11"/>
          <p:cNvSpPr/>
          <p:nvPr/>
        </p:nvSpPr>
        <p:spPr>
          <a:xfrm>
            <a:off x="108000" y="2112840"/>
            <a:ext cx="2413080" cy="792360"/>
          </a:xfrm>
          <a:prstGeom prst="wedgeRoundRectCallout">
            <a:avLst>
              <a:gd name="adj1" fmla="val 60726"/>
              <a:gd name="adj2" fmla="val 32495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HR: 86, BP: 122/7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Heart</a:t>
            </a: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：心音正常、</a:t>
            </a: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no</a:t>
            </a: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murmu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Lung</a:t>
            </a: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：呼吸音正常、</a:t>
            </a: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no ral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角丸四角形吹き出し 12"/>
          <p:cNvSpPr/>
          <p:nvPr/>
        </p:nvSpPr>
        <p:spPr>
          <a:xfrm>
            <a:off x="3348000" y="2219400"/>
            <a:ext cx="1655640" cy="1657440"/>
          </a:xfrm>
          <a:prstGeom prst="wedgeRoundRectCallout">
            <a:avLst>
              <a:gd name="adj1" fmla="val -59972"/>
              <a:gd name="adj2" fmla="val 33949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腹部：平坦、軟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000000"/>
                </a:solidFill>
                <a:latin typeface="ＭＳ Ｐゴシック"/>
              </a:rPr>
              <a:t>圧痛</a:t>
            </a: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－</a:t>
            </a: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000000"/>
                </a:solidFill>
                <a:latin typeface="ＭＳ Ｐゴシック"/>
              </a:rPr>
              <a:t>腸蠕動音正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000000"/>
                </a:solidFill>
                <a:latin typeface="ＭＳ Ｐゴシック"/>
              </a:rPr>
              <a:t>血管雑音</a:t>
            </a: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－</a:t>
            </a: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脾・腎触知しない腫瘤触知しない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クモ状血管腫</a:t>
            </a: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－</a:t>
            </a: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角丸四角形吹き出し 27"/>
          <p:cNvSpPr/>
          <p:nvPr/>
        </p:nvSpPr>
        <p:spPr>
          <a:xfrm>
            <a:off x="1042920" y="5603760"/>
            <a:ext cx="1297080" cy="432000"/>
          </a:xfrm>
          <a:prstGeom prst="wedgeRoundRectCallout">
            <a:avLst>
              <a:gd name="adj1" fmla="val 67060"/>
              <a:gd name="adj2" fmla="val 38967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alibri"/>
              </a:rPr>
              <a:t>下腿浮腫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ja-JP" sz="1300" spc="-1" strike="noStrike">
                <a:solidFill>
                  <a:srgbClr val="000000"/>
                </a:solidFill>
                <a:latin typeface="Calibri"/>
              </a:rPr>
              <a:t>－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角丸四角形吹き出し 16"/>
          <p:cNvSpPr/>
          <p:nvPr/>
        </p:nvSpPr>
        <p:spPr>
          <a:xfrm>
            <a:off x="250920" y="3227400"/>
            <a:ext cx="1944720" cy="1800360"/>
          </a:xfrm>
          <a:prstGeom prst="wedgeRoundRectCallout">
            <a:avLst>
              <a:gd name="adj1" fmla="val 63402"/>
              <a:gd name="adj2" fmla="val -51106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肝：触知しない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黄疸</a:t>
            </a: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－</a:t>
            </a: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、腹水</a:t>
            </a: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－</a:t>
            </a: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Child-Pugh</a:t>
            </a: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分類</a:t>
            </a: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（</a:t>
            </a: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5</a:t>
            </a: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点）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正中部に手術痕</a:t>
            </a: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＋</a:t>
            </a: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 u="sng">
                <a:solidFill>
                  <a:srgbClr val="ff0000"/>
                </a:solidFill>
                <a:uFillTx/>
                <a:latin typeface="ＭＳ Ｐゴシック"/>
              </a:rPr>
              <a:t>2019</a:t>
            </a:r>
            <a:r>
              <a:rPr b="1" lang="ja-JP" sz="1300" spc="-1" strike="noStrike" u="sng">
                <a:solidFill>
                  <a:srgbClr val="ff0000"/>
                </a:solidFill>
                <a:uFillTx/>
                <a:latin typeface="ＭＳ Ｐゴシック"/>
              </a:rPr>
              <a:t>年</a:t>
            </a:r>
            <a:r>
              <a:rPr b="1" lang="en-US" sz="1300" spc="-1" strike="noStrike" u="sng">
                <a:solidFill>
                  <a:srgbClr val="ff0000"/>
                </a:solidFill>
                <a:uFillTx/>
                <a:latin typeface="ＭＳ Ｐゴシック"/>
              </a:rPr>
              <a:t>3/2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ff0000"/>
                </a:solidFill>
                <a:latin typeface="ＭＳ Ｐゴシック"/>
              </a:rPr>
              <a:t>腹腔鏡下肝部分切除術（</a:t>
            </a:r>
            <a:r>
              <a:rPr b="1" lang="en-US" sz="1300" spc="-1" strike="noStrike">
                <a:solidFill>
                  <a:srgbClr val="ff0000"/>
                </a:solidFill>
                <a:latin typeface="ＭＳ Ｐゴシック"/>
              </a:rPr>
              <a:t>S6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角丸四角形吹き出し 17"/>
          <p:cNvSpPr/>
          <p:nvPr/>
        </p:nvSpPr>
        <p:spPr>
          <a:xfrm>
            <a:off x="3635280" y="4595760"/>
            <a:ext cx="1224000" cy="432000"/>
          </a:xfrm>
          <a:prstGeom prst="wedgeRoundRectCallout">
            <a:avLst>
              <a:gd name="adj1" fmla="val -41166"/>
              <a:gd name="adj2" fmla="val -87467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alibri"/>
              </a:rPr>
              <a:t>手掌紅斑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ja-JP" sz="1300" spc="-1" strike="noStrike">
                <a:solidFill>
                  <a:srgbClr val="000000"/>
                </a:solidFill>
                <a:latin typeface="Calibri"/>
              </a:rPr>
              <a:t>－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角丸四角形 27"/>
          <p:cNvSpPr/>
          <p:nvPr/>
        </p:nvSpPr>
        <p:spPr>
          <a:xfrm>
            <a:off x="689040" y="4481640"/>
            <a:ext cx="4292640" cy="136368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DP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－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肝動注と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ACE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を同時に行う予定であったが、術中に、腫瘍内動静脈シャントがあることが分かったため、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DP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－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50mg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）右肝動注のみを実施し、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ACE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は行わなかった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54080" y="46080"/>
            <a:ext cx="9144000" cy="7905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6600"/>
                </a:solidFill>
                <a:latin typeface="Calibri"/>
              </a:rPr>
              <a:t>治療経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1" name="グループ化 2"/>
          <p:cNvGrpSpPr/>
          <p:nvPr/>
        </p:nvGrpSpPr>
        <p:grpSpPr>
          <a:xfrm>
            <a:off x="371520" y="1044720"/>
            <a:ext cx="4292640" cy="2908080"/>
            <a:chOff x="371520" y="1044720"/>
            <a:chExt cx="4292640" cy="2908080"/>
          </a:xfrm>
        </p:grpSpPr>
        <p:pic>
          <p:nvPicPr>
            <p:cNvPr id="752" name="図 5" descr=""/>
            <p:cNvPicPr/>
            <p:nvPr/>
          </p:nvPicPr>
          <p:blipFill>
            <a:blip r:embed="rId1"/>
            <a:srcRect l="14565" t="31619" r="33462" b="5753"/>
            <a:stretch/>
          </p:blipFill>
          <p:spPr>
            <a:xfrm>
              <a:off x="371520" y="1044720"/>
              <a:ext cx="4292640" cy="29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3" name="楕円 1"/>
            <p:cNvSpPr/>
            <p:nvPr/>
          </p:nvSpPr>
          <p:spPr>
            <a:xfrm>
              <a:off x="1935000" y="1811160"/>
              <a:ext cx="287280" cy="2872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楕円 12"/>
            <p:cNvSpPr/>
            <p:nvPr/>
          </p:nvSpPr>
          <p:spPr>
            <a:xfrm>
              <a:off x="2654280" y="2144880"/>
              <a:ext cx="288720" cy="2872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楕円 13"/>
            <p:cNvSpPr/>
            <p:nvPr/>
          </p:nvSpPr>
          <p:spPr>
            <a:xfrm>
              <a:off x="2583000" y="1450800"/>
              <a:ext cx="287280" cy="2887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楕円 14"/>
            <p:cNvSpPr/>
            <p:nvPr/>
          </p:nvSpPr>
          <p:spPr>
            <a:xfrm>
              <a:off x="2470320" y="3078360"/>
              <a:ext cx="647640" cy="6476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7" name="グループ化 7"/>
          <p:cNvGrpSpPr/>
          <p:nvPr/>
        </p:nvGrpSpPr>
        <p:grpSpPr>
          <a:xfrm>
            <a:off x="5178600" y="1044720"/>
            <a:ext cx="3685680" cy="2518920"/>
            <a:chOff x="5178600" y="1044720"/>
            <a:chExt cx="3685680" cy="2518920"/>
          </a:xfrm>
        </p:grpSpPr>
        <p:pic>
          <p:nvPicPr>
            <p:cNvPr id="758" name="図 3" descr=""/>
            <p:cNvPicPr/>
            <p:nvPr/>
          </p:nvPicPr>
          <p:blipFill>
            <a:blip r:embed="rId2"/>
            <a:srcRect l="11786" t="0" r="0" b="10460"/>
            <a:stretch/>
          </p:blipFill>
          <p:spPr>
            <a:xfrm rot="5400000">
              <a:off x="5984280" y="667800"/>
              <a:ext cx="2447280" cy="331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9" name="テキスト ボックス 4"/>
            <p:cNvSpPr/>
            <p:nvPr/>
          </p:nvSpPr>
          <p:spPr>
            <a:xfrm>
              <a:off x="6165720" y="1897560"/>
              <a:ext cx="427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</a:rPr>
                <a:t>S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テキスト ボックス 17"/>
            <p:cNvSpPr/>
            <p:nvPr/>
          </p:nvSpPr>
          <p:spPr>
            <a:xfrm>
              <a:off x="5546520" y="1708920"/>
              <a:ext cx="427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</a:rPr>
                <a:t>S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テキスト ボックス 18"/>
            <p:cNvSpPr/>
            <p:nvPr/>
          </p:nvSpPr>
          <p:spPr>
            <a:xfrm>
              <a:off x="5522400" y="2430720"/>
              <a:ext cx="427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</a:rPr>
                <a:t>S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テキスト ボックス 19"/>
            <p:cNvSpPr/>
            <p:nvPr/>
          </p:nvSpPr>
          <p:spPr>
            <a:xfrm>
              <a:off x="6472440" y="2814480"/>
              <a:ext cx="427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</a:rPr>
                <a:t>S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テキスト ボックス 20"/>
            <p:cNvSpPr/>
            <p:nvPr/>
          </p:nvSpPr>
          <p:spPr>
            <a:xfrm>
              <a:off x="6349680" y="1044720"/>
              <a:ext cx="171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70c0"/>
                  </a:solidFill>
                  <a:latin typeface="Arial"/>
                </a:rPr>
                <a:t>腫瘍内シャント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テキスト ボックス 22"/>
            <p:cNvSpPr/>
            <p:nvPr/>
          </p:nvSpPr>
          <p:spPr>
            <a:xfrm>
              <a:off x="5178600" y="3287160"/>
              <a:ext cx="110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00"/>
                  </a:solidFill>
                  <a:latin typeface="Arial"/>
                </a:rPr>
                <a:t>S6</a:t>
              </a:r>
              <a:r>
                <a:rPr b="0" lang="ja-JP" sz="1200" spc="-1" strike="noStrike">
                  <a:solidFill>
                    <a:srgbClr val="003300"/>
                  </a:solidFill>
                  <a:latin typeface="Arial"/>
                </a:rPr>
                <a:t>切除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5" name="グループ化 3"/>
          <p:cNvGrpSpPr/>
          <p:nvPr/>
        </p:nvGrpSpPr>
        <p:grpSpPr>
          <a:xfrm>
            <a:off x="5580000" y="3754440"/>
            <a:ext cx="2925720" cy="2448000"/>
            <a:chOff x="5580000" y="3754440"/>
            <a:chExt cx="2925720" cy="2448000"/>
          </a:xfrm>
        </p:grpSpPr>
        <p:grpSp>
          <p:nvGrpSpPr>
            <p:cNvPr id="766" name="グループ化 1"/>
            <p:cNvGrpSpPr/>
            <p:nvPr/>
          </p:nvGrpSpPr>
          <p:grpSpPr>
            <a:xfrm>
              <a:off x="5580000" y="3754440"/>
              <a:ext cx="2925720" cy="2448000"/>
              <a:chOff x="5580000" y="3754440"/>
              <a:chExt cx="2925720" cy="2448000"/>
            </a:xfrm>
          </p:grpSpPr>
          <p:pic>
            <p:nvPicPr>
              <p:cNvPr id="767" name="図 2" descr=""/>
              <p:cNvPicPr/>
              <p:nvPr/>
            </p:nvPicPr>
            <p:blipFill>
              <a:blip r:embed="rId3"/>
              <a:srcRect l="0" t="12466" r="0" b="12466"/>
              <a:stretch/>
            </p:blipFill>
            <p:spPr>
              <a:xfrm>
                <a:off x="5580000" y="3754440"/>
                <a:ext cx="2925720" cy="244800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768" name="直線矢印コネクタ 10"/>
              <p:cNvCxnSpPr/>
              <p:nvPr/>
            </p:nvCxnSpPr>
            <p:spPr>
              <a:xfrm flipH="1" flipV="1">
                <a:off x="6476040" y="4407840"/>
                <a:ext cx="224280" cy="430920"/>
              </a:xfrm>
              <a:prstGeom prst="straightConnector1">
                <a:avLst/>
              </a:prstGeom>
              <a:ln w="28440">
                <a:solidFill>
                  <a:srgbClr val="1f497d"/>
                </a:solidFill>
                <a:miter/>
                <a:tailEnd len="med" type="triangle" w="med"/>
              </a:ln>
            </p:spPr>
          </p:cxnSp>
        </p:grpSp>
        <p:sp>
          <p:nvSpPr>
            <p:cNvPr id="769" name="テキスト ボックス 2"/>
            <p:cNvSpPr/>
            <p:nvPr/>
          </p:nvSpPr>
          <p:spPr>
            <a:xfrm>
              <a:off x="6545880" y="4793760"/>
              <a:ext cx="126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肝静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06:56:55Z</dcterms:created>
  <dc:creator>TERAI</dc:creator>
  <dc:description/>
  <dc:language>en-US</dc:language>
  <cp:lastModifiedBy>小山 究太郎</cp:lastModifiedBy>
  <cp:lastPrinted>2015-02-02T01:37:24Z</cp:lastPrinted>
  <dcterms:modified xsi:type="dcterms:W3CDTF">2021-06-15T08:50:12Z</dcterms:modified>
  <cp:revision>112</cp:revision>
  <dc:subject/>
  <dc:title>肝胆膵病態学総論</dc:title>
</cp:coreProperties>
</file>