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2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ftr" idx="2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 type="sldNum" idx="2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815B-E2C2-44E0-86AC-A57A12AE6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実習時、実際の学生作らせてい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絵のうち最初の臨床経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81D5-B012-4804-A5FA-D02B4A9249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身体所見のまとめ、全身像で表現させ、また内服剤を使った上での現症を作成してもらっ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多くの投薬がされて、今があれば大事な情報なのでそう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F841-116B-486F-98A1-21CC1F7974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肝臓で入院した患者の肝臓の状態を、今までの治療歴を踏ま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にまとめ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FF3D-DC6C-4365-8D49-7A79CD3516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82C08-5436-4C0C-A354-CD7FDC87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7C7BE-3014-4469-A701-656D0320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48FD9-1C91-4C4D-8F50-04904C90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000C2-102D-4278-A8BD-0904F6D9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DCAE2-807F-4E00-B64A-59301CBF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F0251-AC29-49B4-8BB0-2D44678A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A794F-CDD5-46C6-A2D5-1DDAEDF8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1EC97-170F-46A8-9500-69CCFDF9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5B5A6-AD8E-447B-9F4E-08A15B97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B2DB72-6E1C-4016-8B97-668438A773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E5648C-233F-4023-895D-B31CF1C0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858A0A-3395-409E-94C7-6A36D546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E63F2B-4036-4872-BCA9-14AEFD2F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7D42A7-D43A-49D4-B388-51172C56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F8B96E-30DE-49FD-B9A6-612CF573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0BB436-5F94-47AE-AE04-BA495F8B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C83E09-38E3-45AC-B4F9-E28D3ED3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005CAC-3CF8-4CAA-B3F0-B7B393A7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4B1C3E-2B45-4E34-B2B5-EA750FFD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482F03-9695-4CF7-B77A-C17930A5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17784D-2C75-4AF8-A6FE-C79DB12E21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3D46D-24ED-4247-9ED2-34894034DD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DEA74-33E4-44FC-843F-A2C07882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67276-9411-4165-9C43-70F6F664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242C4-065A-4D68-9299-42765C6B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3A0D2-2125-4C95-A855-E731B306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5A98D-65D8-4FF7-B0EC-317231F2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96EB4-1764-4A57-8E79-8B283A2D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039EA-7BEF-4689-9D7E-676E0C2B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5A46-5C4B-457B-A55E-B0E0B799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FF81-C208-45A5-BD12-F18D2692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6FCAE-F2B3-49AF-8248-D281821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3B21C-89D5-42DD-A78A-C2E9DCF56F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8B8DF-B3CE-4D90-9DFD-DD2CBF90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4A76D-CAA8-4DB6-98F4-34F24BDB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622BE-C603-480E-AC6C-C74DF91E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B79BC-1E37-42B3-87C4-A325D955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5986C-A163-4821-B3A5-F8685C4C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66BC6-B82A-45AC-8895-111BFDF0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E99F9-A260-4BA4-8508-CAD178F0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54D20-15BD-4090-B2F1-2083B808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BA96F-F6AC-4664-9570-78F586DC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FD933-599E-412C-A9B4-79E2EA9D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A1D3F-A165-42E3-921C-A1F4DDB5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32566-53DC-4605-8E33-46CCF019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EE3C15-A840-42CA-A4DA-FE0125AB2C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2EFDD3-DA53-4639-9571-7432AD17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F103EC-285E-481D-8857-A5EBCAB8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D72CB8-B31C-4CB7-A244-949AE6CC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E8CDD4-6DDB-44F2-8450-661172D8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C82BCF-67C2-48A0-93A4-8BA8CA99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E107C3-4E77-405D-9E3A-26CBFB94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D2D52D-5FA5-4AB1-8B1C-FE6CB639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705C2E-1648-44FD-9B0A-C56C7968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2947DB-06F3-4FB8-AC8E-04E0C4D2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1EE247-7B80-48E1-8D05-C0CB9CCD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4C4A1-C4D2-46A4-A6BB-2D924175FB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59DF-BEDB-4D67-B4C5-3128CDD4D8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529D-DEDA-443A-B2A5-0835156F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3FB2-BB86-440D-A294-64379D00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17AA-C580-4EE3-A6CF-9368FC3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7595-3BEC-41A0-8B69-20934CB7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8552-4D32-4A26-88C8-53B6DFAD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F7EA-F20F-42A6-846F-D9D6ACC9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90ED-D802-406C-B665-D112CA1B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BF93-2AB5-4F51-A79D-0AAF12D4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6000-D812-49DD-A0D1-AAAF0C04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F9A17-901C-4384-B776-71854456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A6C4-DE67-4A59-8929-76E9C7CB55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54C0E-6E81-48A5-8F15-558987D3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24843-1D58-4273-8D0D-1545F490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03BCE-BB1E-4A7F-9C41-18E7E393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4BDF6-71D6-4FF1-85CE-68E7CAAB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E5690-82C6-4C5F-9C5B-043296C7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4F221-2ADD-4365-80BC-8D3E0DE0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D3614-99DC-4391-BA87-234CA3EA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98A49-4674-4AD7-B25C-6C6D7417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BA2C3-FFFE-4D38-8DB3-9A68B0BB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C1398-39E3-43D2-AC5B-33070BFE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3F9CF-02B6-4BD1-A0DC-78BC8B96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C0246-0AAC-47C1-8BCA-4E99D939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0EAF0-54AA-4282-A679-57A455BB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7BF1A-E4A0-494C-9C9E-AB734615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138F2-46A5-4C9F-87A2-A0B1599C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3193A-7A9E-4E4A-BB18-00E99BF9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28BDB-433D-4DCC-B555-735B3ACD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9EAF4-00D6-475F-8FDC-ECBF9ADF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CD5F1-2B23-454F-8AC6-B66CB593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6C7ED-03A3-4196-B938-5C3B072A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3C0DA-1041-4FEA-8B1C-6867A332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52356-BA2F-40D8-9520-5C3CE032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5DC11-EF12-41F0-811C-CA46D4B9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9EC94-2391-4B14-984F-C9379685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5AA02A-C23F-4641-9F43-F1558335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46CF9-2D38-4C73-BAC8-6B30EBB3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F0B6F5-75D1-4FE8-A940-D0C7CF9B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E37F0-6DAA-4A82-A93E-E5BE439A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1BD00-DA83-4FD2-81E6-1439845A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E5AB8-95AF-452A-B3F1-A74FA12D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F362C-94AE-40FC-A9E4-28EA2395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82C335-774F-45AE-BA7A-A03A0D09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48B27-61E7-4DCB-BBD3-36F3B68C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EEB42-5AF5-4E36-B46A-FE23272C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B76F46-8CB4-42C1-A715-55D34BE1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9ACA26-DDA8-4D6F-82A9-4048587A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F81DD-0F2F-4CE5-B411-A8440883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2C845-850A-4313-9DE8-8446A2C5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5D109-A877-4B58-A2A1-61619F9C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FB94-520E-411F-991F-C5295049E107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8A06-DDBF-4F92-8832-41B2F904D92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F171-5DFE-44E6-9AE1-9009B9C8EE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BC9D-CBF8-4C80-BCC3-0A91ADC1645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5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55EA-0F98-4381-8A93-EED54F4BBC85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5E04-B216-4BA5-B6D4-FA7B1E33CBA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A224-12D4-4641-A6E1-482DB500DB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2980-C504-42F9-BD4F-EB482658D6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B457-2034-4C99-B8C6-A3641D054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EA88-5497-456E-AFE3-71FADAFB86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5E60-59B9-4169-82AE-852ABB8EAAA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0661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繰り返す膵炎による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仮性動脈瘤からの出血により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緊急血管塞栓術を行った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直線コネクタ 58"/>
          <p:cNvSpPr/>
          <p:nvPr/>
        </p:nvSpPr>
        <p:spPr>
          <a:xfrm>
            <a:off x="5580000" y="2000160"/>
            <a:ext cx="12600" cy="21178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線コネクタ 91"/>
          <p:cNvSpPr/>
          <p:nvPr/>
        </p:nvSpPr>
        <p:spPr>
          <a:xfrm>
            <a:off x="2919240" y="1989000"/>
            <a:ext cx="11160" cy="2254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線コネクタ 55"/>
          <p:cNvSpPr/>
          <p:nvPr/>
        </p:nvSpPr>
        <p:spPr>
          <a:xfrm>
            <a:off x="3565440" y="1989000"/>
            <a:ext cx="55800" cy="32292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テキスト ボックス 30"/>
          <p:cNvSpPr/>
          <p:nvPr/>
        </p:nvSpPr>
        <p:spPr>
          <a:xfrm>
            <a:off x="3278160" y="1693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角丸四角形 28"/>
          <p:cNvSpPr/>
          <p:nvPr/>
        </p:nvSpPr>
        <p:spPr>
          <a:xfrm>
            <a:off x="2916360" y="5218200"/>
            <a:ext cx="14112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左の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膵性胸水の出現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を認め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試験穿刺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20ml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を施行した後、自然に消失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線コネクタ 57"/>
          <p:cNvSpPr/>
          <p:nvPr/>
        </p:nvSpPr>
        <p:spPr>
          <a:xfrm>
            <a:off x="5008680" y="1995480"/>
            <a:ext cx="0" cy="7160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線コネクタ 59"/>
          <p:cNvSpPr/>
          <p:nvPr/>
        </p:nvSpPr>
        <p:spPr>
          <a:xfrm flipH="1" flipV="1">
            <a:off x="5537160" y="4600080"/>
            <a:ext cx="55440" cy="24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テキスト ボックス 25"/>
          <p:cNvSpPr/>
          <p:nvPr/>
        </p:nvSpPr>
        <p:spPr>
          <a:xfrm>
            <a:off x="3939120" y="1413000"/>
            <a:ext cx="7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令和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テキスト ボックス 34"/>
          <p:cNvSpPr/>
          <p:nvPr/>
        </p:nvSpPr>
        <p:spPr>
          <a:xfrm>
            <a:off x="5292720" y="1693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テキスト ボックス 14"/>
          <p:cNvSpPr/>
          <p:nvPr/>
        </p:nvSpPr>
        <p:spPr>
          <a:xfrm>
            <a:off x="211680" y="14130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歳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直線矢印コネクタ 4"/>
          <p:cNvCxnSpPr/>
          <p:nvPr/>
        </p:nvCxnSpPr>
        <p:spPr>
          <a:xfrm>
            <a:off x="28440" y="1987560"/>
            <a:ext cx="9081360" cy="180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5" name="曲折矢印 43"/>
          <p:cNvSpPr/>
          <p:nvPr/>
        </p:nvSpPr>
        <p:spPr>
          <a:xfrm flipH="1" rot="10800000">
            <a:off x="4465800" y="3804840"/>
            <a:ext cx="395280" cy="677880"/>
          </a:xfrm>
          <a:custGeom>
            <a:avLst/>
            <a:gdLst/>
            <a:ahLst/>
            <a:rect l="l" t="t" r="r" b="b"/>
            <a:pathLst>
              <a:path w="395287" h="677862">
                <a:moveTo>
                  <a:pt x="0" y="677862"/>
                </a:moveTo>
                <a:lnTo>
                  <a:pt x="0" y="222349"/>
                </a:lnTo>
                <a:cubicBezTo>
                  <a:pt x="0" y="126838"/>
                  <a:pt x="77427" y="49411"/>
                  <a:pt x="172938" y="49411"/>
                </a:cubicBezTo>
                <a:lnTo>
                  <a:pt x="296465" y="49411"/>
                </a:lnTo>
                <a:lnTo>
                  <a:pt x="296465" y="0"/>
                </a:lnTo>
                <a:lnTo>
                  <a:pt x="395287" y="98822"/>
                </a:lnTo>
                <a:lnTo>
                  <a:pt x="296465" y="197644"/>
                </a:lnTo>
                <a:lnTo>
                  <a:pt x="296465" y="148233"/>
                </a:lnTo>
                <a:lnTo>
                  <a:pt x="172938" y="148233"/>
                </a:lnTo>
                <a:cubicBezTo>
                  <a:pt x="132005" y="148233"/>
                  <a:pt x="98822" y="181416"/>
                  <a:pt x="98822" y="222349"/>
                </a:cubicBezTo>
                <a:lnTo>
                  <a:pt x="98822" y="677862"/>
                </a:lnTo>
                <a:lnTo>
                  <a:pt x="0" y="677862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テキスト ボックス 3"/>
          <p:cNvSpPr/>
          <p:nvPr/>
        </p:nvSpPr>
        <p:spPr>
          <a:xfrm>
            <a:off x="6059880" y="765000"/>
            <a:ext cx="2375280" cy="64260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３９歳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急性腹症にて発見された仮性動脈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テキスト ボックス 49"/>
          <p:cNvSpPr/>
          <p:nvPr/>
        </p:nvSpPr>
        <p:spPr>
          <a:xfrm>
            <a:off x="28440" y="2095560"/>
            <a:ext cx="1065240" cy="710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ほ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アルコール性急性膵炎の既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線コネクタ 64"/>
          <p:cNvSpPr/>
          <p:nvPr/>
        </p:nvSpPr>
        <p:spPr>
          <a:xfrm flipH="1">
            <a:off x="1550520" y="1979640"/>
            <a:ext cx="3240" cy="1741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テキスト ボックス 15"/>
          <p:cNvSpPr/>
          <p:nvPr/>
        </p:nvSpPr>
        <p:spPr>
          <a:xfrm>
            <a:off x="1258920" y="1693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テキスト ボックス 25"/>
          <p:cNvSpPr/>
          <p:nvPr/>
        </p:nvSpPr>
        <p:spPr>
          <a:xfrm>
            <a:off x="1194840" y="1413000"/>
            <a:ext cx="7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令和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テキスト ボックス 52"/>
          <p:cNvSpPr/>
          <p:nvPr/>
        </p:nvSpPr>
        <p:spPr>
          <a:xfrm>
            <a:off x="436680" y="3726000"/>
            <a:ext cx="1368360" cy="91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胃透視で、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胃粘膜下腫瘍疑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指摘され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上部消化管内視鏡検査で胃体部に壁外性圧排を認め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検査で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膵体尾部の嚢胞と周囲脂肪織濃度上昇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認め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テキスト ボックス 18"/>
          <p:cNvSpPr/>
          <p:nvPr/>
        </p:nvSpPr>
        <p:spPr>
          <a:xfrm>
            <a:off x="1836720" y="169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テキスト ボックス 26"/>
          <p:cNvSpPr/>
          <p:nvPr/>
        </p:nvSpPr>
        <p:spPr>
          <a:xfrm>
            <a:off x="2589120" y="1692360"/>
            <a:ext cx="5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テキスト ボックス 54"/>
          <p:cNvSpPr/>
          <p:nvPr/>
        </p:nvSpPr>
        <p:spPr>
          <a:xfrm>
            <a:off x="1843200" y="2100240"/>
            <a:ext cx="1614240" cy="30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腹痛、白血球上昇を認めたため、膵炎後の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膵仮性嚢胞感染の疑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、村上総合病院に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入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曲折矢印 42"/>
          <p:cNvSpPr/>
          <p:nvPr/>
        </p:nvSpPr>
        <p:spPr>
          <a:xfrm flipH="1" rot="10800000">
            <a:off x="2171880" y="3933720"/>
            <a:ext cx="288720" cy="620640"/>
          </a:xfrm>
          <a:custGeom>
            <a:avLst/>
            <a:gdLst/>
            <a:ahLst/>
            <a:rect l="l" t="t" r="r" b="b"/>
            <a:pathLst>
              <a:path w="288925" h="620713">
                <a:moveTo>
                  <a:pt x="0" y="620713"/>
                </a:moveTo>
                <a:lnTo>
                  <a:pt x="0" y="162520"/>
                </a:lnTo>
                <a:cubicBezTo>
                  <a:pt x="0" y="92708"/>
                  <a:pt x="56593" y="36115"/>
                  <a:pt x="126405" y="36115"/>
                </a:cubicBezTo>
                <a:lnTo>
                  <a:pt x="216694" y="36116"/>
                </a:lnTo>
                <a:lnTo>
                  <a:pt x="216694" y="0"/>
                </a:lnTo>
                <a:lnTo>
                  <a:pt x="288925" y="72231"/>
                </a:lnTo>
                <a:lnTo>
                  <a:pt x="216694" y="144463"/>
                </a:lnTo>
                <a:lnTo>
                  <a:pt x="216694" y="108347"/>
                </a:lnTo>
                <a:lnTo>
                  <a:pt x="126405" y="108347"/>
                </a:lnTo>
                <a:cubicBezTo>
                  <a:pt x="96486" y="108347"/>
                  <a:pt x="72232" y="132601"/>
                  <a:pt x="72232" y="162520"/>
                </a:cubicBezTo>
                <a:cubicBezTo>
                  <a:pt x="72232" y="315251"/>
                  <a:pt x="72231" y="467982"/>
                  <a:pt x="72231" y="620713"/>
                </a:cubicBezTo>
                <a:lnTo>
                  <a:pt x="0" y="620713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テキスト ボックス 58"/>
          <p:cNvSpPr/>
          <p:nvPr/>
        </p:nvSpPr>
        <p:spPr>
          <a:xfrm>
            <a:off x="2511360" y="4214880"/>
            <a:ext cx="136692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村上総合病院を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退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四角形: 角を丸くする 6"/>
          <p:cNvSpPr/>
          <p:nvPr/>
        </p:nvSpPr>
        <p:spPr>
          <a:xfrm>
            <a:off x="2228760" y="3166920"/>
            <a:ext cx="158436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抗生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メロペ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g×3/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症状が改善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線コネクタ 62"/>
          <p:cNvSpPr/>
          <p:nvPr/>
        </p:nvSpPr>
        <p:spPr>
          <a:xfrm>
            <a:off x="2195640" y="1989000"/>
            <a:ext cx="0" cy="123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4068720" y="16930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角丸四角形 28"/>
          <p:cNvSpPr/>
          <p:nvPr/>
        </p:nvSpPr>
        <p:spPr>
          <a:xfrm>
            <a:off x="3708360" y="2116080"/>
            <a:ext cx="119556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腹痛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心窩部痛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出現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線コネクタ 76"/>
          <p:cNvSpPr/>
          <p:nvPr/>
        </p:nvSpPr>
        <p:spPr>
          <a:xfrm>
            <a:off x="4327560" y="1987560"/>
            <a:ext cx="0" cy="1238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グループ化 25"/>
          <p:cNvGrpSpPr/>
          <p:nvPr/>
        </p:nvGrpSpPr>
        <p:grpSpPr>
          <a:xfrm>
            <a:off x="3995640" y="2711520"/>
            <a:ext cx="2827440" cy="1119240"/>
            <a:chOff x="3995640" y="2711520"/>
            <a:chExt cx="2827440" cy="1119240"/>
          </a:xfrm>
        </p:grpSpPr>
        <p:sp>
          <p:nvSpPr>
            <p:cNvPr id="663" name="角丸四角形 28"/>
            <p:cNvSpPr/>
            <p:nvPr/>
          </p:nvSpPr>
          <p:spPr>
            <a:xfrm>
              <a:off x="3995640" y="2711520"/>
              <a:ext cx="2305080" cy="94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村上総合病院を受診し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C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検査で、</a:t>
              </a:r>
              <a:r>
                <a:rPr b="1" lang="ja-JP" sz="1200" spc="-1" strike="noStrike">
                  <a:solidFill>
                    <a:srgbClr val="000000"/>
                  </a:solidFill>
                  <a:latin typeface="ＭＳ Ｐゴシック"/>
                </a:rPr>
                <a:t>膵嚢胞感染再発の疑いで入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した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角丸四角形 28"/>
            <p:cNvSpPr/>
            <p:nvPr/>
          </p:nvSpPr>
          <p:spPr>
            <a:xfrm>
              <a:off x="5084640" y="3324240"/>
              <a:ext cx="1738440" cy="50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抗生剤の</a:t>
              </a:r>
              <a:r>
                <a:rPr b="1" lang="ja-JP" sz="1200" spc="-1" strike="noStrike">
                  <a:solidFill>
                    <a:srgbClr val="000000"/>
                  </a:solidFill>
                  <a:latin typeface="ＭＳ Ｐゴシック"/>
                </a:rPr>
                <a:t>治療が奏功していない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と判断された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角丸四角形 28"/>
          <p:cNvSpPr/>
          <p:nvPr/>
        </p:nvSpPr>
        <p:spPr>
          <a:xfrm>
            <a:off x="4911840" y="4118040"/>
            <a:ext cx="136044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精査加療目的に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当科入院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テキスト ボックス 34"/>
          <p:cNvSpPr/>
          <p:nvPr/>
        </p:nvSpPr>
        <p:spPr>
          <a:xfrm>
            <a:off x="6270480" y="169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テキスト ボックス 34"/>
          <p:cNvSpPr/>
          <p:nvPr/>
        </p:nvSpPr>
        <p:spPr>
          <a:xfrm>
            <a:off x="4797360" y="169308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角丸四角形 28"/>
          <p:cNvSpPr/>
          <p:nvPr/>
        </p:nvSpPr>
        <p:spPr>
          <a:xfrm>
            <a:off x="4440240" y="5132520"/>
            <a:ext cx="2508120" cy="117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胸腹骨盤部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C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検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ダイナミッ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MRCP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の結果より、左胃動脈から分枝する仮性動脈瘤の破裂と考えられ、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緊急で血管塞栓が必要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と判断し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/19 Angio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施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決定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直線コネクタ 89"/>
          <p:cNvSpPr/>
          <p:nvPr/>
        </p:nvSpPr>
        <p:spPr>
          <a:xfrm>
            <a:off x="6558120" y="2011320"/>
            <a:ext cx="0" cy="314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テキスト ボックス 34"/>
          <p:cNvSpPr/>
          <p:nvPr/>
        </p:nvSpPr>
        <p:spPr>
          <a:xfrm>
            <a:off x="7020000" y="169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線コネクタ 42"/>
          <p:cNvSpPr/>
          <p:nvPr/>
        </p:nvSpPr>
        <p:spPr>
          <a:xfrm>
            <a:off x="7297560" y="1987560"/>
            <a:ext cx="11160" cy="1905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角丸四角形 28"/>
          <p:cNvSpPr/>
          <p:nvPr/>
        </p:nvSpPr>
        <p:spPr>
          <a:xfrm>
            <a:off x="6386400" y="2325600"/>
            <a:ext cx="1613160" cy="7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仮性動脈瘤をヒストアクリルとコイルを用いて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塞栓した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角丸四角形 28"/>
          <p:cNvSpPr/>
          <p:nvPr/>
        </p:nvSpPr>
        <p:spPr>
          <a:xfrm>
            <a:off x="6632640" y="3898800"/>
            <a:ext cx="1366920" cy="7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アルコールに関して精神科を受診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下矢印 20"/>
          <p:cNvSpPr/>
          <p:nvPr/>
        </p:nvSpPr>
        <p:spPr>
          <a:xfrm>
            <a:off x="5511960" y="4700520"/>
            <a:ext cx="160200" cy="35712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テキスト ボックス 34"/>
          <p:cNvSpPr/>
          <p:nvPr/>
        </p:nvSpPr>
        <p:spPr>
          <a:xfrm>
            <a:off x="8040600" y="1688400"/>
            <a:ext cx="57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角丸四角形 28"/>
          <p:cNvSpPr/>
          <p:nvPr/>
        </p:nvSpPr>
        <p:spPr>
          <a:xfrm>
            <a:off x="7648560" y="4803840"/>
            <a:ext cx="136044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当院を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退院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直線コネクタ 46"/>
          <p:cNvSpPr/>
          <p:nvPr/>
        </p:nvSpPr>
        <p:spPr>
          <a:xfrm flipH="1">
            <a:off x="8329320" y="2013120"/>
            <a:ext cx="3240" cy="27907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03280" y="1068480"/>
            <a:ext cx="2664000" cy="56736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テキスト ボックス 4"/>
          <p:cNvSpPr/>
          <p:nvPr/>
        </p:nvSpPr>
        <p:spPr>
          <a:xfrm>
            <a:off x="5027760" y="804960"/>
            <a:ext cx="4032000" cy="5284080"/>
          </a:xfrm>
          <a:custGeom>
            <a:avLst/>
            <a:gdLst>
              <a:gd name="textAreaLeft" fmla="*/ 196560 w 4032000"/>
              <a:gd name="textAreaRight" fmla="*/ 3835440 w 4032000"/>
              <a:gd name="textAreaTop" fmla="*/ 196560 h 5284080"/>
              <a:gd name="textAreaBottom" fmla="*/ 5087520 h 5284080"/>
            </a:gdLst>
            <a:ahLst/>
            <a:rect l="textAreaLeft" t="textAreaTop" r="textAreaRight" b="textAreaBottom"/>
            <a:pathLst>
              <a:path w="21600" h="28307">
                <a:moveTo>
                  <a:pt x="3600" y="0"/>
                </a:moveTo>
                <a:arcTo wR="3600" hR="3600" stAng="16200000" swAng="-5400000"/>
                <a:lnTo>
                  <a:pt x="0" y="24707"/>
                </a:lnTo>
                <a:arcTo wR="3600" hR="3600" stAng="10800000" swAng="-5400000"/>
                <a:lnTo>
                  <a:pt x="18000" y="283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入院時所見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T: 36.7℃, SpO2: 9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room 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生活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飲酒歴：缶ビール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昨年ま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喫煙歴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日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年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職歴：配管設備会社役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家族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母、祖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母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：胃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祖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父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：糖尿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既往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アルコール性膵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膵仮性嚢胞感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アレルギー】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内服】カモスタットメシル酸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経口蛋白分解酵素阻害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0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T 3×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毎食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内服中止中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角丸四角形吹き出し 5"/>
          <p:cNvSpPr/>
          <p:nvPr/>
        </p:nvSpPr>
        <p:spPr>
          <a:xfrm>
            <a:off x="795240" y="900000"/>
            <a:ext cx="1727280" cy="93528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リンパ節腫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眼瞼結膜：貧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眼球結膜：黄染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角丸四角形吹き出し 11"/>
          <p:cNvSpPr/>
          <p:nvPr/>
        </p:nvSpPr>
        <p:spPr>
          <a:xfrm>
            <a:off x="119160" y="2063880"/>
            <a:ext cx="2519280" cy="1028520"/>
          </a:xfrm>
          <a:prstGeom prst="wedgeRoundRectCallout">
            <a:avLst>
              <a:gd name="adj1" fmla="val 60726"/>
              <a:gd name="adj2" fmla="val 32495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心電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HR: 62bpm, BP: 114/72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角丸四角形吹き出し 12"/>
          <p:cNvSpPr/>
          <p:nvPr/>
        </p:nvSpPr>
        <p:spPr>
          <a:xfrm>
            <a:off x="3348000" y="2219400"/>
            <a:ext cx="1655640" cy="1657440"/>
          </a:xfrm>
          <a:prstGeom prst="wedgeRoundRectCallout">
            <a:avLst>
              <a:gd name="adj1" fmla="val -59972"/>
              <a:gd name="adj2" fmla="val 3394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角丸四角形吹き出し 27"/>
          <p:cNvSpPr/>
          <p:nvPr/>
        </p:nvSpPr>
        <p:spPr>
          <a:xfrm>
            <a:off x="1187280" y="5603760"/>
            <a:ext cx="1152720" cy="432000"/>
          </a:xfrm>
          <a:prstGeom prst="wedgeRoundRectCallout">
            <a:avLst>
              <a:gd name="adj1" fmla="val 67060"/>
              <a:gd name="adj2" fmla="val 389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下腿浮腫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角丸四角形吹き出し 16"/>
          <p:cNvSpPr/>
          <p:nvPr/>
        </p:nvSpPr>
        <p:spPr>
          <a:xfrm>
            <a:off x="250920" y="3227400"/>
            <a:ext cx="1944720" cy="1800360"/>
          </a:xfrm>
          <a:prstGeom prst="wedgeRoundRectCallout">
            <a:avLst>
              <a:gd name="adj1" fmla="val 63402"/>
              <a:gd name="adj2" fmla="val -5110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角丸四角形吹き出し 17"/>
          <p:cNvSpPr/>
          <p:nvPr/>
        </p:nvSpPr>
        <p:spPr>
          <a:xfrm>
            <a:off x="3635280" y="4595760"/>
            <a:ext cx="115272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手掌紅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図 1" descr=""/>
          <p:cNvPicPr/>
          <p:nvPr/>
        </p:nvPicPr>
        <p:blipFill>
          <a:blip r:embed="rId1"/>
          <a:srcRect l="2421" t="9534" r="10519" b="13059"/>
          <a:stretch/>
        </p:blipFill>
        <p:spPr>
          <a:xfrm>
            <a:off x="163440" y="836640"/>
            <a:ext cx="5962680" cy="3313080"/>
          </a:xfrm>
          <a:prstGeom prst="rect">
            <a:avLst/>
          </a:prstGeom>
          <a:ln w="0">
            <a:noFill/>
          </a:ln>
        </p:spPr>
      </p:pic>
      <p:sp>
        <p:nvSpPr>
          <p:cNvPr id="688" name="角丸四角形 27"/>
          <p:cNvSpPr/>
          <p:nvPr/>
        </p:nvSpPr>
        <p:spPr>
          <a:xfrm>
            <a:off x="3144960" y="4076640"/>
            <a:ext cx="5610240" cy="19717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</a:rPr>
              <a:t>血管造影所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病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対し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BC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使用し、塞栓を行った。確認の造影で、近位側の血流の残存を認めたため、コイルを使用して中枢側の塞栓を行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病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対し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BC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動脈瘤の塞栓を行った。確認の造影で、動脈瘤は描出されなくな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塞栓後、若干の左腹部の痛みを訴えていたが、経過観察と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記録（臨床実習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Ⅱ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テキスト ボックス 49"/>
          <p:cNvSpPr/>
          <p:nvPr/>
        </p:nvSpPr>
        <p:spPr>
          <a:xfrm>
            <a:off x="395280" y="4400640"/>
            <a:ext cx="1873080" cy="7448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歳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ほど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アルコール性急性膵炎の既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テキスト ボックス 54"/>
          <p:cNvSpPr/>
          <p:nvPr/>
        </p:nvSpPr>
        <p:spPr>
          <a:xfrm>
            <a:off x="6168960" y="1844640"/>
            <a:ext cx="1932120" cy="542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令和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年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膵炎後の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膵仮性嚢胞感染の疑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、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入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四角形: 角を丸くする 6"/>
          <p:cNvSpPr/>
          <p:nvPr/>
        </p:nvSpPr>
        <p:spPr>
          <a:xfrm>
            <a:off x="7134120" y="2952720"/>
            <a:ext cx="158436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抗生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メロペ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g×3/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症状が改善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曲折矢印 15"/>
          <p:cNvSpPr/>
          <p:nvPr/>
        </p:nvSpPr>
        <p:spPr>
          <a:xfrm flipH="1" rot="10800000">
            <a:off x="6588000" y="2695320"/>
            <a:ext cx="395280" cy="677880"/>
          </a:xfrm>
          <a:custGeom>
            <a:avLst/>
            <a:gdLst/>
            <a:ahLst/>
            <a:rect l="l" t="t" r="r" b="b"/>
            <a:pathLst>
              <a:path w="395288" h="677863">
                <a:moveTo>
                  <a:pt x="0" y="677863"/>
                </a:moveTo>
                <a:lnTo>
                  <a:pt x="0" y="222350"/>
                </a:lnTo>
                <a:cubicBezTo>
                  <a:pt x="0" y="126838"/>
                  <a:pt x="77427" y="49411"/>
                  <a:pt x="172939" y="49411"/>
                </a:cubicBezTo>
                <a:lnTo>
                  <a:pt x="296466" y="49411"/>
                </a:lnTo>
                <a:lnTo>
                  <a:pt x="296466" y="0"/>
                </a:lnTo>
                <a:lnTo>
                  <a:pt x="395288" y="98822"/>
                </a:lnTo>
                <a:lnTo>
                  <a:pt x="296466" y="197644"/>
                </a:lnTo>
                <a:lnTo>
                  <a:pt x="296466" y="148233"/>
                </a:lnTo>
                <a:lnTo>
                  <a:pt x="172939" y="148233"/>
                </a:lnTo>
                <a:cubicBezTo>
                  <a:pt x="132005" y="148233"/>
                  <a:pt x="98822" y="181416"/>
                  <a:pt x="98822" y="222350"/>
                </a:cubicBezTo>
                <a:lnTo>
                  <a:pt x="98822" y="677863"/>
                </a:lnTo>
                <a:lnTo>
                  <a:pt x="0" y="677863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11:37Z</dcterms:modified>
  <cp:revision>118</cp:revision>
  <dc:subject/>
  <dc:title>肝胆膵病態学総論</dc:title>
</cp:coreProperties>
</file>