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2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2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 type="sldNum" idx="2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E209-3641-45D9-A738-FE562846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772-92A4-4863-9CEE-EB6A17C801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53E7-290A-498F-B1AD-D5058D60DF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16FE-E92F-4A0D-A647-0EAF439FCA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DC64D-AE65-4020-BE10-3B8C8586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B6337-2C64-4C76-B7E9-6AF4D86A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9602A-9495-45E0-A13B-B2962C8A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56AE1-B565-434A-B30B-E2D4A186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A518C-750A-4735-B31F-878C15CF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17A76-5658-4D69-BF9B-82085486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EB65A-3B10-4180-AB78-0AC64CF7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CFB40-B759-4B54-BE33-E0D4DC17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0B29A-DCD5-436C-B4FD-8E9BD6A8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16312-FD5D-4BFA-9902-91B1A3CEBE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67B6E9-26EC-4143-8925-B2A4EFCC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659526-24CA-48ED-B147-2769457C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5C6CCC-34D8-4646-AB2F-75BD0171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7DB125-9598-4437-849B-F22CDC87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A699BD-B020-4F34-8061-2626A188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3F009A-8A52-42AA-B76D-88FF23C4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63E367-586D-4D1D-A07D-5AF62731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9A30C-0B09-4764-8EC2-1B55814A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3B261E-1A8E-4877-93E9-FD9B4A14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76B674-7D6F-49DF-A7B1-04FC287C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85011C-4835-4272-95B1-43C1311C01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0EA77-B9B3-458F-9F1B-A27A3204E8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48BE6-BDF2-4011-BB06-97600569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3FD9D-9692-4382-A7CA-FC9A4AEC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5A42C-9A68-451D-A45E-40137316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4929E-A8C1-49A2-8FC1-73F54B05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921FA-72FC-4A04-864A-F47B2A42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73B9E-ECDF-456A-882A-3B95EE67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F07FB-C820-4B02-81A4-F6E4279B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F871B-6777-45C5-A2F5-4E9A58CE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C5C34-0165-4E2B-874A-C9A2AC5B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62398-0F6A-4FEC-8632-CA1688B7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28081-7DAF-4765-A0B6-85BC941AE7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4DC6A-C177-41A9-B774-110B3506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75290-389D-45B0-ADDF-671775FE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1F6BD-A1DA-4080-8A9B-DC3E443F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3B6B7-D475-467C-AFD2-420DD98D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F5257-20E4-4CF8-A76A-786ECE07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76364-ABAE-450A-AE73-0F6590B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E75B5-6D61-4389-B7AE-700FF655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5D72C-5FA9-4B24-8282-3658541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13208-6302-4316-B8EF-27F8DAD0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20D31-0318-4129-B417-57D73B09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69066-5DAE-45A8-94CE-F4C54EBE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71004-A2FA-4961-9387-B645699F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B7CD57-D56D-4F88-B5DE-47AEF669B7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A996D3-582F-4BEA-9F14-3A8F8323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83C47-B99A-415C-8D41-1A64DA0D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B99E0-4C55-40B3-9309-89D115A1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F6AA1-E5C4-4625-A13C-50EC99BC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18FDD-6D5D-4B24-9FF5-8F64F50D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43A2DA-4C11-4751-A138-28DCE899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616D5E-5D78-4D4C-BF0E-7BA6197A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6ADCD0-6613-45DE-BCD3-69A5B9BF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15954B-4D0E-4159-AE8F-98D0CC60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03627F-838B-457D-9703-6734527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49AC5D-30D6-4B2C-84B2-3F9CEF3FE3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FD70-59AC-4EA0-8500-9A680EA32F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4786-F097-404F-8FEA-4FBDB444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70EF-7B62-4F26-B912-F076BE1B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7347-29B3-436E-AD52-1B651C95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8C22-2FD3-4745-88E7-7D5011E0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D0CA-114D-46AC-8F03-E4B47D36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932C-9F86-4341-99A6-4DF82F0D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3806-7C78-4FD5-B9D9-D3AC9197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1A39A-61B5-45B3-B7D3-31FB8094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EBDD-71C8-411B-8DEA-0E0DE8D6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604D-A380-4FA3-A337-3A7B7059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8586-D966-40EE-A580-AF7E6205CC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BEE7D-4CFE-40AF-8CCA-0C3E509F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BF33-CBF9-4961-AB3B-75966916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A5F9B-09CB-4DB5-840F-4BBB0297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E7BC9-2903-4E7D-BB01-3019DD35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010D4-92A6-4223-8EF2-F33D2F0E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526ED-E944-43E4-8F81-DD793F5A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27249-8CD9-433D-86A6-7B9BBB28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6F5EF-A8EA-4BE5-BED3-670245C1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6A4F-1495-4D9E-831A-C22A5D18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E6CCA-F5D2-460D-B881-B75DBB35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D6968-77D5-40A5-AAE5-B6DB2308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1CE70-4A98-4767-A6F4-9588D563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8EFEB-7506-477E-B081-84587140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541E0-7D41-4E1F-91C1-AE9B0B6C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A233F-4B61-45C2-B89C-E3A44C53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88BC4-9A24-4D74-B315-5C7F63BF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F9834-07C9-42CC-A106-FCFCFCFB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ABBE9-B055-4770-BB21-520EA9D9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A3C28-7218-42F1-806B-8D3A406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F3C54-9E31-46A4-8F13-B50651B2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6C03B-A05B-4F98-9712-835C5AA7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28EF4-E32F-4DE2-920E-9468D256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CF7DF-FC0C-438E-8E53-80D3B941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44507-A8BC-4C3E-8A9C-16D84723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91DF2-A890-41B7-BE37-C9900545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82B36-D211-41BE-8F71-21940C44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84ED3-DE09-42C7-9077-AEC90AAF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096C8-9F8B-4B53-9696-B5D4C15E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4549E-4DE0-4450-B97F-7B5247AF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73B2F-65FA-4C1D-9C2F-DB15934B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86A35-C53D-47BD-96CD-6D76CC86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FE8A6-DF53-440C-8A9C-7C2AA9E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3AD6C-3DBC-4A77-9FE6-34378B7C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BFE28-6303-49BB-9E02-5DFC63E2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6D5075-10E6-4527-8E44-0658501A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5C8B9-0875-41EA-8706-49000C47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AFDD0-43D7-4313-9B1C-17FC5F10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90124-A1B6-4729-B259-F41F31A8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22038-BF81-4CDA-A324-CDCD9FFE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B2A-FEDA-4B66-83F7-8968CC424CE8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E084-8633-4C09-831E-6EC3D9647B3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2525-3177-482B-A838-7810EFBD7A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492C-CBB2-443B-B1D1-B386FE33940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5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CEFF-A7BA-45A5-8A3C-CC6E78DBEACD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FB0C-DBF1-4B1E-8C4A-7DEAF763AB8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484A-CD8C-4D38-9012-9826477086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7242-071A-44CD-B007-C9829E1A1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1D94-37A6-4BB2-9C23-45198BEF0F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5FFA-6E16-487D-846E-0B74D785FE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337E-2857-4D7D-B725-3B7F5DC515D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3560" y="2060280"/>
            <a:ext cx="7616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3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歳 女性 治療が難航す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CC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の一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角丸四角形吹き出し 5"/>
          <p:cNvSpPr/>
          <p:nvPr/>
        </p:nvSpPr>
        <p:spPr>
          <a:xfrm>
            <a:off x="8043840" y="1424160"/>
            <a:ext cx="1027080" cy="439560"/>
          </a:xfrm>
          <a:prstGeom prst="wedgeRoundRectCallout">
            <a:avLst>
              <a:gd name="adj1" fmla="val -74490"/>
              <a:gd name="adj2" fmla="val 5592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角丸四角形吹き出し 5"/>
          <p:cNvSpPr/>
          <p:nvPr/>
        </p:nvSpPr>
        <p:spPr>
          <a:xfrm>
            <a:off x="6143760" y="1432080"/>
            <a:ext cx="1028520" cy="439560"/>
          </a:xfrm>
          <a:prstGeom prst="wedgeRoundRectCallout">
            <a:avLst>
              <a:gd name="adj1" fmla="val 76074"/>
              <a:gd name="adj2" fmla="val 5779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角丸四角形吹き出し 5"/>
          <p:cNvSpPr/>
          <p:nvPr/>
        </p:nvSpPr>
        <p:spPr>
          <a:xfrm>
            <a:off x="4341960" y="1427040"/>
            <a:ext cx="1027080" cy="438120"/>
          </a:xfrm>
          <a:prstGeom prst="wedgeRoundRectCallout">
            <a:avLst>
              <a:gd name="adj1" fmla="val 90490"/>
              <a:gd name="adj2" fmla="val 5967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グループ化 29"/>
          <p:cNvGrpSpPr/>
          <p:nvPr/>
        </p:nvGrpSpPr>
        <p:grpSpPr>
          <a:xfrm>
            <a:off x="231840" y="1384200"/>
            <a:ext cx="8592840" cy="4729680"/>
            <a:chOff x="231840" y="1384200"/>
            <a:chExt cx="8592840" cy="4729680"/>
          </a:xfrm>
        </p:grpSpPr>
        <p:sp>
          <p:nvSpPr>
            <p:cNvPr id="637" name="テキスト ボックス 50"/>
            <p:cNvSpPr/>
            <p:nvPr/>
          </p:nvSpPr>
          <p:spPr>
            <a:xfrm>
              <a:off x="231840" y="2166840"/>
              <a:ext cx="4610160" cy="3947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テキスト ボックス 60"/>
            <p:cNvSpPr/>
            <p:nvPr/>
          </p:nvSpPr>
          <p:spPr>
            <a:xfrm>
              <a:off x="4889520" y="2085840"/>
              <a:ext cx="3906720" cy="3943080"/>
            </a:xfrm>
            <a:custGeom>
              <a:avLst/>
              <a:gdLst>
                <a:gd name="textAreaLeft" fmla="*/ 190440 w 3906720"/>
                <a:gd name="textAreaRight" fmla="*/ 3716280 w 3906720"/>
                <a:gd name="textAreaTop" fmla="*/ 190440 h 3943080"/>
                <a:gd name="textAreaBottom" fmla="*/ 3752640 h 3943080"/>
              </a:gdLst>
              <a:ahLst/>
              <a:rect l="textAreaLeft" t="textAreaTop" r="textAreaRight" b="textAreaBottom"/>
              <a:pathLst>
                <a:path w="21600" h="21801">
                  <a:moveTo>
                    <a:pt x="3600" y="0"/>
                  </a:moveTo>
                  <a:arcTo wR="3600" hR="3600" stAng="16200000" swAng="-5400000"/>
                  <a:lnTo>
                    <a:pt x="0" y="18201"/>
                  </a:lnTo>
                  <a:arcTo wR="3600" hR="3600" stAng="10800000" swAng="-5400000"/>
                  <a:lnTo>
                    <a:pt x="18000" y="21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テキスト ボックス 14"/>
            <p:cNvSpPr/>
            <p:nvPr/>
          </p:nvSpPr>
          <p:spPr>
            <a:xfrm>
              <a:off x="1972080" y="138420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019</a:t>
              </a:r>
              <a:r>
                <a:rPr b="0" lang="ja-JP" sz="1600" spc="-1" strike="noStrike">
                  <a:solidFill>
                    <a:srgbClr val="ff0000"/>
                  </a:solidFill>
                  <a:latin typeface="Arial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テキスト ボックス 26"/>
            <p:cNvSpPr/>
            <p:nvPr/>
          </p:nvSpPr>
          <p:spPr>
            <a:xfrm>
              <a:off x="1985400" y="1608480"/>
              <a:ext cx="56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直線矢印コネクタ 4"/>
            <p:cNvCxnSpPr/>
            <p:nvPr/>
          </p:nvCxnSpPr>
          <p:spPr>
            <a:xfrm>
              <a:off x="328320" y="1976040"/>
              <a:ext cx="8496720" cy="108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42" name="角丸四角形 9"/>
            <p:cNvSpPr/>
            <p:nvPr/>
          </p:nvSpPr>
          <p:spPr>
            <a:xfrm>
              <a:off x="615960" y="2207880"/>
              <a:ext cx="2313000" cy="942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HBV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キャリアとして新潟市民病院受診。肝硬変に対してエンテカビル内服を開始し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直線コネクタ 46"/>
          <p:cNvSpPr/>
          <p:nvPr/>
        </p:nvSpPr>
        <p:spPr>
          <a:xfrm>
            <a:off x="2021040" y="1960560"/>
            <a:ext cx="0" cy="2476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テキスト ボックス 3"/>
          <p:cNvSpPr/>
          <p:nvPr/>
        </p:nvSpPr>
        <p:spPr>
          <a:xfrm>
            <a:off x="762840" y="905040"/>
            <a:ext cx="310932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歳 女性 治療が難航す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一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角丸四角形 47"/>
          <p:cNvSpPr/>
          <p:nvPr/>
        </p:nvSpPr>
        <p:spPr>
          <a:xfrm>
            <a:off x="625320" y="3489480"/>
            <a:ext cx="2337120" cy="133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佐渡病院でフォローしていたが、高度肥満と造影剤アレルギーにより画像評価が難渋してい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バラクルードからベムルディ（テノボビル）に薬剤を変更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テキスト ボックス 14"/>
          <p:cNvSpPr/>
          <p:nvPr/>
        </p:nvSpPr>
        <p:spPr>
          <a:xfrm>
            <a:off x="436680" y="14000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16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テキスト ボックス 14"/>
          <p:cNvSpPr/>
          <p:nvPr/>
        </p:nvSpPr>
        <p:spPr>
          <a:xfrm>
            <a:off x="3447720" y="14079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テキスト ボックス 26"/>
          <p:cNvSpPr/>
          <p:nvPr/>
        </p:nvSpPr>
        <p:spPr>
          <a:xfrm>
            <a:off x="3398760" y="161928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テキスト ボックス 26"/>
          <p:cNvSpPr/>
          <p:nvPr/>
        </p:nvSpPr>
        <p:spPr>
          <a:xfrm>
            <a:off x="5272200" y="1616040"/>
            <a:ext cx="10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テキスト ボックス 14"/>
          <p:cNvSpPr/>
          <p:nvPr/>
        </p:nvSpPr>
        <p:spPr>
          <a:xfrm>
            <a:off x="7236000" y="1395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テキスト ボックス 26"/>
          <p:cNvSpPr/>
          <p:nvPr/>
        </p:nvSpPr>
        <p:spPr>
          <a:xfrm>
            <a:off x="7167600" y="16160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線コネクタ 69"/>
          <p:cNvSpPr/>
          <p:nvPr/>
        </p:nvSpPr>
        <p:spPr>
          <a:xfrm flipH="1">
            <a:off x="7620120" y="1998720"/>
            <a:ext cx="2880" cy="860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線コネクタ 49"/>
          <p:cNvSpPr/>
          <p:nvPr/>
        </p:nvSpPr>
        <p:spPr>
          <a:xfrm flipH="1">
            <a:off x="7921800" y="1979640"/>
            <a:ext cx="33120" cy="1238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角丸四角形 47"/>
          <p:cNvSpPr/>
          <p:nvPr/>
        </p:nvSpPr>
        <p:spPr>
          <a:xfrm>
            <a:off x="6840360" y="3224160"/>
            <a:ext cx="1793880" cy="60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残存病変に対して当院放射線科で治療を行う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角丸四角形 47"/>
          <p:cNvSpPr/>
          <p:nvPr/>
        </p:nvSpPr>
        <p:spPr>
          <a:xfrm>
            <a:off x="6821640" y="2244600"/>
            <a:ext cx="1793880" cy="82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PHAG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８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３に造影される腫瘤を確認し、同病変に対し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TAC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施行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線コネクタ 52"/>
          <p:cNvSpPr/>
          <p:nvPr/>
        </p:nvSpPr>
        <p:spPr>
          <a:xfrm flipH="1">
            <a:off x="5823000" y="1979640"/>
            <a:ext cx="17280" cy="1154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角丸四角形 47"/>
          <p:cNvSpPr/>
          <p:nvPr/>
        </p:nvSpPr>
        <p:spPr>
          <a:xfrm>
            <a:off x="4938840" y="2697120"/>
            <a:ext cx="1793880" cy="11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8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病変に対し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TAC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施行した。外側区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3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病変に対しては、カテーテルが先進せず処置を行わなかっ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線コネクタ 54"/>
          <p:cNvSpPr/>
          <p:nvPr/>
        </p:nvSpPr>
        <p:spPr>
          <a:xfrm flipH="1">
            <a:off x="3911760" y="1973160"/>
            <a:ext cx="17280" cy="1154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角丸四角形 47"/>
          <p:cNvSpPr/>
          <p:nvPr/>
        </p:nvSpPr>
        <p:spPr>
          <a:xfrm>
            <a:off x="3048120" y="2166840"/>
            <a:ext cx="1793880" cy="168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血液検査に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PIVKA-Ⅱ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43.2mAU/mL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、その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87.6AU/mL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と上昇傾向にあったた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ynamic C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撮影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8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ｃｍ、外側区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㎝の早期濃染を伴う腫瘤が指摘され、ＨＣＣが疑われ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線コネクタ 48"/>
          <p:cNvSpPr/>
          <p:nvPr/>
        </p:nvSpPr>
        <p:spPr>
          <a:xfrm>
            <a:off x="2021040" y="3143160"/>
            <a:ext cx="0" cy="346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角丸四角形 35"/>
          <p:cNvSpPr/>
          <p:nvPr/>
        </p:nvSpPr>
        <p:spPr>
          <a:xfrm>
            <a:off x="682560" y="5097600"/>
            <a:ext cx="1913040" cy="65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入院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身長：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49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㎝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、体重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05.9k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BMI: 47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角丸四角形 35"/>
          <p:cNvSpPr/>
          <p:nvPr/>
        </p:nvSpPr>
        <p:spPr>
          <a:xfrm>
            <a:off x="5280120" y="2170080"/>
            <a:ext cx="10792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当科入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グループ化 2"/>
          <p:cNvGrpSpPr/>
          <p:nvPr/>
        </p:nvGrpSpPr>
        <p:grpSpPr>
          <a:xfrm>
            <a:off x="3314880" y="3959280"/>
            <a:ext cx="2566800" cy="2279520"/>
            <a:chOff x="3314880" y="3959280"/>
            <a:chExt cx="2566800" cy="2279520"/>
          </a:xfrm>
        </p:grpSpPr>
        <p:pic>
          <p:nvPicPr>
            <p:cNvPr id="665" name="図 5" descr=""/>
            <p:cNvPicPr/>
            <p:nvPr/>
          </p:nvPicPr>
          <p:blipFill>
            <a:blip r:embed="rId1"/>
            <a:srcRect l="30" t="14111" r="-25" b="14640"/>
            <a:stretch/>
          </p:blipFill>
          <p:spPr>
            <a:xfrm>
              <a:off x="3314880" y="3959280"/>
              <a:ext cx="2566800" cy="2279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66" name="直線矢印コネクタ 37"/>
            <p:cNvCxnSpPr/>
            <p:nvPr/>
          </p:nvCxnSpPr>
          <p:spPr>
            <a:xfrm flipV="1">
              <a:off x="3911400" y="5385960"/>
              <a:ext cx="1080" cy="203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667" name="グループ化 5"/>
          <p:cNvGrpSpPr/>
          <p:nvPr/>
        </p:nvGrpSpPr>
        <p:grpSpPr>
          <a:xfrm>
            <a:off x="6084720" y="3959280"/>
            <a:ext cx="2519640" cy="2278080"/>
            <a:chOff x="6084720" y="3959280"/>
            <a:chExt cx="2519640" cy="2278080"/>
          </a:xfrm>
        </p:grpSpPr>
        <p:pic>
          <p:nvPicPr>
            <p:cNvPr id="668" name="図 8" descr="写真, 本, テーブル, 食品 が含まれている画像&#10;&#10;自動的に生成された説明"/>
            <p:cNvPicPr/>
            <p:nvPr/>
          </p:nvPicPr>
          <p:blipFill>
            <a:blip r:embed="rId2"/>
            <a:srcRect l="0" t="13369" r="0" b="14203"/>
            <a:stretch/>
          </p:blipFill>
          <p:spPr>
            <a:xfrm>
              <a:off x="6084720" y="3959280"/>
              <a:ext cx="2519640" cy="227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69" name="直線矢印コネクタ 41"/>
            <p:cNvCxnSpPr/>
            <p:nvPr/>
          </p:nvCxnSpPr>
          <p:spPr>
            <a:xfrm flipV="1">
              <a:off x="7524360" y="4828680"/>
              <a:ext cx="1080" cy="203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67000" y="858960"/>
            <a:ext cx="2412720" cy="53067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テキスト ボックス 4"/>
          <p:cNvSpPr/>
          <p:nvPr/>
        </p:nvSpPr>
        <p:spPr>
          <a:xfrm>
            <a:off x="5057640" y="635040"/>
            <a:ext cx="4032360" cy="432324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323240"/>
              <a:gd name="textAreaBottom" fmla="*/ 4126680 h 4323240"/>
            </a:gdLst>
            <a:ahLst/>
            <a:rect l="textAreaLeft" t="textAreaTop" r="textAreaRight" b="textAreaBottom"/>
            <a:pathLst>
              <a:path w="21600" h="23158">
                <a:moveTo>
                  <a:pt x="3600" y="0"/>
                </a:moveTo>
                <a:arcTo wR="3600" hR="3600" stAng="16200000" swAng="-5400000"/>
                <a:lnTo>
                  <a:pt x="0" y="19558"/>
                </a:lnTo>
                <a:arcTo wR="3600" hR="3600" stAng="10800000" swAng="-5400000"/>
                <a:lnTo>
                  <a:pt x="18000" y="23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T: 36.7℃, SpO2: 96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飲酒歴：なし、喫煙歴：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特記事項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強直性脊椎炎、肝硬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肝細胞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輸血歴：なし、刺青：なし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当科にて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施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アレルギー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造影剤アレルギー（詳細不明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内服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テノボビル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25)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１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分岐鎖アミノ酸製剤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4.15) 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防風通聖散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2.5)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３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アミノレバン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50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角丸四角形吹き出し 5"/>
          <p:cNvSpPr/>
          <p:nvPr/>
        </p:nvSpPr>
        <p:spPr>
          <a:xfrm>
            <a:off x="131760" y="896760"/>
            <a:ext cx="1727280" cy="935280"/>
          </a:xfrm>
          <a:prstGeom prst="wedgeRoundRectCallout">
            <a:avLst>
              <a:gd name="adj1" fmla="val 80078"/>
              <a:gd name="adj2" fmla="val -36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角丸四角形吹き出し 11"/>
          <p:cNvSpPr/>
          <p:nvPr/>
        </p:nvSpPr>
        <p:spPr>
          <a:xfrm>
            <a:off x="112680" y="1917720"/>
            <a:ext cx="2413080" cy="1224000"/>
          </a:xfrm>
          <a:prstGeom prst="wedgeRoundRectCallout">
            <a:avLst>
              <a:gd name="adj1" fmla="val 64898"/>
              <a:gd name="adj2" fmla="val -668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R: 86, BP: 100/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角丸四角形吹き出し 12"/>
          <p:cNvSpPr/>
          <p:nvPr/>
        </p:nvSpPr>
        <p:spPr>
          <a:xfrm>
            <a:off x="3259080" y="1982880"/>
            <a:ext cx="1656000" cy="1657080"/>
          </a:xfrm>
          <a:prstGeom prst="wedgeRoundRectCallout">
            <a:avLst>
              <a:gd name="adj1" fmla="val -72638"/>
              <a:gd name="adj2" fmla="val 17754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角丸四角形吹き出し 27"/>
          <p:cNvSpPr/>
          <p:nvPr/>
        </p:nvSpPr>
        <p:spPr>
          <a:xfrm>
            <a:off x="3330720" y="5086440"/>
            <a:ext cx="1152360" cy="431640"/>
          </a:xfrm>
          <a:prstGeom prst="wedgeRoundRectCallout">
            <a:avLst>
              <a:gd name="adj1" fmla="val -56680"/>
              <a:gd name="adj2" fmla="val 85592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角丸四角形吹き出し 16"/>
          <p:cNvSpPr/>
          <p:nvPr/>
        </p:nvSpPr>
        <p:spPr>
          <a:xfrm>
            <a:off x="112680" y="3303720"/>
            <a:ext cx="2087640" cy="1606320"/>
          </a:xfrm>
          <a:prstGeom prst="wedgeRoundRectCallout">
            <a:avLst>
              <a:gd name="adj1" fmla="val 68981"/>
              <a:gd name="adj2" fmla="val -63004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Child-Pugh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分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点）脳症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総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Bil 1.8m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lb 3.2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角丸四角形吹き出し 17"/>
          <p:cNvSpPr/>
          <p:nvPr/>
        </p:nvSpPr>
        <p:spPr>
          <a:xfrm>
            <a:off x="3583080" y="3997440"/>
            <a:ext cx="1152360" cy="43164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テキスト ボックス 18"/>
          <p:cNvSpPr/>
          <p:nvPr/>
        </p:nvSpPr>
        <p:spPr>
          <a:xfrm>
            <a:off x="112680" y="5072040"/>
            <a:ext cx="2376360" cy="12848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検査所見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PT% 74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％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, Alb 3.2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AST 55 U/L, ALT 47 U/L, LD 215 U/L, ALP 121 U/L, γ-GTP 23 U/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テキスト ボックス 19"/>
          <p:cNvSpPr/>
          <p:nvPr/>
        </p:nvSpPr>
        <p:spPr>
          <a:xfrm>
            <a:off x="5070600" y="5079960"/>
            <a:ext cx="4020840" cy="12848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腫瘍マーカ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0/11/26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0/12/21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1/2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(ng/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-L3%: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-L1%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 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IVKAⅡ: 56.1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3.3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1.1(mAU/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角丸四角形吹き出し 11"/>
          <p:cNvSpPr/>
          <p:nvPr/>
        </p:nvSpPr>
        <p:spPr>
          <a:xfrm>
            <a:off x="3479760" y="863640"/>
            <a:ext cx="1403280" cy="1058760"/>
          </a:xfrm>
          <a:prstGeom prst="wedgeRoundRectCallout">
            <a:avLst>
              <a:gd name="adj1" fmla="val 50217"/>
              <a:gd name="adj2" fmla="val -10268"/>
              <a:gd name="adj3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身長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149cm,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体重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05.9kg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ＭＳ Ｐゴシック"/>
              </a:rPr>
              <a:t>BMI: 47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図 3" descr="写真, 猫, 横たわる, 男 が含まれている画像&#10;&#10;自動的に生成された説明"/>
          <p:cNvPicPr/>
          <p:nvPr/>
        </p:nvPicPr>
        <p:blipFill>
          <a:blip r:embed="rId1"/>
          <a:srcRect l="0" t="4151" r="0" b="28394"/>
          <a:stretch/>
        </p:blipFill>
        <p:spPr>
          <a:xfrm>
            <a:off x="2786040" y="1069920"/>
            <a:ext cx="6040440" cy="3141720"/>
          </a:xfrm>
          <a:prstGeom prst="rect">
            <a:avLst/>
          </a:prstGeom>
          <a:ln w="0">
            <a:noFill/>
          </a:ln>
        </p:spPr>
      </p:pic>
      <p:grpSp>
        <p:nvGrpSpPr>
          <p:cNvPr id="683" name="グループ化 26"/>
          <p:cNvGrpSpPr/>
          <p:nvPr/>
        </p:nvGrpSpPr>
        <p:grpSpPr>
          <a:xfrm>
            <a:off x="368280" y="1028880"/>
            <a:ext cx="2001960" cy="3068280"/>
            <a:chOff x="368280" y="1028880"/>
            <a:chExt cx="2001960" cy="3068280"/>
          </a:xfrm>
        </p:grpSpPr>
        <p:sp>
          <p:nvSpPr>
            <p:cNvPr id="684" name="テキスト ボックス 17"/>
            <p:cNvSpPr/>
            <p:nvPr/>
          </p:nvSpPr>
          <p:spPr>
            <a:xfrm>
              <a:off x="371160" y="3284640"/>
              <a:ext cx="1984680" cy="812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病変に対し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CE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を施行した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テキスト ボックス 16"/>
            <p:cNvSpPr/>
            <p:nvPr/>
          </p:nvSpPr>
          <p:spPr>
            <a:xfrm>
              <a:off x="385560" y="2232000"/>
              <a:ext cx="1984680" cy="812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11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6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病変のみ当科に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CE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を施行した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テキスト ボックス 11"/>
            <p:cNvSpPr/>
            <p:nvPr/>
          </p:nvSpPr>
          <p:spPr>
            <a:xfrm>
              <a:off x="368280" y="1028880"/>
              <a:ext cx="1984680" cy="104868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021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年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H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2.5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外側区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(S3)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1.5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角丸四角形 27"/>
          <p:cNvSpPr/>
          <p:nvPr/>
        </p:nvSpPr>
        <p:spPr>
          <a:xfrm>
            <a:off x="108000" y="4387680"/>
            <a:ext cx="5467320" cy="18720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血管造影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AG(7.5/1.5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造影される腫瘤を認め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TA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,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早期濃染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sh out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れる所見を認め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HAG(5/1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濃染を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まで進め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3AG(2.8/0/7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pi 10mg+DC Beads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投与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8AG(4/1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濃染を確認した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より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造影を行い、終了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（臨床実習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I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　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5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年生のまと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角丸四角形 27"/>
          <p:cNvSpPr/>
          <p:nvPr/>
        </p:nvSpPr>
        <p:spPr>
          <a:xfrm>
            <a:off x="5796000" y="4675320"/>
            <a:ext cx="3125880" cy="129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今後の治療方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放射線科に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BRT 35Gy/5fr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どの通常よりも低めの線量にて治療を検討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直線矢印コネクタ 2"/>
          <p:cNvCxnSpPr/>
          <p:nvPr/>
        </p:nvCxnSpPr>
        <p:spPr>
          <a:xfrm flipV="1">
            <a:off x="4284360" y="1823400"/>
            <a:ext cx="1080" cy="261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1" name="直線矢印コネクタ 13"/>
          <p:cNvCxnSpPr/>
          <p:nvPr/>
        </p:nvCxnSpPr>
        <p:spPr>
          <a:xfrm flipV="1">
            <a:off x="6659280" y="2918880"/>
            <a:ext cx="1080" cy="261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692" name="グループ化 8"/>
          <p:cNvGrpSpPr/>
          <p:nvPr/>
        </p:nvGrpSpPr>
        <p:grpSpPr>
          <a:xfrm>
            <a:off x="2519280" y="979560"/>
            <a:ext cx="3737160" cy="3279600"/>
            <a:chOff x="2519280" y="979560"/>
            <a:chExt cx="3737160" cy="3279600"/>
          </a:xfrm>
        </p:grpSpPr>
        <p:pic>
          <p:nvPicPr>
            <p:cNvPr id="693" name="図 6" descr="写真, 座る, 古い, 立つ が含まれている画像&#10;&#10;自動的に生成された説明"/>
            <p:cNvPicPr/>
            <p:nvPr/>
          </p:nvPicPr>
          <p:blipFill>
            <a:blip r:embed="rId2"/>
            <a:srcRect l="3505" t="1703" r="26756" b="37477"/>
            <a:stretch/>
          </p:blipFill>
          <p:spPr>
            <a:xfrm>
              <a:off x="2519280" y="979560"/>
              <a:ext cx="3737160" cy="3279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4" name="直線矢印コネクタ 16"/>
            <p:cNvCxnSpPr/>
            <p:nvPr/>
          </p:nvCxnSpPr>
          <p:spPr>
            <a:xfrm flipV="1">
              <a:off x="3619080" y="2890440"/>
              <a:ext cx="1080" cy="365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695" name="グループ化 6"/>
          <p:cNvGrpSpPr/>
          <p:nvPr/>
        </p:nvGrpSpPr>
        <p:grpSpPr>
          <a:xfrm>
            <a:off x="5608800" y="979560"/>
            <a:ext cx="3290760" cy="3244680"/>
            <a:chOff x="5608800" y="979560"/>
            <a:chExt cx="3290760" cy="3244680"/>
          </a:xfrm>
        </p:grpSpPr>
        <p:pic>
          <p:nvPicPr>
            <p:cNvPr id="696" name="図 5" descr="古い が含まれている画像&#10;&#10;自動的に生成された説明"/>
            <p:cNvPicPr/>
            <p:nvPr/>
          </p:nvPicPr>
          <p:blipFill>
            <a:blip r:embed="rId3"/>
            <a:srcRect l="12404" t="2752" r="12404" b="22699"/>
            <a:stretch/>
          </p:blipFill>
          <p:spPr>
            <a:xfrm>
              <a:off x="5608800" y="979560"/>
              <a:ext cx="3290760" cy="3244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7" name="直線矢印コネクタ 22"/>
            <p:cNvCxnSpPr/>
            <p:nvPr/>
          </p:nvCxnSpPr>
          <p:spPr>
            <a:xfrm flipV="1">
              <a:off x="7596000" y="2893680"/>
              <a:ext cx="1080" cy="365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20:48Z</dcterms:modified>
  <cp:revision>121</cp:revision>
  <dc:subject/>
  <dc:title>肝胆膵病態学総論</dc:title>
</cp:coreProperties>
</file>