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1DC9-D6A5-46FA-8564-B5E8B04F3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4A90-F193-4846-8BB4-AF33B1A36D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FF08-587A-42F7-B304-0800FAA7F1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C7F3-E2E6-41AC-B656-3838363992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81478-7070-4329-B2BD-48D103AE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D277C-FAEE-4035-B118-DEFF2580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512FB-D3C7-4423-BD3B-A1A6A613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7CC28-422F-4C5D-9BEC-7CB568DA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CC4DE-7D19-4177-B7E6-84D90D97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AAC8E-BF32-47E2-9D70-D36F80B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AB18B-62CA-4E21-8C62-4D09BE10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D86E2-857E-4048-BE1A-CA3ECBEA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59E2B-9DC3-48B4-8539-E915A997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6929EC-EE1F-4CDC-8F74-1180177434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41EE74-ED19-4C1F-8C83-2FAE9A56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00609D-B46B-46FA-8015-64DBF518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1A3992-E88B-450B-BB09-C23B08A4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3A0CF8-585D-4BB1-B72B-EE54C06F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1EB0CE-95A8-42B0-9207-F0691A94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8358EA-95C1-4A00-A530-D3AF6537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82B99B-D2C7-4C0A-BAA4-3A550952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FF4200-DF19-41BB-8728-28320580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3063B9-3C62-48A5-9152-B3B9B4E3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6618F1-FAEA-43DD-B0EB-92F9A0B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CA0950-DD2C-41F8-B812-5BE4DBDF0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4F29C-1790-4E65-BF5D-3051B638F6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12B0-3301-45B9-8242-A1F0BC0F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47634-A5B3-4ADB-94DE-46F69686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873E7-EF9B-4438-A7EA-37147252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82234-96B8-4081-92D4-E74ADC7B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7DB7D-D95A-4492-ACF7-57F86485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00A64-C56B-433A-9292-3566BE9F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2E1B4-43C6-4E64-BB78-59923DF2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7B47E-E71C-4223-9D32-CB80171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7BBA5-FB11-4B69-8176-97F02A1D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FF0CD-3488-438E-B3F0-48FE7BAD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7BF30-758D-4A34-8892-1CDED1FD0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300D9-0C28-4FE9-9289-01D2837E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FA387-C460-4830-ABBB-63B6D3EF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185FB-6789-46DF-8F2C-E7DAB3CA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333D-96E3-4F24-BEE0-725A0D40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12336-D018-43F0-A7AA-B3F24CD5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97D7B-6209-4B6B-95D0-1A344226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CB2F7-CFF0-4429-8900-064BDA2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AE60-096E-498A-849B-A20A4A8B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1B501-0DFC-4535-B7BA-BEF7A058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41B6-15F3-4217-9556-78A1B772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399E2-F41F-4ED1-A90C-06BBE2FB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16DA5-E094-435F-85C3-659C6096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D93D-2288-417E-8802-9E4E6FFE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D9D90-849A-458E-A0D4-84074BF8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F9DCD-01B3-47ED-9535-43FCF4DD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AA8FB-9146-4892-978A-45897727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7700D-2F1B-4682-B22E-6752245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813E6-093B-4485-A206-6CEF878E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94C12-63F7-4114-A638-43C5657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9D4F1-9A7D-4702-AF0C-7C463C1A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1D0E7-3BC9-419C-B5D0-D30A8E7D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FE69C-57F9-4E42-AAC0-96753E7E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E577-CAC3-4BBE-B98D-53F0F5E3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87237-F201-48BD-84D5-BE786A14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20DE1-56D5-4CB5-81A8-966503D025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9E7BD7-5BD5-48EA-A88D-2D733CCC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7D0F1A-BFD1-4727-AAC5-67D13F4C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F634A2-10E0-4F79-941C-6D4C2D0A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1773FB-661F-4B8F-B8EF-97160426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4F7D90-2336-44A3-B792-E11F587A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B67EA-9039-4417-A5ED-E1F153C2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09DC8B-51A7-40A0-8267-E64B5868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17A81-F2FC-4C2B-B7B1-D7AEA6A0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3DF69A-45F2-4277-9CBF-EC941A56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137570-FCC7-4FB0-A0C7-4734D3D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FF6922-948B-487B-AB44-C19E19A315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2194-BA2B-4E03-A562-B1474FF29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170A-63B6-4043-86E0-E418F48A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E9D6-084D-4BAD-88C7-D013EB5E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D226-7F1F-44AD-B231-6DEF5876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1EA0-49C5-4BBD-9564-AA4FD77C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2799-3E4C-46FB-AF97-88A7ACE7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BABA-23F1-4C6E-A98D-02C428E5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8730-795E-431B-A452-140AA82F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63E1-A627-484F-9183-A0EB3EE6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EFCA-C421-4AE8-80DE-9FFD54AD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D913-0758-4F3F-B7CB-6E496008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DB3D-6F4E-49A5-92BB-9B185AC0D6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0542D-9FF0-4E17-BA9D-C18A1433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38DB0-4A2E-4BA7-8EC7-AC156D2B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12E2F-D75A-435D-A087-CB7F8E4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07B48-B656-4DEB-AF70-2C112FE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44889-D3B6-4F9C-8E32-350EFA1C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CFA2C-3E7F-4FE1-8F64-BE9795AC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5B384-FBAE-4960-A6BB-3C2477C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E0149-D6F8-46FA-B8B6-8FBE5EFA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C7470-E95B-428B-934C-DCA36F63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54EE4-3221-4DC0-BB61-26CBE9B9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B7B3F-6549-46CD-AC3F-3371411D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0A750-C3A0-47A6-901D-4A17D540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7E928-4D25-4D7C-9B76-D53C0444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7D251-ABDF-44BB-8CF7-E25483A9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9184E-6D73-4412-B0C8-2D8614A4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BF439-6C9E-4EA0-8549-868EBD89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07D7F-359B-459C-A09F-317A5018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A7610-D149-4DEC-A8D9-1012A59D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5E00A-F5EC-4E2B-816A-C0BB7778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87B59-37D7-42A6-8CC0-C256A37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B23E9-1EB9-46F1-B224-87135968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0F172-DAD0-4975-8AB5-C8A8E3A8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4B3D1-F913-45D4-A680-A64ADCEC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7D092-00DA-41F6-B4EB-527184D6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2A195-8E99-4777-96E3-02BB85E4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9AC28-F85C-4878-8B8E-4425911E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F81B3-639D-435B-8012-8495C26B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238A7-941A-43D1-9D05-BFB52C15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7E552-6A06-4D1F-AC97-15D916C9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CF3EC-1230-400E-8B4C-AA8CFD18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94DA2-DC30-4F44-A757-83CE3222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855F8-7351-43ED-9B05-6507A271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B2436-B7E9-4C3A-9E65-18DF0026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77FBC-17A1-4FE8-9DFE-A71E0FCB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2BCE0-A17B-4674-8912-F5B032FC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59C9F-93A6-4232-AEDA-5EA4D472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9533E-7932-45DA-8559-37F101AD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87E9F-F1C1-495A-87AD-07FC440F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A940D-5C18-44FB-AEEA-2F205D49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15D0-7579-4271-91F6-C7303E1DAE5A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DEAF-9D8D-4031-9E7C-47782B1FCCA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CA6D-258D-4FD6-95DF-5FB0E91A58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CE9A-5BA7-492D-83CF-71C2502CB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35D9-5762-477B-A1DC-73B493B0D14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3B82-A39F-402F-B461-944B6591F06B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D1E8-7D6F-4FC6-8673-03ACC90286C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FBF8-F64C-4209-BC51-D66480E1A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9380-DAF5-4E60-BDE5-95C32122B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2B20-59BF-46F6-8953-4A9AA99C90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915C-039E-4909-A1D7-1888C7D07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B251-2DD3-4977-A18B-645EE684622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2371680" y="907920"/>
            <a:ext cx="4473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再発食道癌に対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光線力学療法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PDT</a:t>
            </a: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）を行った一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直線コネクタ 83"/>
          <p:cNvSpPr/>
          <p:nvPr/>
        </p:nvSpPr>
        <p:spPr>
          <a:xfrm>
            <a:off x="7812000" y="1989000"/>
            <a:ext cx="0" cy="81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線コネクタ 51"/>
          <p:cNvSpPr/>
          <p:nvPr/>
        </p:nvSpPr>
        <p:spPr>
          <a:xfrm>
            <a:off x="3949560" y="1989000"/>
            <a:ext cx="0" cy="1349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線コネクタ 57"/>
          <p:cNvSpPr/>
          <p:nvPr/>
        </p:nvSpPr>
        <p:spPr>
          <a:xfrm>
            <a:off x="4572000" y="1989000"/>
            <a:ext cx="0" cy="2232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55"/>
          <p:cNvSpPr/>
          <p:nvPr/>
        </p:nvSpPr>
        <p:spPr>
          <a:xfrm>
            <a:off x="6227640" y="1989000"/>
            <a:ext cx="0" cy="225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線コネクタ 61"/>
          <p:cNvSpPr/>
          <p:nvPr/>
        </p:nvSpPr>
        <p:spPr>
          <a:xfrm flipH="1">
            <a:off x="8386920" y="1989000"/>
            <a:ext cx="1440" cy="26942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症例　</a:t>
            </a:r>
            <a:r>
              <a:rPr b="1" lang="en-US" sz="3200" spc="-1" strike="noStrike">
                <a:solidFill>
                  <a:srgbClr val="006600"/>
                </a:solidFill>
                <a:latin typeface="ＭＳ Ｐゴシック"/>
              </a:rPr>
              <a:t>80</a:t>
            </a: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代男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9" name="グループ化 37"/>
          <p:cNvGrpSpPr/>
          <p:nvPr/>
        </p:nvGrpSpPr>
        <p:grpSpPr>
          <a:xfrm>
            <a:off x="196920" y="960480"/>
            <a:ext cx="8623080" cy="4826160"/>
            <a:chOff x="196920" y="960480"/>
            <a:chExt cx="8623080" cy="4826160"/>
          </a:xfrm>
        </p:grpSpPr>
        <p:grpSp>
          <p:nvGrpSpPr>
            <p:cNvPr id="690" name="グループ化 29"/>
            <p:cNvGrpSpPr/>
            <p:nvPr/>
          </p:nvGrpSpPr>
          <p:grpSpPr>
            <a:xfrm>
              <a:off x="196920" y="960480"/>
              <a:ext cx="8623080" cy="4826160"/>
              <a:chOff x="196920" y="960480"/>
              <a:chExt cx="8623080" cy="4826160"/>
            </a:xfrm>
          </p:grpSpPr>
          <p:sp>
            <p:nvSpPr>
              <p:cNvPr id="691" name="角丸四角形 33"/>
              <p:cNvSpPr/>
              <p:nvPr/>
            </p:nvSpPr>
            <p:spPr>
              <a:xfrm>
                <a:off x="7954920" y="4653000"/>
                <a:ext cx="86508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PDT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施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角丸四角形 35"/>
              <p:cNvSpPr/>
              <p:nvPr/>
            </p:nvSpPr>
            <p:spPr>
              <a:xfrm>
                <a:off x="7020000" y="2636640"/>
                <a:ext cx="1325520" cy="1398600"/>
              </a:xfrm>
              <a:custGeom>
                <a:avLst/>
                <a:gdLst>
                  <a:gd name="textAreaLeft" fmla="*/ 64440 w 1325520"/>
                  <a:gd name="textAreaRight" fmla="*/ 1261080 w 1325520"/>
                  <a:gd name="textAreaTop" fmla="*/ 64440 h 1398600"/>
                  <a:gd name="textAreaBottom" fmla="*/ 1334160 h 1398600"/>
                </a:gdLst>
                <a:ahLst/>
                <a:rect l="textAreaLeft" t="textAreaTop" r="textAreaRight" b="textAreaBottom"/>
                <a:pathLst>
                  <a:path w="21600" h="22791">
                    <a:moveTo>
                      <a:pt x="3600" y="0"/>
                    </a:moveTo>
                    <a:arcTo wR="3600" hR="3600" stAng="16200000" swAng="-5400000"/>
                    <a:lnTo>
                      <a:pt x="0" y="19191"/>
                    </a:lnTo>
                    <a:arcTo wR="3600" hR="3600" stAng="10800000" swAng="-5400000"/>
                    <a:lnTo>
                      <a:pt x="18000" y="2279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手術、放射線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化学療法は困難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ancer board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PD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治療目的に当科入院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テキスト ボックス 39"/>
              <p:cNvSpPr/>
              <p:nvPr/>
            </p:nvSpPr>
            <p:spPr>
              <a:xfrm>
                <a:off x="5072040" y="1854000"/>
                <a:ext cx="1901520" cy="3017520"/>
              </a:xfrm>
              <a:custGeom>
                <a:avLst/>
                <a:gdLst>
                  <a:gd name="textAreaLeft" fmla="*/ 92520 w 1901520"/>
                  <a:gd name="textAreaRight" fmla="*/ 1809000 w 1901520"/>
                  <a:gd name="textAreaTop" fmla="*/ 92520 h 3017520"/>
                  <a:gd name="textAreaBottom" fmla="*/ 2925000 h 3017520"/>
                </a:gdLst>
                <a:ahLst/>
                <a:rect l="textAreaLeft" t="textAreaTop" r="textAreaRight" b="textAreaBottom"/>
                <a:pathLst>
                  <a:path w="21600" h="34275">
                    <a:moveTo>
                      <a:pt x="3600" y="0"/>
                    </a:moveTo>
                    <a:arcTo wR="3600" hR="3600" stAng="16200000" swAng="-5400000"/>
                    <a:lnTo>
                      <a:pt x="0" y="30675"/>
                    </a:lnTo>
                    <a:arcTo wR="3600" hR="3600" stAng="10800000" swAng="-5400000"/>
                    <a:lnTo>
                      <a:pt x="18000" y="3427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33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0-I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病変を認め、生検で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CC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と診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（深達度は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M massive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疑い）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テキスト ボックス 21"/>
              <p:cNvSpPr/>
              <p:nvPr/>
            </p:nvSpPr>
            <p:spPr>
              <a:xfrm>
                <a:off x="1490400" y="1854000"/>
                <a:ext cx="1928520" cy="3932640"/>
              </a:xfrm>
              <a:custGeom>
                <a:avLst/>
                <a:gdLst>
                  <a:gd name="textAreaLeft" fmla="*/ 93960 w 1928520"/>
                  <a:gd name="textAreaRight" fmla="*/ 1834560 w 1928520"/>
                  <a:gd name="textAreaTop" fmla="*/ 93960 h 3932640"/>
                  <a:gd name="textAreaBottom" fmla="*/ 3838680 h 3932640"/>
                </a:gdLst>
                <a:ahLst/>
                <a:rect l="textAreaLeft" t="textAreaTop" r="textAreaRight" b="textAreaBottom"/>
                <a:pathLst>
                  <a:path w="21600" h="44043">
                    <a:moveTo>
                      <a:pt x="3600" y="0"/>
                    </a:moveTo>
                    <a:arcTo wR="3600" hR="3600" stAng="16200000" swAng="-5400000"/>
                    <a:lnTo>
                      <a:pt x="0" y="40443"/>
                    </a:lnTo>
                    <a:arcTo wR="3600" hR="3600" stAng="10800000" swAng="-5400000"/>
                    <a:lnTo>
                      <a:pt x="18000" y="4404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30-32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M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浸潤が疑われ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食道癌を認めた。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(cT1bN0M0 stageⅠ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上記病変に対して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C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(Low-dose FP+RT66Gy)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施行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→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C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角丸四角形 28"/>
              <p:cNvSpPr/>
              <p:nvPr/>
            </p:nvSpPr>
            <p:spPr>
              <a:xfrm>
                <a:off x="3755880" y="4059360"/>
                <a:ext cx="1288800" cy="65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表在型食道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40cm 0-II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ES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テキスト ボックス 25"/>
              <p:cNvSpPr/>
              <p:nvPr/>
            </p:nvSpPr>
            <p:spPr>
              <a:xfrm>
                <a:off x="4315680" y="1484280"/>
                <a:ext cx="81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ＭＳ Ｐゴシック"/>
                  </a:rPr>
                  <a:t>2018</a:t>
                </a:r>
                <a:r>
                  <a:rPr b="0" lang="ja-JP" sz="1600" spc="-1" strike="noStrike">
                    <a:solidFill>
                      <a:srgbClr val="ff0000"/>
                    </a:solidFill>
                    <a:latin typeface="ＭＳ Ｐゴシック"/>
                  </a:rPr>
                  <a:t>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テキスト ボックス 30"/>
              <p:cNvSpPr/>
              <p:nvPr/>
            </p:nvSpPr>
            <p:spPr>
              <a:xfrm>
                <a:off x="5724360" y="170028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1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テキスト ボックス 32"/>
              <p:cNvSpPr/>
              <p:nvPr/>
            </p:nvSpPr>
            <p:spPr>
              <a:xfrm>
                <a:off x="8028000" y="170028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/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17"/>
              <p:cNvSpPr/>
              <p:nvPr/>
            </p:nvSpPr>
            <p:spPr>
              <a:xfrm>
                <a:off x="2787480" y="5158080"/>
                <a:ext cx="1657080" cy="5540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照射後甲状腺機能低下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テキスト ボックス 6"/>
              <p:cNvSpPr/>
              <p:nvPr/>
            </p:nvSpPr>
            <p:spPr>
              <a:xfrm>
                <a:off x="196920" y="960480"/>
                <a:ext cx="3074760" cy="307080"/>
              </a:xfrm>
              <a:prstGeom prst="rect">
                <a:avLst/>
              </a:prstGeom>
              <a:solidFill>
                <a:srgbClr val="fdeada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5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前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食道癌化学放射線療法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CR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角丸四角形 13"/>
              <p:cNvSpPr/>
              <p:nvPr/>
            </p:nvSpPr>
            <p:spPr>
              <a:xfrm>
                <a:off x="3492360" y="3284640"/>
                <a:ext cx="101124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胃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部分切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R-Y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再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テキスト ボックス 15"/>
              <p:cNvSpPr/>
              <p:nvPr/>
            </p:nvSpPr>
            <p:spPr>
              <a:xfrm>
                <a:off x="1979640" y="170028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3" name="直線矢印コネクタ 4"/>
              <p:cNvCxnSpPr/>
              <p:nvPr/>
            </p:nvCxnSpPr>
            <p:spPr>
              <a:xfrm>
                <a:off x="323280" y="1988640"/>
                <a:ext cx="849672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04" name="角丸四角形 9"/>
              <p:cNvSpPr/>
              <p:nvPr/>
            </p:nvSpPr>
            <p:spPr>
              <a:xfrm>
                <a:off x="1576440" y="2182680"/>
                <a:ext cx="1771560" cy="406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食道癌に対し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曲折矢印 41"/>
            <p:cNvSpPr/>
            <p:nvPr/>
          </p:nvSpPr>
          <p:spPr>
            <a:xfrm flipH="1" rot="10800000">
              <a:off x="2405160" y="4841640"/>
              <a:ext cx="358560" cy="647640"/>
            </a:xfrm>
            <a:custGeom>
              <a:avLst/>
              <a:gdLst/>
              <a:ahLst/>
              <a:rect l="l" t="t" r="r" b="b"/>
              <a:pathLst>
                <a:path w="358834" h="647765">
                  <a:moveTo>
                    <a:pt x="0" y="647765"/>
                  </a:moveTo>
                  <a:lnTo>
                    <a:pt x="0" y="201844"/>
                  </a:lnTo>
                  <a:cubicBezTo>
                    <a:pt x="0" y="115141"/>
                    <a:pt x="70287" y="44854"/>
                    <a:pt x="156990" y="44854"/>
                  </a:cubicBezTo>
                  <a:lnTo>
                    <a:pt x="269126" y="44854"/>
                  </a:lnTo>
                  <a:lnTo>
                    <a:pt x="269126" y="0"/>
                  </a:lnTo>
                  <a:lnTo>
                    <a:pt x="358834" y="89709"/>
                  </a:lnTo>
                  <a:lnTo>
                    <a:pt x="269126" y="179417"/>
                  </a:lnTo>
                  <a:lnTo>
                    <a:pt x="269126" y="134563"/>
                  </a:lnTo>
                  <a:lnTo>
                    <a:pt x="156990" y="134563"/>
                  </a:lnTo>
                  <a:cubicBezTo>
                    <a:pt x="119832" y="134563"/>
                    <a:pt x="89709" y="164686"/>
                    <a:pt x="89709" y="201844"/>
                  </a:cubicBezTo>
                  <a:lnTo>
                    <a:pt x="89709" y="647765"/>
                  </a:lnTo>
                  <a:lnTo>
                    <a:pt x="0" y="64776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曲折矢印 42"/>
            <p:cNvSpPr/>
            <p:nvPr/>
          </p:nvSpPr>
          <p:spPr>
            <a:xfrm flipH="1" rot="10800000">
              <a:off x="5723280" y="4005360"/>
              <a:ext cx="360360" cy="576000"/>
            </a:xfrm>
            <a:custGeom>
              <a:avLst/>
              <a:gdLst/>
              <a:ahLst/>
              <a:rect l="l" t="t" r="r" b="b"/>
              <a:pathLst>
                <a:path w="360422" h="576320">
                  <a:moveTo>
                    <a:pt x="0" y="576320"/>
                  </a:moveTo>
                  <a:lnTo>
                    <a:pt x="0" y="202737"/>
                  </a:lnTo>
                  <a:cubicBezTo>
                    <a:pt x="0" y="115650"/>
                    <a:pt x="70598" y="45052"/>
                    <a:pt x="157685" y="45052"/>
                  </a:cubicBezTo>
                  <a:lnTo>
                    <a:pt x="270317" y="45053"/>
                  </a:lnTo>
                  <a:lnTo>
                    <a:pt x="270317" y="0"/>
                  </a:lnTo>
                  <a:lnTo>
                    <a:pt x="360422" y="90106"/>
                  </a:lnTo>
                  <a:lnTo>
                    <a:pt x="270317" y="180211"/>
                  </a:lnTo>
                  <a:lnTo>
                    <a:pt x="270317" y="135158"/>
                  </a:lnTo>
                  <a:lnTo>
                    <a:pt x="157685" y="135158"/>
                  </a:lnTo>
                  <a:cubicBezTo>
                    <a:pt x="120362" y="135158"/>
                    <a:pt x="90106" y="165414"/>
                    <a:pt x="90106" y="202737"/>
                  </a:cubicBezTo>
                  <a:lnTo>
                    <a:pt x="90106" y="576320"/>
                  </a:lnTo>
                  <a:lnTo>
                    <a:pt x="0" y="576320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直線コネクタ 45"/>
          <p:cNvSpPr/>
          <p:nvPr/>
        </p:nvSpPr>
        <p:spPr>
          <a:xfrm>
            <a:off x="2411280" y="2008080"/>
            <a:ext cx="0" cy="1605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テキスト ボックス 3"/>
          <p:cNvSpPr/>
          <p:nvPr/>
        </p:nvSpPr>
        <p:spPr>
          <a:xfrm>
            <a:off x="4832640" y="941400"/>
            <a:ext cx="319824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再発食道癌に対する光線力学療法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(P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テキスト ボックス 56"/>
          <p:cNvSpPr/>
          <p:nvPr/>
        </p:nvSpPr>
        <p:spPr>
          <a:xfrm>
            <a:off x="2004120" y="1476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05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テキスト ボックス 56"/>
          <p:cNvSpPr/>
          <p:nvPr/>
        </p:nvSpPr>
        <p:spPr>
          <a:xfrm>
            <a:off x="108000" y="1482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1980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線コネクタ 54"/>
          <p:cNvSpPr/>
          <p:nvPr/>
        </p:nvSpPr>
        <p:spPr>
          <a:xfrm flipV="1">
            <a:off x="554040" y="200772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角丸四角形 58"/>
          <p:cNvSpPr/>
          <p:nvPr/>
        </p:nvSpPr>
        <p:spPr>
          <a:xfrm>
            <a:off x="34920" y="2800440"/>
            <a:ext cx="102384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胃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幽門側胃切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Billroth-II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テキスト ボックス 56"/>
          <p:cNvSpPr/>
          <p:nvPr/>
        </p:nvSpPr>
        <p:spPr>
          <a:xfrm>
            <a:off x="3547080" y="14828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14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テキスト ボックス 25"/>
          <p:cNvSpPr/>
          <p:nvPr/>
        </p:nvSpPr>
        <p:spPr>
          <a:xfrm>
            <a:off x="5607720" y="14810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角丸四角形 73"/>
          <p:cNvSpPr/>
          <p:nvPr/>
        </p:nvSpPr>
        <p:spPr>
          <a:xfrm>
            <a:off x="5364000" y="2171880"/>
            <a:ext cx="1463760" cy="38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後食道癌再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線コネクタ 74"/>
          <p:cNvSpPr/>
          <p:nvPr/>
        </p:nvSpPr>
        <p:spPr>
          <a:xfrm>
            <a:off x="6084720" y="1989000"/>
            <a:ext cx="0" cy="1605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角丸四角形 78"/>
          <p:cNvSpPr/>
          <p:nvPr/>
        </p:nvSpPr>
        <p:spPr>
          <a:xfrm>
            <a:off x="6105600" y="4260960"/>
            <a:ext cx="13255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全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て転移は指摘され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25"/>
          <p:cNvSpPr/>
          <p:nvPr/>
        </p:nvSpPr>
        <p:spPr>
          <a:xfrm>
            <a:off x="7295400" y="14810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テキスト ボックス 32"/>
          <p:cNvSpPr/>
          <p:nvPr/>
        </p:nvSpPr>
        <p:spPr>
          <a:xfrm>
            <a:off x="7526160" y="1700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曲折矢印 44"/>
          <p:cNvSpPr/>
          <p:nvPr/>
        </p:nvSpPr>
        <p:spPr>
          <a:xfrm flipH="1" rot="5400000">
            <a:off x="7343640" y="4107240"/>
            <a:ext cx="505080" cy="344520"/>
          </a:xfrm>
          <a:custGeom>
            <a:avLst/>
            <a:gdLst/>
            <a:ahLst/>
            <a:rect l="l" t="t" r="r" b="b"/>
            <a:pathLst>
              <a:path w="504825" h="344487">
                <a:moveTo>
                  <a:pt x="0" y="344487"/>
                </a:moveTo>
                <a:lnTo>
                  <a:pt x="0" y="193774"/>
                </a:lnTo>
                <a:cubicBezTo>
                  <a:pt x="0" y="110538"/>
                  <a:pt x="67477" y="43061"/>
                  <a:pt x="150713" y="43061"/>
                </a:cubicBezTo>
                <a:lnTo>
                  <a:pt x="418703" y="43061"/>
                </a:lnTo>
                <a:lnTo>
                  <a:pt x="418703" y="0"/>
                </a:lnTo>
                <a:lnTo>
                  <a:pt x="504825" y="86122"/>
                </a:lnTo>
                <a:lnTo>
                  <a:pt x="418703" y="172244"/>
                </a:lnTo>
                <a:lnTo>
                  <a:pt x="418703" y="129183"/>
                </a:lnTo>
                <a:lnTo>
                  <a:pt x="150713" y="129183"/>
                </a:lnTo>
                <a:cubicBezTo>
                  <a:pt x="115040" y="129183"/>
                  <a:pt x="86122" y="158101"/>
                  <a:pt x="86122" y="193774"/>
                </a:cubicBezTo>
                <a:lnTo>
                  <a:pt x="86122" y="344487"/>
                </a:lnTo>
                <a:lnTo>
                  <a:pt x="0" y="344487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03280" y="1125360"/>
            <a:ext cx="2664000" cy="567396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テキスト ボックス 4"/>
          <p:cNvSpPr/>
          <p:nvPr/>
        </p:nvSpPr>
        <p:spPr>
          <a:xfrm>
            <a:off x="4932360" y="804960"/>
            <a:ext cx="4116240" cy="5397480"/>
          </a:xfrm>
          <a:custGeom>
            <a:avLst/>
            <a:gdLst>
              <a:gd name="textAreaLeft" fmla="*/ 200880 w 4116240"/>
              <a:gd name="textAreaRight" fmla="*/ 3915360 w 4116240"/>
              <a:gd name="textAreaTop" fmla="*/ 200880 h 5397480"/>
              <a:gd name="textAreaBottom" fmla="*/ 5196600 h 5397480"/>
            </a:gdLst>
            <a:ahLst/>
            <a:rect l="textAreaLeft" t="textAreaTop" r="textAreaRight" b="textAreaBottom"/>
            <a:pathLst>
              <a:path w="21600" h="28323">
                <a:moveTo>
                  <a:pt x="3600" y="0"/>
                </a:moveTo>
                <a:arcTo wR="3600" hR="3600" stAng="16200000" swAng="-5400000"/>
                <a:lnTo>
                  <a:pt x="0" y="24723"/>
                </a:lnTo>
                <a:arcTo wR="3600" hR="3600" stAng="10800000" swAng="-5400000"/>
                <a:lnTo>
                  <a:pt x="18000" y="28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体温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36.4℃, SpO2: 98%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脈拍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79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min,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血圧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17/70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飲酒歴：ウイスキー水割り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杯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喫煙歴：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歳まで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特記事項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98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頃胃癌手術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Billroth-II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法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0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直腸癌手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食道癌（切歯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0-32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下行結腸癌手術、人工肛門造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胃癌手術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R-Y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法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8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食道癌（切歯列より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0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E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アレルギー】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レボチロキシ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甲状腺ホルモン製剤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ジスチグミ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末梢性コリンエステラーゼ阻害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ロスバスタチ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HMG-Co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還元酵素阻害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テプレノ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防御因子増強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シロドシ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α1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遮断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ラタノプロス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プロスタグランジ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F2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誘導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角丸四角形吹き出し 5"/>
          <p:cNvSpPr/>
          <p:nvPr/>
        </p:nvSpPr>
        <p:spPr>
          <a:xfrm>
            <a:off x="795240" y="900000"/>
            <a:ext cx="1727280" cy="935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瞼結膜：貧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球結膜：黄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角丸四角形吹き出し 11"/>
          <p:cNvSpPr/>
          <p:nvPr/>
        </p:nvSpPr>
        <p:spPr>
          <a:xfrm>
            <a:off x="108000" y="2112840"/>
            <a:ext cx="2413080" cy="79236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R: 77, BP: 154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角丸四角形吹き出し 27"/>
          <p:cNvSpPr/>
          <p:nvPr/>
        </p:nvSpPr>
        <p:spPr>
          <a:xfrm>
            <a:off x="1187280" y="5603760"/>
            <a:ext cx="115272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角丸四角形吹き出し 16"/>
          <p:cNvSpPr/>
          <p:nvPr/>
        </p:nvSpPr>
        <p:spPr>
          <a:xfrm>
            <a:off x="755640" y="3227400"/>
            <a:ext cx="1515960" cy="10335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手掌紅斑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線コネクタ 3"/>
          <p:cNvSpPr/>
          <p:nvPr/>
        </p:nvSpPr>
        <p:spPr>
          <a:xfrm>
            <a:off x="2987640" y="3413160"/>
            <a:ext cx="2160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線コネクタ 7"/>
          <p:cNvSpPr/>
          <p:nvPr/>
        </p:nvSpPr>
        <p:spPr>
          <a:xfrm flipH="1">
            <a:off x="2655360" y="3413160"/>
            <a:ext cx="71640" cy="5205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線コネクタ 9"/>
          <p:cNvSpPr/>
          <p:nvPr/>
        </p:nvSpPr>
        <p:spPr>
          <a:xfrm>
            <a:off x="2521080" y="3211560"/>
            <a:ext cx="17928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線コネクタ 18"/>
          <p:cNvSpPr/>
          <p:nvPr/>
        </p:nvSpPr>
        <p:spPr>
          <a:xfrm>
            <a:off x="2484360" y="3363840"/>
            <a:ext cx="1778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線コネクタ 19"/>
          <p:cNvSpPr/>
          <p:nvPr/>
        </p:nvSpPr>
        <p:spPr>
          <a:xfrm>
            <a:off x="2405160" y="3629160"/>
            <a:ext cx="222120" cy="158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テキスト ボックス 11"/>
          <p:cNvSpPr/>
          <p:nvPr/>
        </p:nvSpPr>
        <p:spPr>
          <a:xfrm>
            <a:off x="154080" y="2546280"/>
            <a:ext cx="857160" cy="5079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治療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入院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角丸四角形 27"/>
          <p:cNvSpPr/>
          <p:nvPr/>
        </p:nvSpPr>
        <p:spPr>
          <a:xfrm>
            <a:off x="154080" y="4221000"/>
            <a:ext cx="8810640" cy="19638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合併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出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穿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皮膚障害（レザフェリン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（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5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年生のまと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角丸四角形 7"/>
          <p:cNvSpPr/>
          <p:nvPr/>
        </p:nvSpPr>
        <p:spPr>
          <a:xfrm>
            <a:off x="108000" y="933480"/>
            <a:ext cx="4392720" cy="15588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ゴシック"/>
              </a:rPr>
              <a:t>適応、奏効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もしく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後の局所遺残再発食道癌（転移なし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T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以下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cm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以下、半周以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完全奏効率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ゴシック"/>
              </a:rPr>
              <a:t>禁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タラポルフィンナトリウム過敏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ポルフィリン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放射線治療前の原発巣の大動脈への直接浸潤ありの症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角丸四角形 12"/>
          <p:cNvSpPr/>
          <p:nvPr/>
        </p:nvSpPr>
        <p:spPr>
          <a:xfrm>
            <a:off x="4572000" y="933480"/>
            <a:ext cx="4471920" cy="15588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照射当日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(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当日朝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タラポルフィンナトリウム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0mg/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静脈内投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4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6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時間後（当日午後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レーザー照射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照射あたり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分間）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J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24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時間後（翌日朝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内視鏡観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必要に応じて追加照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2266920" y="4317840"/>
          <a:ext cx="6481800" cy="1775160"/>
        </p:xfrm>
        <a:graphic>
          <a:graphicData uri="http://schemas.openxmlformats.org/drawingml/2006/table">
            <a:tbl>
              <a:tblPr/>
              <a:tblGrid>
                <a:gridCol w="925560"/>
                <a:gridCol w="927000"/>
                <a:gridCol w="925560"/>
                <a:gridCol w="925560"/>
                <a:gridCol w="762120"/>
                <a:gridCol w="163440"/>
                <a:gridCol w="927000"/>
                <a:gridCol w="92556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施行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9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レーザー照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必要に応じて追加照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追加照射した場合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観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観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食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絶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絶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流動食から開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遮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0lux</a:t>
                      </a: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以下の遮光制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光線過敏試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解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741" name="図 8" descr=""/>
          <p:cNvPicPr/>
          <p:nvPr/>
        </p:nvPicPr>
        <p:blipFill>
          <a:blip r:embed="rId1"/>
          <a:srcRect l="11446" t="13594" r="8929" b="16812"/>
          <a:stretch/>
        </p:blipFill>
        <p:spPr>
          <a:xfrm>
            <a:off x="5191200" y="2576520"/>
            <a:ext cx="1806480" cy="1579680"/>
          </a:xfrm>
          <a:prstGeom prst="rect">
            <a:avLst/>
          </a:prstGeom>
          <a:ln w="0">
            <a:noFill/>
          </a:ln>
        </p:spPr>
      </p:pic>
      <p:pic>
        <p:nvPicPr>
          <p:cNvPr id="742" name="図 9" descr=""/>
          <p:cNvPicPr/>
          <p:nvPr/>
        </p:nvPicPr>
        <p:blipFill>
          <a:blip r:embed="rId2"/>
          <a:srcRect l="29653" t="24287" r="12092" b="24796"/>
          <a:stretch/>
        </p:blipFill>
        <p:spPr>
          <a:xfrm>
            <a:off x="1200240" y="2576520"/>
            <a:ext cx="1807920" cy="1581120"/>
          </a:xfrm>
          <a:prstGeom prst="rect">
            <a:avLst/>
          </a:prstGeom>
          <a:ln w="0">
            <a:noFill/>
          </a:ln>
        </p:spPr>
      </p:pic>
      <p:pic>
        <p:nvPicPr>
          <p:cNvPr id="743" name="図 10" descr=""/>
          <p:cNvPicPr/>
          <p:nvPr/>
        </p:nvPicPr>
        <p:blipFill>
          <a:blip r:embed="rId3"/>
          <a:srcRect l="12188" t="12907" r="7242" b="16669"/>
          <a:stretch/>
        </p:blipFill>
        <p:spPr>
          <a:xfrm>
            <a:off x="3197160" y="2576520"/>
            <a:ext cx="1808280" cy="1579680"/>
          </a:xfrm>
          <a:prstGeom prst="rect">
            <a:avLst/>
          </a:prstGeom>
          <a:ln w="0">
            <a:noFill/>
          </a:ln>
        </p:spPr>
      </p:pic>
      <p:pic>
        <p:nvPicPr>
          <p:cNvPr id="744" name="図 10" descr=""/>
          <p:cNvPicPr/>
          <p:nvPr/>
        </p:nvPicPr>
        <p:blipFill>
          <a:blip r:embed="rId4"/>
          <a:srcRect l="29653" t="24696" r="11933" b="24593"/>
          <a:stretch/>
        </p:blipFill>
        <p:spPr>
          <a:xfrm>
            <a:off x="7183440" y="2581200"/>
            <a:ext cx="1806480" cy="1568520"/>
          </a:xfrm>
          <a:prstGeom prst="rect">
            <a:avLst/>
          </a:prstGeom>
          <a:ln w="0">
            <a:noFill/>
          </a:ln>
        </p:spPr>
      </p:pic>
      <p:cxnSp>
        <p:nvCxnSpPr>
          <p:cNvPr id="745" name="直線矢印コネクタ 3"/>
          <p:cNvCxnSpPr/>
          <p:nvPr/>
        </p:nvCxnSpPr>
        <p:spPr>
          <a:xfrm flipV="1">
            <a:off x="3708000" y="4155480"/>
            <a:ext cx="72360" cy="16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6" name="直線矢印コネクタ 5"/>
          <p:cNvCxnSpPr/>
          <p:nvPr/>
        </p:nvCxnSpPr>
        <p:spPr>
          <a:xfrm flipV="1">
            <a:off x="4572000" y="4155480"/>
            <a:ext cx="619920" cy="16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7" name="直線矢印コネクタ 8"/>
          <p:cNvCxnSpPr/>
          <p:nvPr/>
        </p:nvCxnSpPr>
        <p:spPr>
          <a:xfrm flipV="1">
            <a:off x="6443280" y="4149000"/>
            <a:ext cx="740520" cy="16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8" name="直線矢印コネクタ 10"/>
          <p:cNvCxnSpPr/>
          <p:nvPr/>
        </p:nvCxnSpPr>
        <p:spPr>
          <a:xfrm>
            <a:off x="1010880" y="3068280"/>
            <a:ext cx="18972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12:52Z</dcterms:modified>
  <cp:revision>124</cp:revision>
  <dc:subject/>
  <dc:title>肝胆膵病態学総論</dc:title>
</cp:coreProperties>
</file>